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CD1-03DD-435D-98D5-DBCAFC58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690-09E5-4047-9CA8-E94C40B6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D9D-D7F6-461E-A13F-DD004555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C80-2E70-4405-89CD-4E6A4AED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B9C-59A0-406F-8A1F-C079CB19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ED3-6617-4409-81AD-19924D5E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351-B7AA-4EFE-9DFA-D3C0AF9B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5E6-D943-4172-A4D5-4D55F32F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AF2-17AD-45C9-AD35-DD524425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222-5EAE-40B8-90B2-074797C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F96-9140-461F-A1A9-691394CC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279-FA05-4B0B-880C-0899A430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E7BC-DBE2-4A15-A159-B9BD11767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ssing angle in each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590920"/>
            <a:ext cx="2514600" cy="1904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62320"/>
            <a:ext cx="3581280" cy="1447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41911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8195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4" idx="1"/>
            <a:endCxn id="44" idx="1"/>
          </p:cNvCxnSpPr>
          <p:nvPr/>
        </p:nvCxnSpPr>
        <p:spPr>
          <a:xfrm>
            <a:off x="4114800" y="3086280"/>
            <a:ext cx="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41148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3240" y="4670280"/>
            <a:ext cx="528840" cy="295560"/>
          </a:xfrm>
          <a:custGeom>
            <a:avLst/>
            <a:gdLst/>
            <a:ahLst/>
            <a:rect l="l" t="t" r="r" b="b"/>
            <a:pathLst>
              <a:path w="1465" h="819">
                <a:moveTo>
                  <a:pt x="2332" y="12973"/>
                </a:moveTo>
                <a:cubicBezTo>
                  <a:pt x="2399" y="13019"/>
                  <a:pt x="2172" y="13248"/>
                  <a:pt x="2133" y="13295"/>
                </a:cubicBezTo>
                <a:cubicBezTo>
                  <a:pt x="2041" y="13406"/>
                  <a:pt x="1882" y="13620"/>
                  <a:pt x="1761" y="13692"/>
                </a:cubicBezTo>
                <a:cubicBezTo>
                  <a:pt x="1936" y="13679"/>
                  <a:pt x="2105" y="13646"/>
                  <a:pt x="2282" y="13643"/>
                </a:cubicBezTo>
                <a:cubicBezTo>
                  <a:pt x="2389" y="13643"/>
                  <a:pt x="2414" y="13643"/>
                  <a:pt x="2480" y="13643"/>
                </a:cubicBezTo>
              </a:path>
              <a:path w="1465" h="819">
                <a:moveTo>
                  <a:pt x="3225" y="13419"/>
                </a:moveTo>
                <a:cubicBezTo>
                  <a:pt x="3210" y="13359"/>
                  <a:pt x="3178" y="13290"/>
                  <a:pt x="3125" y="13246"/>
                </a:cubicBezTo>
                <a:cubicBezTo>
                  <a:pt x="3081" y="13210"/>
                  <a:pt x="2958" y="13150"/>
                  <a:pt x="2902" y="13171"/>
                </a:cubicBezTo>
                <a:cubicBezTo>
                  <a:pt x="2743" y="13231"/>
                  <a:pt x="2633" y="13341"/>
                  <a:pt x="2629" y="13519"/>
                </a:cubicBezTo>
                <a:cubicBezTo>
                  <a:pt x="2625" y="13698"/>
                  <a:pt x="2815" y="13756"/>
                  <a:pt x="2952" y="13717"/>
                </a:cubicBezTo>
                <a:cubicBezTo>
                  <a:pt x="3055" y="13665"/>
                  <a:pt x="3091" y="13646"/>
                  <a:pt x="3150" y="13593"/>
                </a:cubicBezTo>
              </a:path>
              <a:path w="1465" h="819">
                <a:moveTo>
                  <a:pt x="3125" y="13221"/>
                </a:moveTo>
                <a:cubicBezTo>
                  <a:pt x="3125" y="13379"/>
                  <a:pt x="3141" y="13537"/>
                  <a:pt x="3175" y="13692"/>
                </a:cubicBezTo>
                <a:cubicBezTo>
                  <a:pt x="3181" y="13720"/>
                  <a:pt x="3200" y="13856"/>
                  <a:pt x="3200" y="137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47840" y="4643280"/>
            <a:ext cx="2563920" cy="304920"/>
          </a:xfrm>
          <a:custGeom>
            <a:avLst/>
            <a:gdLst/>
            <a:ahLst/>
            <a:rect l="l" t="t" r="r" b="b"/>
            <a:pathLst>
              <a:path w="7119" h="845">
                <a:moveTo>
                  <a:pt x="3919" y="13171"/>
                </a:moveTo>
                <a:cubicBezTo>
                  <a:pt x="3935" y="13269"/>
                  <a:pt x="3957" y="13369"/>
                  <a:pt x="3969" y="13469"/>
                </a:cubicBezTo>
                <a:cubicBezTo>
                  <a:pt x="3969" y="13510"/>
                  <a:pt x="3969" y="13518"/>
                  <a:pt x="3969" y="13543"/>
                </a:cubicBezTo>
              </a:path>
              <a:path w="7119" h="845">
                <a:moveTo>
                  <a:pt x="3746" y="13345"/>
                </a:moveTo>
                <a:cubicBezTo>
                  <a:pt x="3873" y="13326"/>
                  <a:pt x="3990" y="13320"/>
                  <a:pt x="4118" y="13320"/>
                </a:cubicBezTo>
                <a:cubicBezTo>
                  <a:pt x="4151" y="13320"/>
                  <a:pt x="4167" y="13320"/>
                  <a:pt x="4192" y="13320"/>
                </a:cubicBezTo>
              </a:path>
              <a:path w="7119" h="845">
                <a:moveTo>
                  <a:pt x="4887" y="13122"/>
                </a:moveTo>
                <a:cubicBezTo>
                  <a:pt x="4770" y="13270"/>
                  <a:pt x="4635" y="13420"/>
                  <a:pt x="4490" y="13543"/>
                </a:cubicBezTo>
                <a:cubicBezTo>
                  <a:pt x="4465" y="13560"/>
                  <a:pt x="4440" y="13576"/>
                  <a:pt x="4415" y="13593"/>
                </a:cubicBezTo>
                <a:cubicBezTo>
                  <a:pt x="4455" y="13653"/>
                  <a:pt x="4656" y="13610"/>
                  <a:pt x="4738" y="13618"/>
                </a:cubicBezTo>
                <a:cubicBezTo>
                  <a:pt x="4855" y="13629"/>
                  <a:pt x="4974" y="13646"/>
                  <a:pt x="5085" y="13667"/>
                </a:cubicBezTo>
              </a:path>
              <a:path w="7119" h="845">
                <a:moveTo>
                  <a:pt x="5259" y="12898"/>
                </a:moveTo>
                <a:cubicBezTo>
                  <a:pt x="5278" y="13036"/>
                  <a:pt x="5306" y="13166"/>
                  <a:pt x="5308" y="13320"/>
                </a:cubicBezTo>
                <a:cubicBezTo>
                  <a:pt x="5310" y="13436"/>
                  <a:pt x="5308" y="13551"/>
                  <a:pt x="5308" y="13667"/>
                </a:cubicBezTo>
                <a:cubicBezTo>
                  <a:pt x="5308" y="13516"/>
                  <a:pt x="5317" y="13424"/>
                  <a:pt x="5407" y="13295"/>
                </a:cubicBezTo>
                <a:cubicBezTo>
                  <a:pt x="5487" y="13180"/>
                  <a:pt x="5694" y="13171"/>
                  <a:pt x="5804" y="13246"/>
                </a:cubicBezTo>
                <a:cubicBezTo>
                  <a:pt x="5962" y="13354"/>
                  <a:pt x="5883" y="13586"/>
                  <a:pt x="5755" y="13667"/>
                </a:cubicBezTo>
                <a:cubicBezTo>
                  <a:pt x="5605" y="13762"/>
                  <a:pt x="5469" y="13754"/>
                  <a:pt x="5333" y="13667"/>
                </a:cubicBezTo>
              </a:path>
              <a:path w="7119" h="845">
                <a:moveTo>
                  <a:pt x="6077" y="13196"/>
                </a:moveTo>
                <a:cubicBezTo>
                  <a:pt x="6077" y="13334"/>
                  <a:pt x="6121" y="13483"/>
                  <a:pt x="6102" y="13618"/>
                </a:cubicBezTo>
                <a:cubicBezTo>
                  <a:pt x="6094" y="13634"/>
                  <a:pt x="6085" y="13651"/>
                  <a:pt x="6077" y="13667"/>
                </a:cubicBezTo>
              </a:path>
              <a:path w="7119" h="845">
                <a:moveTo>
                  <a:pt x="5953" y="13419"/>
                </a:moveTo>
                <a:cubicBezTo>
                  <a:pt x="6065" y="13419"/>
                  <a:pt x="6194" y="13428"/>
                  <a:pt x="6300" y="13419"/>
                </a:cubicBezTo>
                <a:cubicBezTo>
                  <a:pt x="6382" y="13412"/>
                  <a:pt x="6430" y="13392"/>
                  <a:pt x="6499" y="13444"/>
                </a:cubicBezTo>
              </a:path>
              <a:path w="7119" h="845">
                <a:moveTo>
                  <a:pt x="7020" y="13221"/>
                </a:moveTo>
                <a:cubicBezTo>
                  <a:pt x="7012" y="13221"/>
                  <a:pt x="7003" y="13221"/>
                  <a:pt x="6995" y="13221"/>
                </a:cubicBezTo>
              </a:path>
              <a:path w="7119" h="845">
                <a:moveTo>
                  <a:pt x="7094" y="13022"/>
                </a:moveTo>
                <a:cubicBezTo>
                  <a:pt x="7018" y="13060"/>
                  <a:pt x="6931" y="13242"/>
                  <a:pt x="6871" y="13320"/>
                </a:cubicBezTo>
                <a:cubicBezTo>
                  <a:pt x="6793" y="13417"/>
                  <a:pt x="6776" y="13428"/>
                  <a:pt x="6747" y="13494"/>
                </a:cubicBezTo>
                <a:cubicBezTo>
                  <a:pt x="6873" y="13494"/>
                  <a:pt x="6995" y="13441"/>
                  <a:pt x="7119" y="13444"/>
                </a:cubicBezTo>
                <a:cubicBezTo>
                  <a:pt x="7176" y="13463"/>
                  <a:pt x="7183" y="13472"/>
                  <a:pt x="7218" y="13469"/>
                </a:cubicBezTo>
              </a:path>
              <a:path w="7119" h="845">
                <a:moveTo>
                  <a:pt x="7838" y="13146"/>
                </a:moveTo>
                <a:cubicBezTo>
                  <a:pt x="7838" y="13220"/>
                  <a:pt x="7838" y="13022"/>
                  <a:pt x="7838" y="13022"/>
                </a:cubicBezTo>
                <a:cubicBezTo>
                  <a:pt x="7739" y="13003"/>
                  <a:pt x="7685" y="12992"/>
                  <a:pt x="7615" y="13097"/>
                </a:cubicBezTo>
                <a:cubicBezTo>
                  <a:pt x="7550" y="13194"/>
                  <a:pt x="7379" y="13557"/>
                  <a:pt x="7590" y="13618"/>
                </a:cubicBezTo>
                <a:cubicBezTo>
                  <a:pt x="7730" y="13659"/>
                  <a:pt x="7977" y="13577"/>
                  <a:pt x="8037" y="13494"/>
                </a:cubicBezTo>
              </a:path>
              <a:path w="7119" h="845">
                <a:moveTo>
                  <a:pt x="8434" y="13271"/>
                </a:moveTo>
                <a:lnTo>
                  <a:pt x="8434" y="13271"/>
                </a:lnTo>
                <a:lnTo>
                  <a:pt x="8508" y="13295"/>
                </a:lnTo>
                <a:lnTo>
                  <a:pt x="8607" y="13295"/>
                </a:lnTo>
                <a:lnTo>
                  <a:pt x="8706" y="13320"/>
                </a:lnTo>
                <a:lnTo>
                  <a:pt x="8781" y="13320"/>
                </a:lnTo>
                <a:lnTo>
                  <a:pt x="8756" y="13320"/>
                </a:lnTo>
              </a:path>
              <a:path w="7119" h="845">
                <a:moveTo>
                  <a:pt x="8384" y="13543"/>
                </a:moveTo>
                <a:cubicBezTo>
                  <a:pt x="8473" y="13553"/>
                  <a:pt x="8564" y="13585"/>
                  <a:pt x="8657" y="13568"/>
                </a:cubicBezTo>
                <a:cubicBezTo>
                  <a:pt x="8682" y="13560"/>
                  <a:pt x="8706" y="13551"/>
                  <a:pt x="8731" y="13543"/>
                </a:cubicBezTo>
              </a:path>
              <a:path w="7119" h="845">
                <a:moveTo>
                  <a:pt x="9029" y="13022"/>
                </a:moveTo>
                <a:cubicBezTo>
                  <a:pt x="9029" y="13147"/>
                  <a:pt x="8969" y="13708"/>
                  <a:pt x="9079" y="13618"/>
                </a:cubicBezTo>
              </a:path>
              <a:path w="7119" h="845">
                <a:moveTo>
                  <a:pt x="9823" y="13022"/>
                </a:moveTo>
                <a:cubicBezTo>
                  <a:pt x="9686" y="13022"/>
                  <a:pt x="9526" y="13025"/>
                  <a:pt x="9451" y="13171"/>
                </a:cubicBezTo>
                <a:cubicBezTo>
                  <a:pt x="9375" y="13318"/>
                  <a:pt x="9704" y="13463"/>
                  <a:pt x="9773" y="13519"/>
                </a:cubicBezTo>
                <a:cubicBezTo>
                  <a:pt x="9840" y="13586"/>
                  <a:pt x="9864" y="13600"/>
                  <a:pt x="9847" y="13667"/>
                </a:cubicBezTo>
                <a:cubicBezTo>
                  <a:pt x="9712" y="13696"/>
                  <a:pt x="9475" y="13721"/>
                  <a:pt x="9575" y="13494"/>
                </a:cubicBezTo>
                <a:cubicBezTo>
                  <a:pt x="9645" y="13336"/>
                  <a:pt x="9919" y="13252"/>
                  <a:pt x="9872" y="13146"/>
                </a:cubicBezTo>
                <a:cubicBezTo>
                  <a:pt x="9844" y="13083"/>
                  <a:pt x="9795" y="13097"/>
                  <a:pt x="9872" y="13097"/>
                </a:cubicBezTo>
              </a:path>
              <a:path w="7119" h="845">
                <a:moveTo>
                  <a:pt x="10443" y="13047"/>
                </a:moveTo>
                <a:cubicBezTo>
                  <a:pt x="10342" y="13087"/>
                  <a:pt x="10233" y="13239"/>
                  <a:pt x="10195" y="13345"/>
                </a:cubicBezTo>
                <a:cubicBezTo>
                  <a:pt x="10125" y="13540"/>
                  <a:pt x="10221" y="13707"/>
                  <a:pt x="10443" y="13692"/>
                </a:cubicBezTo>
                <a:cubicBezTo>
                  <a:pt x="10676" y="13676"/>
                  <a:pt x="10912" y="13524"/>
                  <a:pt x="10840" y="13271"/>
                </a:cubicBezTo>
                <a:cubicBezTo>
                  <a:pt x="10792" y="13102"/>
                  <a:pt x="10657" y="13107"/>
                  <a:pt x="10517" y="130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3160" y="5126040"/>
            <a:ext cx="3938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2232" y="14337"/>
                </a:moveTo>
                <a:cubicBezTo>
                  <a:pt x="2329" y="14369"/>
                  <a:pt x="2450" y="14377"/>
                  <a:pt x="2555" y="14362"/>
                </a:cubicBezTo>
                <a:cubicBezTo>
                  <a:pt x="2637" y="14341"/>
                  <a:pt x="2653" y="14333"/>
                  <a:pt x="2704" y="14337"/>
                </a:cubicBezTo>
                <a:cubicBezTo>
                  <a:pt x="2732" y="14475"/>
                  <a:pt x="2653" y="14590"/>
                  <a:pt x="2629" y="14734"/>
                </a:cubicBezTo>
                <a:cubicBezTo>
                  <a:pt x="2629" y="14784"/>
                  <a:pt x="2629" y="14801"/>
                  <a:pt x="2679" y="14784"/>
                </a:cubicBezTo>
              </a:path>
              <a:path w="1093" h="621">
                <a:moveTo>
                  <a:pt x="3274" y="14238"/>
                </a:moveTo>
                <a:cubicBezTo>
                  <a:pt x="3186" y="14267"/>
                  <a:pt x="3089" y="14343"/>
                  <a:pt x="3051" y="14436"/>
                </a:cubicBezTo>
                <a:cubicBezTo>
                  <a:pt x="3021" y="14509"/>
                  <a:pt x="3270" y="14659"/>
                  <a:pt x="3324" y="14709"/>
                </a:cubicBezTo>
                <a:cubicBezTo>
                  <a:pt x="3242" y="14837"/>
                  <a:pt x="3179" y="14857"/>
                  <a:pt x="3026" y="14833"/>
                </a:cubicBezTo>
                <a:cubicBezTo>
                  <a:pt x="3094" y="14659"/>
                  <a:pt x="3215" y="14528"/>
                  <a:pt x="3299" y="14362"/>
                </a:cubicBezTo>
                <a:cubicBezTo>
                  <a:pt x="3320" y="14320"/>
                  <a:pt x="3204" y="14301"/>
                  <a:pt x="3175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3920" y="5143680"/>
            <a:ext cx="669960" cy="231480"/>
          </a:xfrm>
          <a:custGeom>
            <a:avLst/>
            <a:gdLst/>
            <a:ahLst/>
            <a:rect l="l" t="t" r="r" b="b"/>
            <a:pathLst>
              <a:path w="1861" h="645">
                <a:moveTo>
                  <a:pt x="3994" y="14387"/>
                </a:moveTo>
                <a:cubicBezTo>
                  <a:pt x="3994" y="14532"/>
                  <a:pt x="3994" y="14666"/>
                  <a:pt x="3969" y="14808"/>
                </a:cubicBezTo>
              </a:path>
              <a:path w="1861" h="645">
                <a:moveTo>
                  <a:pt x="3870" y="14585"/>
                </a:moveTo>
                <a:cubicBezTo>
                  <a:pt x="3989" y="14578"/>
                  <a:pt x="4100" y="14552"/>
                  <a:pt x="4217" y="14536"/>
                </a:cubicBezTo>
              </a:path>
              <a:path w="1861" h="645">
                <a:moveTo>
                  <a:pt x="4490" y="14288"/>
                </a:moveTo>
                <a:cubicBezTo>
                  <a:pt x="4664" y="14288"/>
                  <a:pt x="4837" y="14288"/>
                  <a:pt x="5011" y="14288"/>
                </a:cubicBezTo>
                <a:cubicBezTo>
                  <a:pt x="5063" y="14358"/>
                  <a:pt x="5026" y="14452"/>
                  <a:pt x="5011" y="14536"/>
                </a:cubicBezTo>
                <a:cubicBezTo>
                  <a:pt x="4989" y="14654"/>
                  <a:pt x="4961" y="14763"/>
                  <a:pt x="4961" y="14883"/>
                </a:cubicBezTo>
              </a:path>
              <a:path w="1861" h="645">
                <a:moveTo>
                  <a:pt x="5730" y="14312"/>
                </a:moveTo>
                <a:cubicBezTo>
                  <a:pt x="5598" y="14322"/>
                  <a:pt x="5519" y="14337"/>
                  <a:pt x="5432" y="14436"/>
                </a:cubicBezTo>
                <a:cubicBezTo>
                  <a:pt x="5496" y="14574"/>
                  <a:pt x="5634" y="14665"/>
                  <a:pt x="5680" y="14808"/>
                </a:cubicBezTo>
                <a:cubicBezTo>
                  <a:pt x="5712" y="14909"/>
                  <a:pt x="5623" y="14903"/>
                  <a:pt x="5556" y="14932"/>
                </a:cubicBezTo>
                <a:cubicBezTo>
                  <a:pt x="5512" y="14742"/>
                  <a:pt x="5587" y="14666"/>
                  <a:pt x="5680" y="14486"/>
                </a:cubicBezTo>
                <a:cubicBezTo>
                  <a:pt x="5700" y="14446"/>
                  <a:pt x="5709" y="14439"/>
                  <a:pt x="5705" y="144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30280" y="5153040"/>
            <a:ext cx="438480" cy="214200"/>
          </a:xfrm>
          <a:custGeom>
            <a:avLst/>
            <a:gdLst/>
            <a:ahLst/>
            <a:rect l="l" t="t" r="r" b="b"/>
            <a:pathLst>
              <a:path w="1216" h="597">
                <a:moveTo>
                  <a:pt x="6573" y="14412"/>
                </a:moveTo>
                <a:cubicBezTo>
                  <a:pt x="6573" y="14552"/>
                  <a:pt x="6593" y="14700"/>
                  <a:pt x="6548" y="14833"/>
                </a:cubicBezTo>
                <a:cubicBezTo>
                  <a:pt x="6548" y="14825"/>
                  <a:pt x="6548" y="14816"/>
                  <a:pt x="6548" y="14808"/>
                </a:cubicBezTo>
              </a:path>
              <a:path w="1216" h="597">
                <a:moveTo>
                  <a:pt x="6474" y="14610"/>
                </a:moveTo>
                <a:cubicBezTo>
                  <a:pt x="6584" y="14603"/>
                  <a:pt x="6685" y="14585"/>
                  <a:pt x="6796" y="14585"/>
                </a:cubicBezTo>
                <a:cubicBezTo>
                  <a:pt x="6821" y="14585"/>
                  <a:pt x="6829" y="14585"/>
                  <a:pt x="6846" y="14585"/>
                </a:cubicBezTo>
              </a:path>
              <a:path w="1216" h="597">
                <a:moveTo>
                  <a:pt x="7243" y="14337"/>
                </a:moveTo>
                <a:cubicBezTo>
                  <a:pt x="7278" y="14527"/>
                  <a:pt x="7383" y="14622"/>
                  <a:pt x="7516" y="14759"/>
                </a:cubicBezTo>
                <a:cubicBezTo>
                  <a:pt x="7574" y="14817"/>
                  <a:pt x="7582" y="14825"/>
                  <a:pt x="7615" y="14858"/>
                </a:cubicBezTo>
              </a:path>
              <a:path w="1216" h="597">
                <a:moveTo>
                  <a:pt x="7689" y="14312"/>
                </a:moveTo>
                <a:cubicBezTo>
                  <a:pt x="7539" y="14492"/>
                  <a:pt x="7395" y="14680"/>
                  <a:pt x="7243" y="14858"/>
                </a:cubicBezTo>
                <a:cubicBezTo>
                  <a:pt x="7226" y="14875"/>
                  <a:pt x="7210" y="14891"/>
                  <a:pt x="7193" y="149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63880" y="5214960"/>
            <a:ext cx="117360" cy="9828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8235" y="14486"/>
                </a:moveTo>
                <a:cubicBezTo>
                  <a:pt x="8345" y="14503"/>
                  <a:pt x="8451" y="14513"/>
                  <a:pt x="8558" y="14536"/>
                </a:cubicBezTo>
              </a:path>
              <a:path w="324" h="274">
                <a:moveTo>
                  <a:pt x="8260" y="14759"/>
                </a:moveTo>
                <a:cubicBezTo>
                  <a:pt x="8410" y="14759"/>
                  <a:pt x="8460" y="14759"/>
                  <a:pt x="8558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59080" y="5133960"/>
            <a:ext cx="696960" cy="241200"/>
          </a:xfrm>
          <a:custGeom>
            <a:avLst/>
            <a:gdLst/>
            <a:ahLst/>
            <a:rect l="l" t="t" r="r" b="b"/>
            <a:pathLst>
              <a:path w="1935" h="670">
                <a:moveTo>
                  <a:pt x="9054" y="14337"/>
                </a:moveTo>
                <a:cubicBezTo>
                  <a:pt x="9054" y="14420"/>
                  <a:pt x="9008" y="14824"/>
                  <a:pt x="9079" y="14883"/>
                </a:cubicBezTo>
                <a:cubicBezTo>
                  <a:pt x="9095" y="14875"/>
                  <a:pt x="9112" y="14866"/>
                  <a:pt x="9128" y="14858"/>
                </a:cubicBezTo>
              </a:path>
              <a:path w="1935" h="670">
                <a:moveTo>
                  <a:pt x="9773" y="14263"/>
                </a:moveTo>
                <a:cubicBezTo>
                  <a:pt x="9599" y="14283"/>
                  <a:pt x="9530" y="14302"/>
                  <a:pt x="9451" y="14461"/>
                </a:cubicBezTo>
                <a:cubicBezTo>
                  <a:pt x="9560" y="14532"/>
                  <a:pt x="9852" y="14641"/>
                  <a:pt x="9872" y="14784"/>
                </a:cubicBezTo>
                <a:cubicBezTo>
                  <a:pt x="9902" y="14994"/>
                  <a:pt x="9644" y="14902"/>
                  <a:pt x="9575" y="14858"/>
                </a:cubicBezTo>
                <a:cubicBezTo>
                  <a:pt x="9672" y="14699"/>
                  <a:pt x="9940" y="14560"/>
                  <a:pt x="9996" y="14412"/>
                </a:cubicBezTo>
                <a:cubicBezTo>
                  <a:pt x="10031" y="14319"/>
                  <a:pt x="9894" y="14298"/>
                  <a:pt x="9847" y="14288"/>
                </a:cubicBezTo>
              </a:path>
              <a:path w="1935" h="670">
                <a:moveTo>
                  <a:pt x="10616" y="14288"/>
                </a:moveTo>
                <a:cubicBezTo>
                  <a:pt x="10477" y="14357"/>
                  <a:pt x="10292" y="14500"/>
                  <a:pt x="10269" y="14684"/>
                </a:cubicBezTo>
                <a:cubicBezTo>
                  <a:pt x="10234" y="14965"/>
                  <a:pt x="10730" y="14860"/>
                  <a:pt x="10840" y="14808"/>
                </a:cubicBezTo>
                <a:cubicBezTo>
                  <a:pt x="11169" y="14652"/>
                  <a:pt x="10903" y="14493"/>
                  <a:pt x="10716" y="144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33640" y="5464080"/>
            <a:ext cx="2384280" cy="358920"/>
          </a:xfrm>
          <a:custGeom>
            <a:avLst/>
            <a:gdLst/>
            <a:ahLst/>
            <a:rect l="l" t="t" r="r" b="b"/>
            <a:pathLst>
              <a:path w="6624" h="994">
                <a:moveTo>
                  <a:pt x="3150" y="15205"/>
                </a:moveTo>
                <a:cubicBezTo>
                  <a:pt x="3241" y="15231"/>
                  <a:pt x="3211" y="15268"/>
                  <a:pt x="3249" y="15354"/>
                </a:cubicBezTo>
                <a:cubicBezTo>
                  <a:pt x="3276" y="15415"/>
                  <a:pt x="3291" y="15412"/>
                  <a:pt x="3373" y="15404"/>
                </a:cubicBezTo>
                <a:cubicBezTo>
                  <a:pt x="3723" y="15370"/>
                  <a:pt x="4062" y="15308"/>
                  <a:pt x="4415" y="15304"/>
                </a:cubicBezTo>
                <a:cubicBezTo>
                  <a:pt x="4569" y="15302"/>
                  <a:pt x="4758" y="15299"/>
                  <a:pt x="4911" y="15329"/>
                </a:cubicBezTo>
                <a:cubicBezTo>
                  <a:pt x="4970" y="15341"/>
                  <a:pt x="4946" y="15323"/>
                  <a:pt x="4986" y="15329"/>
                </a:cubicBezTo>
                <a:cubicBezTo>
                  <a:pt x="5049" y="15339"/>
                  <a:pt x="5055" y="15335"/>
                  <a:pt x="5110" y="15329"/>
                </a:cubicBezTo>
                <a:cubicBezTo>
                  <a:pt x="5135" y="15329"/>
                  <a:pt x="5143" y="15329"/>
                  <a:pt x="5159" y="15329"/>
                </a:cubicBezTo>
                <a:cubicBezTo>
                  <a:pt x="5152" y="15268"/>
                  <a:pt x="5142" y="15228"/>
                  <a:pt x="5110" y="15180"/>
                </a:cubicBezTo>
              </a:path>
              <a:path w="6624" h="994">
                <a:moveTo>
                  <a:pt x="3473" y="15801"/>
                </a:moveTo>
                <a:cubicBezTo>
                  <a:pt x="3473" y="15718"/>
                  <a:pt x="3481" y="15778"/>
                  <a:pt x="3473" y="15825"/>
                </a:cubicBezTo>
                <a:cubicBezTo>
                  <a:pt x="3454" y="15935"/>
                  <a:pt x="3433" y="16044"/>
                  <a:pt x="3398" y="16148"/>
                </a:cubicBezTo>
                <a:cubicBezTo>
                  <a:pt x="3412" y="16091"/>
                  <a:pt x="3446" y="16075"/>
                  <a:pt x="3497" y="16024"/>
                </a:cubicBezTo>
              </a:path>
              <a:path w="6624" h="994">
                <a:moveTo>
                  <a:pt x="4316" y="15627"/>
                </a:moveTo>
                <a:cubicBezTo>
                  <a:pt x="4238" y="15662"/>
                  <a:pt x="4141" y="15670"/>
                  <a:pt x="4068" y="15701"/>
                </a:cubicBezTo>
                <a:cubicBezTo>
                  <a:pt x="4009" y="15726"/>
                  <a:pt x="3986" y="15848"/>
                  <a:pt x="3944" y="15900"/>
                </a:cubicBezTo>
                <a:cubicBezTo>
                  <a:pt x="3989" y="15922"/>
                  <a:pt x="4091" y="15877"/>
                  <a:pt x="4167" y="15875"/>
                </a:cubicBezTo>
                <a:cubicBezTo>
                  <a:pt x="4298" y="15871"/>
                  <a:pt x="4421" y="15917"/>
                  <a:pt x="4415" y="16073"/>
                </a:cubicBezTo>
                <a:cubicBezTo>
                  <a:pt x="4409" y="16227"/>
                  <a:pt x="4262" y="16166"/>
                  <a:pt x="4167" y="16148"/>
                </a:cubicBezTo>
                <a:cubicBezTo>
                  <a:pt x="4060" y="16126"/>
                  <a:pt x="4036" y="16118"/>
                  <a:pt x="3969" y="16123"/>
                </a:cubicBezTo>
              </a:path>
              <a:path w="6624" h="994">
                <a:moveTo>
                  <a:pt x="4713" y="15701"/>
                </a:moveTo>
                <a:cubicBezTo>
                  <a:pt x="4767" y="15742"/>
                  <a:pt x="4762" y="15799"/>
                  <a:pt x="4762" y="15875"/>
                </a:cubicBezTo>
                <a:cubicBezTo>
                  <a:pt x="4762" y="15945"/>
                  <a:pt x="4743" y="16038"/>
                  <a:pt x="4787" y="16098"/>
                </a:cubicBezTo>
                <a:cubicBezTo>
                  <a:pt x="4848" y="16182"/>
                  <a:pt x="4889" y="16173"/>
                  <a:pt x="4986" y="16173"/>
                </a:cubicBezTo>
                <a:cubicBezTo>
                  <a:pt x="5067" y="16173"/>
                  <a:pt x="5141" y="16145"/>
                  <a:pt x="5209" y="16098"/>
                </a:cubicBezTo>
                <a:cubicBezTo>
                  <a:pt x="5253" y="16067"/>
                  <a:pt x="5273" y="16028"/>
                  <a:pt x="5283" y="15999"/>
                </a:cubicBezTo>
                <a:cubicBezTo>
                  <a:pt x="5283" y="15991"/>
                  <a:pt x="5283" y="15982"/>
                  <a:pt x="5283" y="15974"/>
                </a:cubicBezTo>
                <a:cubicBezTo>
                  <a:pt x="5216" y="15966"/>
                  <a:pt x="5129" y="15924"/>
                  <a:pt x="5060" y="15949"/>
                </a:cubicBezTo>
                <a:cubicBezTo>
                  <a:pt x="5019" y="15964"/>
                  <a:pt x="5022" y="16071"/>
                  <a:pt x="5035" y="16098"/>
                </a:cubicBezTo>
                <a:cubicBezTo>
                  <a:pt x="5043" y="16106"/>
                  <a:pt x="5052" y="16115"/>
                  <a:pt x="5060" y="16123"/>
                </a:cubicBezTo>
              </a:path>
              <a:path w="6624" h="994">
                <a:moveTo>
                  <a:pt x="6028" y="15652"/>
                </a:moveTo>
                <a:cubicBezTo>
                  <a:pt x="6028" y="15730"/>
                  <a:pt x="6045" y="15801"/>
                  <a:pt x="6052" y="15875"/>
                </a:cubicBezTo>
                <a:cubicBezTo>
                  <a:pt x="6052" y="15949"/>
                  <a:pt x="6052" y="15958"/>
                  <a:pt x="6052" y="15999"/>
                </a:cubicBezTo>
              </a:path>
              <a:path w="6624" h="994">
                <a:moveTo>
                  <a:pt x="5854" y="15850"/>
                </a:moveTo>
                <a:cubicBezTo>
                  <a:pt x="5974" y="15850"/>
                  <a:pt x="6082" y="15845"/>
                  <a:pt x="6201" y="15825"/>
                </a:cubicBezTo>
                <a:cubicBezTo>
                  <a:pt x="6280" y="15812"/>
                  <a:pt x="6326" y="15801"/>
                  <a:pt x="6400" y="15801"/>
                </a:cubicBezTo>
              </a:path>
              <a:path w="6624" h="994">
                <a:moveTo>
                  <a:pt x="6722" y="15577"/>
                </a:moveTo>
                <a:cubicBezTo>
                  <a:pt x="6740" y="15648"/>
                  <a:pt x="6825" y="15712"/>
                  <a:pt x="6871" y="15776"/>
                </a:cubicBezTo>
                <a:cubicBezTo>
                  <a:pt x="6917" y="15841"/>
                  <a:pt x="6949" y="15872"/>
                  <a:pt x="7020" y="15900"/>
                </a:cubicBezTo>
              </a:path>
              <a:path w="6624" h="994">
                <a:moveTo>
                  <a:pt x="7020" y="15528"/>
                </a:moveTo>
                <a:cubicBezTo>
                  <a:pt x="6932" y="15637"/>
                  <a:pt x="6875" y="15768"/>
                  <a:pt x="6821" y="15900"/>
                </a:cubicBezTo>
                <a:cubicBezTo>
                  <a:pt x="6802" y="15957"/>
                  <a:pt x="6793" y="15964"/>
                  <a:pt x="6796" y="15999"/>
                </a:cubicBezTo>
              </a:path>
              <a:path w="6624" h="994">
                <a:moveTo>
                  <a:pt x="7392" y="15701"/>
                </a:moveTo>
                <a:cubicBezTo>
                  <a:pt x="7476" y="15646"/>
                  <a:pt x="7549" y="15652"/>
                  <a:pt x="7640" y="15627"/>
                </a:cubicBezTo>
                <a:cubicBezTo>
                  <a:pt x="7713" y="15607"/>
                  <a:pt x="7697" y="15600"/>
                  <a:pt x="7665" y="15677"/>
                </a:cubicBezTo>
              </a:path>
              <a:path w="6624" h="994">
                <a:moveTo>
                  <a:pt x="7441" y="15825"/>
                </a:moveTo>
                <a:cubicBezTo>
                  <a:pt x="7530" y="15825"/>
                  <a:pt x="7603" y="15812"/>
                  <a:pt x="7689" y="15801"/>
                </a:cubicBezTo>
                <a:cubicBezTo>
                  <a:pt x="7706" y="15801"/>
                  <a:pt x="7722" y="15801"/>
                  <a:pt x="7739" y="15801"/>
                </a:cubicBezTo>
              </a:path>
              <a:path w="6624" h="994">
                <a:moveTo>
                  <a:pt x="8359" y="15453"/>
                </a:moveTo>
                <a:cubicBezTo>
                  <a:pt x="8378" y="15598"/>
                  <a:pt x="8365" y="15777"/>
                  <a:pt x="8334" y="15925"/>
                </a:cubicBezTo>
                <a:cubicBezTo>
                  <a:pt x="8326" y="15941"/>
                  <a:pt x="8318" y="15958"/>
                  <a:pt x="8310" y="15974"/>
                </a:cubicBezTo>
              </a:path>
              <a:path w="6624" h="994">
                <a:moveTo>
                  <a:pt x="9004" y="15354"/>
                </a:moveTo>
                <a:cubicBezTo>
                  <a:pt x="8879" y="15354"/>
                  <a:pt x="8715" y="15356"/>
                  <a:pt x="8607" y="15429"/>
                </a:cubicBezTo>
                <a:cubicBezTo>
                  <a:pt x="8599" y="15445"/>
                  <a:pt x="8590" y="15462"/>
                  <a:pt x="8582" y="15478"/>
                </a:cubicBezTo>
                <a:cubicBezTo>
                  <a:pt x="8687" y="15619"/>
                  <a:pt x="8907" y="15639"/>
                  <a:pt x="9004" y="15801"/>
                </a:cubicBezTo>
                <a:cubicBezTo>
                  <a:pt x="9119" y="15994"/>
                  <a:pt x="8692" y="15934"/>
                  <a:pt x="8632" y="15925"/>
                </a:cubicBezTo>
                <a:cubicBezTo>
                  <a:pt x="8693" y="15718"/>
                  <a:pt x="8829" y="15664"/>
                  <a:pt x="9004" y="15528"/>
                </a:cubicBezTo>
                <a:cubicBezTo>
                  <a:pt x="9090" y="15461"/>
                  <a:pt x="8882" y="15478"/>
                  <a:pt x="8880" y="15478"/>
                </a:cubicBezTo>
              </a:path>
              <a:path w="6624" h="994">
                <a:moveTo>
                  <a:pt x="9500" y="15478"/>
                </a:moveTo>
                <a:cubicBezTo>
                  <a:pt x="9371" y="15439"/>
                  <a:pt x="9365" y="15497"/>
                  <a:pt x="9277" y="15602"/>
                </a:cubicBezTo>
                <a:cubicBezTo>
                  <a:pt x="9170" y="15730"/>
                  <a:pt x="9147" y="15792"/>
                  <a:pt x="9128" y="15949"/>
                </a:cubicBezTo>
                <a:cubicBezTo>
                  <a:pt x="9322" y="16079"/>
                  <a:pt x="9519" y="16072"/>
                  <a:pt x="9699" y="15875"/>
                </a:cubicBezTo>
                <a:cubicBezTo>
                  <a:pt x="9763" y="15745"/>
                  <a:pt x="9793" y="15716"/>
                  <a:pt x="9748" y="15627"/>
                </a:cubicBezTo>
                <a:cubicBezTo>
                  <a:pt x="9628" y="15585"/>
                  <a:pt x="9570" y="15556"/>
                  <a:pt x="9451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82800" y="6037200"/>
            <a:ext cx="115920" cy="3492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2729" y="16867"/>
                </a:moveTo>
                <a:cubicBezTo>
                  <a:pt x="2833" y="16849"/>
                  <a:pt x="2922" y="16793"/>
                  <a:pt x="3026" y="16768"/>
                </a:cubicBezTo>
                <a:cubicBezTo>
                  <a:pt x="3051" y="16768"/>
                  <a:pt x="3059" y="16768"/>
                  <a:pt x="3051" y="167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31920" y="5983200"/>
            <a:ext cx="54000" cy="17784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3423" y="16619"/>
                </a:moveTo>
                <a:cubicBezTo>
                  <a:pt x="3446" y="16732"/>
                  <a:pt x="3495" y="16849"/>
                  <a:pt x="3522" y="16966"/>
                </a:cubicBezTo>
                <a:cubicBezTo>
                  <a:pt x="3543" y="17055"/>
                  <a:pt x="3525" y="17106"/>
                  <a:pt x="3572" y="170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28840" y="5902200"/>
            <a:ext cx="393480" cy="196920"/>
          </a:xfrm>
          <a:custGeom>
            <a:avLst/>
            <a:gdLst/>
            <a:ahLst/>
            <a:rect l="l" t="t" r="r" b="b"/>
            <a:pathLst>
              <a:path w="1092" h="547">
                <a:moveTo>
                  <a:pt x="4093" y="16396"/>
                </a:moveTo>
                <a:cubicBezTo>
                  <a:pt x="4048" y="16452"/>
                  <a:pt x="4007" y="16509"/>
                  <a:pt x="3969" y="16570"/>
                </a:cubicBezTo>
                <a:cubicBezTo>
                  <a:pt x="4074" y="16633"/>
                  <a:pt x="4179" y="16585"/>
                  <a:pt x="4291" y="16644"/>
                </a:cubicBezTo>
                <a:cubicBezTo>
                  <a:pt x="4363" y="16682"/>
                  <a:pt x="4368" y="16880"/>
                  <a:pt x="4291" y="16917"/>
                </a:cubicBezTo>
                <a:cubicBezTo>
                  <a:pt x="4212" y="16917"/>
                  <a:pt x="4182" y="16914"/>
                  <a:pt x="4142" y="16867"/>
                </a:cubicBezTo>
              </a:path>
              <a:path w="1092" h="547">
                <a:moveTo>
                  <a:pt x="4192" y="16470"/>
                </a:moveTo>
                <a:cubicBezTo>
                  <a:pt x="4289" y="16443"/>
                  <a:pt x="4308" y="16425"/>
                  <a:pt x="4390" y="16446"/>
                </a:cubicBezTo>
              </a:path>
              <a:path w="1092" h="547">
                <a:moveTo>
                  <a:pt x="4762" y="16446"/>
                </a:moveTo>
                <a:cubicBezTo>
                  <a:pt x="4729" y="16572"/>
                  <a:pt x="4705" y="16712"/>
                  <a:pt x="4738" y="16842"/>
                </a:cubicBezTo>
                <a:cubicBezTo>
                  <a:pt x="4770" y="16970"/>
                  <a:pt x="4921" y="16905"/>
                  <a:pt x="4986" y="16842"/>
                </a:cubicBezTo>
                <a:cubicBezTo>
                  <a:pt x="5043" y="16788"/>
                  <a:pt x="5092" y="16657"/>
                  <a:pt x="5035" y="16619"/>
                </a:cubicBezTo>
                <a:cubicBezTo>
                  <a:pt x="4922" y="16681"/>
                  <a:pt x="4857" y="16768"/>
                  <a:pt x="4887" y="16917"/>
                </a:cubicBezTo>
                <a:cubicBezTo>
                  <a:pt x="4895" y="16925"/>
                  <a:pt x="4903" y="16934"/>
                  <a:pt x="4911" y="169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97120" y="5965920"/>
            <a:ext cx="81000" cy="17280"/>
          </a:xfrm>
          <a:custGeom>
            <a:avLst/>
            <a:gdLst/>
            <a:ahLst/>
            <a:rect l="l" t="t" r="r" b="b"/>
            <a:pathLst>
              <a:path w="224" h="50">
                <a:moveTo>
                  <a:pt x="7491" y="16619"/>
                </a:moveTo>
                <a:cubicBezTo>
                  <a:pt x="7567" y="16606"/>
                  <a:pt x="7637" y="16578"/>
                  <a:pt x="7714" y="165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240" y="583092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8260" y="16197"/>
                </a:moveTo>
                <a:cubicBezTo>
                  <a:pt x="8274" y="16320"/>
                  <a:pt x="8301" y="16442"/>
                  <a:pt x="8285" y="16570"/>
                </a:cubicBezTo>
                <a:cubicBezTo>
                  <a:pt x="8264" y="16652"/>
                  <a:pt x="8256" y="16667"/>
                  <a:pt x="8260" y="167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3800" y="5823000"/>
            <a:ext cx="366480" cy="195120"/>
          </a:xfrm>
          <a:custGeom>
            <a:avLst/>
            <a:gdLst/>
            <a:ahLst/>
            <a:rect l="l" t="t" r="r" b="b"/>
            <a:pathLst>
              <a:path w="1018" h="546">
                <a:moveTo>
                  <a:pt x="8830" y="16173"/>
                </a:moveTo>
                <a:cubicBezTo>
                  <a:pt x="8641" y="16343"/>
                  <a:pt x="8783" y="16210"/>
                  <a:pt x="8781" y="16247"/>
                </a:cubicBezTo>
                <a:cubicBezTo>
                  <a:pt x="8775" y="16336"/>
                  <a:pt x="8706" y="16378"/>
                  <a:pt x="8706" y="16470"/>
                </a:cubicBezTo>
                <a:cubicBezTo>
                  <a:pt x="8818" y="16470"/>
                  <a:pt x="8874" y="16417"/>
                  <a:pt x="8979" y="16396"/>
                </a:cubicBezTo>
                <a:cubicBezTo>
                  <a:pt x="9131" y="16366"/>
                  <a:pt x="9216" y="16466"/>
                  <a:pt x="9128" y="16594"/>
                </a:cubicBezTo>
                <a:cubicBezTo>
                  <a:pt x="9024" y="16746"/>
                  <a:pt x="8897" y="16729"/>
                  <a:pt x="8756" y="16669"/>
                </a:cubicBezTo>
              </a:path>
              <a:path w="1018" h="546">
                <a:moveTo>
                  <a:pt x="9327" y="16197"/>
                </a:moveTo>
                <a:cubicBezTo>
                  <a:pt x="9327" y="16314"/>
                  <a:pt x="9289" y="16429"/>
                  <a:pt x="9302" y="16545"/>
                </a:cubicBezTo>
                <a:cubicBezTo>
                  <a:pt x="9322" y="16728"/>
                  <a:pt x="9472" y="16678"/>
                  <a:pt x="9599" y="16619"/>
                </a:cubicBezTo>
                <a:cubicBezTo>
                  <a:pt x="9684" y="16579"/>
                  <a:pt x="9709" y="16538"/>
                  <a:pt x="9699" y="16470"/>
                </a:cubicBezTo>
                <a:cubicBezTo>
                  <a:pt x="9577" y="16497"/>
                  <a:pt x="9547" y="16543"/>
                  <a:pt x="9500" y="16669"/>
                </a:cubicBezTo>
              </a:path>
              <a:path w="1018" h="546">
                <a:moveTo>
                  <a:pt x="8930" y="16321"/>
                </a:moveTo>
                <a:cubicBezTo>
                  <a:pt x="8929" y="16291"/>
                  <a:pt x="9067" y="16221"/>
                  <a:pt x="9153" y="16197"/>
                </a:cubicBezTo>
                <a:cubicBezTo>
                  <a:pt x="9178" y="16197"/>
                  <a:pt x="9186" y="16197"/>
                  <a:pt x="9178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82920" y="6330960"/>
            <a:ext cx="258840" cy="285840"/>
          </a:xfrm>
          <a:custGeom>
            <a:avLst/>
            <a:gdLst/>
            <a:ahLst/>
            <a:rect l="l" t="t" r="r" b="b"/>
            <a:pathLst>
              <a:path w="720" h="794">
                <a:moveTo>
                  <a:pt x="6896" y="17735"/>
                </a:moveTo>
                <a:cubicBezTo>
                  <a:pt x="6924" y="17709"/>
                  <a:pt x="7005" y="17954"/>
                  <a:pt x="7020" y="18008"/>
                </a:cubicBezTo>
                <a:cubicBezTo>
                  <a:pt x="7039" y="18075"/>
                  <a:pt x="7058" y="18161"/>
                  <a:pt x="7069" y="18231"/>
                </a:cubicBezTo>
              </a:path>
              <a:path w="720" h="794">
                <a:moveTo>
                  <a:pt x="7144" y="17587"/>
                </a:moveTo>
                <a:cubicBezTo>
                  <a:pt x="7091" y="17778"/>
                  <a:pt x="7037" y="17970"/>
                  <a:pt x="6970" y="18157"/>
                </a:cubicBezTo>
                <a:cubicBezTo>
                  <a:pt x="6962" y="18178"/>
                  <a:pt x="6921" y="18407"/>
                  <a:pt x="6921" y="18355"/>
                </a:cubicBezTo>
              </a:path>
              <a:path w="720" h="794">
                <a:moveTo>
                  <a:pt x="7293" y="17810"/>
                </a:moveTo>
                <a:cubicBezTo>
                  <a:pt x="7337" y="17790"/>
                  <a:pt x="7574" y="17662"/>
                  <a:pt x="7615" y="17686"/>
                </a:cubicBezTo>
                <a:cubicBezTo>
                  <a:pt x="7615" y="17702"/>
                  <a:pt x="7615" y="17719"/>
                  <a:pt x="7615" y="17735"/>
                </a:cubicBezTo>
              </a:path>
              <a:path w="720" h="794">
                <a:moveTo>
                  <a:pt x="7317" y="18058"/>
                </a:moveTo>
                <a:cubicBezTo>
                  <a:pt x="7419" y="18016"/>
                  <a:pt x="7523" y="17970"/>
                  <a:pt x="7615" y="179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4040" y="6303960"/>
            <a:ext cx="320760" cy="2602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8260" y="17636"/>
                </a:moveTo>
                <a:cubicBezTo>
                  <a:pt x="8247" y="17676"/>
                  <a:pt x="8248" y="17646"/>
                  <a:pt x="8235" y="17686"/>
                </a:cubicBezTo>
                <a:cubicBezTo>
                  <a:pt x="8200" y="17674"/>
                  <a:pt x="8166" y="17692"/>
                  <a:pt x="8186" y="17661"/>
                </a:cubicBezTo>
                <a:cubicBezTo>
                  <a:pt x="8208" y="17627"/>
                  <a:pt x="8219" y="17600"/>
                  <a:pt x="8260" y="17587"/>
                </a:cubicBezTo>
                <a:cubicBezTo>
                  <a:pt x="8291" y="17577"/>
                  <a:pt x="8326" y="17569"/>
                  <a:pt x="8359" y="17562"/>
                </a:cubicBezTo>
                <a:cubicBezTo>
                  <a:pt x="8359" y="17700"/>
                  <a:pt x="8326" y="17741"/>
                  <a:pt x="8260" y="17859"/>
                </a:cubicBezTo>
                <a:cubicBezTo>
                  <a:pt x="8197" y="17973"/>
                  <a:pt x="8135" y="18098"/>
                  <a:pt x="8062" y="18207"/>
                </a:cubicBezTo>
                <a:cubicBezTo>
                  <a:pt x="8054" y="18215"/>
                  <a:pt x="8045" y="18223"/>
                  <a:pt x="8037" y="18231"/>
                </a:cubicBezTo>
                <a:cubicBezTo>
                  <a:pt x="8114" y="18231"/>
                  <a:pt x="8104" y="18226"/>
                  <a:pt x="8186" y="18182"/>
                </a:cubicBezTo>
                <a:cubicBezTo>
                  <a:pt x="8253" y="18146"/>
                  <a:pt x="8353" y="18080"/>
                  <a:pt x="8409" y="18107"/>
                </a:cubicBezTo>
              </a:path>
              <a:path w="894" h="720">
                <a:moveTo>
                  <a:pt x="8706" y="17611"/>
                </a:moveTo>
                <a:cubicBezTo>
                  <a:pt x="8694" y="17672"/>
                  <a:pt x="8682" y="17719"/>
                  <a:pt x="8682" y="17785"/>
                </a:cubicBezTo>
                <a:cubicBezTo>
                  <a:pt x="8682" y="17802"/>
                  <a:pt x="8682" y="17818"/>
                  <a:pt x="8682" y="17835"/>
                </a:cubicBezTo>
                <a:cubicBezTo>
                  <a:pt x="8792" y="17835"/>
                  <a:pt x="8836" y="17815"/>
                  <a:pt x="8930" y="17760"/>
                </a:cubicBezTo>
              </a:path>
              <a:path w="894" h="720">
                <a:moveTo>
                  <a:pt x="8855" y="17512"/>
                </a:moveTo>
                <a:cubicBezTo>
                  <a:pt x="8855" y="17618"/>
                  <a:pt x="8826" y="17734"/>
                  <a:pt x="8830" y="17835"/>
                </a:cubicBezTo>
                <a:cubicBezTo>
                  <a:pt x="8834" y="17943"/>
                  <a:pt x="8855" y="18265"/>
                  <a:pt x="8855" y="18157"/>
                </a:cubicBezTo>
                <a:cubicBezTo>
                  <a:pt x="8855" y="18149"/>
                  <a:pt x="8855" y="18140"/>
                  <a:pt x="8855" y="181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6240" y="3170160"/>
            <a:ext cx="33984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5011" y="8880"/>
                </a:moveTo>
                <a:cubicBezTo>
                  <a:pt x="5111" y="8798"/>
                  <a:pt x="5205" y="8804"/>
                  <a:pt x="5283" y="8930"/>
                </a:cubicBezTo>
                <a:cubicBezTo>
                  <a:pt x="5383" y="9091"/>
                  <a:pt x="5349" y="9432"/>
                  <a:pt x="5135" y="9500"/>
                </a:cubicBezTo>
                <a:cubicBezTo>
                  <a:pt x="5023" y="9477"/>
                  <a:pt x="4992" y="9476"/>
                  <a:pt x="4936" y="9426"/>
                </a:cubicBezTo>
                <a:cubicBezTo>
                  <a:pt x="4954" y="9299"/>
                  <a:pt x="4978" y="9213"/>
                  <a:pt x="5135" y="9227"/>
                </a:cubicBezTo>
                <a:cubicBezTo>
                  <a:pt x="5234" y="9252"/>
                  <a:pt x="5267" y="9260"/>
                  <a:pt x="5333" y="9277"/>
                </a:cubicBezTo>
              </a:path>
              <a:path w="944" h="695">
                <a:moveTo>
                  <a:pt x="5432" y="8905"/>
                </a:moveTo>
                <a:cubicBezTo>
                  <a:pt x="5444" y="8986"/>
                  <a:pt x="5445" y="9103"/>
                  <a:pt x="5556" y="9103"/>
                </a:cubicBezTo>
                <a:cubicBezTo>
                  <a:pt x="5657" y="9103"/>
                  <a:pt x="5742" y="9019"/>
                  <a:pt x="5829" y="8979"/>
                </a:cubicBezTo>
              </a:path>
              <a:path w="944" h="695">
                <a:moveTo>
                  <a:pt x="5705" y="8806"/>
                </a:moveTo>
                <a:cubicBezTo>
                  <a:pt x="5745" y="8995"/>
                  <a:pt x="5835" y="9168"/>
                  <a:pt x="5879" y="9351"/>
                </a:cubicBezTo>
                <a:cubicBezTo>
                  <a:pt x="5879" y="9376"/>
                  <a:pt x="5879" y="9401"/>
                  <a:pt x="5879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3089160"/>
            <a:ext cx="71640" cy="460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6325" y="8582"/>
                </a:moveTo>
                <a:cubicBezTo>
                  <a:pt x="6318" y="8616"/>
                  <a:pt x="6307" y="8648"/>
                  <a:pt x="6300" y="8682"/>
                </a:cubicBezTo>
                <a:cubicBezTo>
                  <a:pt x="6357" y="8715"/>
                  <a:pt x="6449" y="8730"/>
                  <a:pt x="6499" y="8657"/>
                </a:cubicBezTo>
                <a:cubicBezTo>
                  <a:pt x="6499" y="8640"/>
                  <a:pt x="6499" y="8624"/>
                  <a:pt x="6499" y="8607"/>
                </a:cubicBezTo>
                <a:cubicBezTo>
                  <a:pt x="6438" y="8570"/>
                  <a:pt x="6418" y="8593"/>
                  <a:pt x="6350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5240" y="3456000"/>
            <a:ext cx="358920" cy="276120"/>
          </a:xfrm>
          <a:custGeom>
            <a:avLst/>
            <a:gdLst/>
            <a:ahLst/>
            <a:rect l="l" t="t" r="r" b="b"/>
            <a:pathLst>
              <a:path w="993" h="770">
                <a:moveTo>
                  <a:pt x="17859" y="9674"/>
                </a:moveTo>
                <a:cubicBezTo>
                  <a:pt x="17770" y="9801"/>
                  <a:pt x="17728" y="9941"/>
                  <a:pt x="17711" y="10096"/>
                </a:cubicBezTo>
                <a:cubicBezTo>
                  <a:pt x="17699" y="10205"/>
                  <a:pt x="17707" y="10238"/>
                  <a:pt x="17760" y="10319"/>
                </a:cubicBezTo>
                <a:cubicBezTo>
                  <a:pt x="17912" y="10292"/>
                  <a:pt x="18091" y="10239"/>
                  <a:pt x="18107" y="10046"/>
                </a:cubicBezTo>
                <a:cubicBezTo>
                  <a:pt x="18087" y="10005"/>
                  <a:pt x="18079" y="9999"/>
                  <a:pt x="18083" y="9971"/>
                </a:cubicBezTo>
                <a:cubicBezTo>
                  <a:pt x="17940" y="10019"/>
                  <a:pt x="17869" y="10121"/>
                  <a:pt x="17884" y="10294"/>
                </a:cubicBezTo>
                <a:cubicBezTo>
                  <a:pt x="17909" y="10367"/>
                  <a:pt x="17916" y="10391"/>
                  <a:pt x="17983" y="10368"/>
                </a:cubicBezTo>
              </a:path>
              <a:path w="993" h="770">
                <a:moveTo>
                  <a:pt x="18405" y="9599"/>
                </a:moveTo>
                <a:cubicBezTo>
                  <a:pt x="18431" y="9625"/>
                  <a:pt x="18373" y="9711"/>
                  <a:pt x="18430" y="9773"/>
                </a:cubicBezTo>
                <a:cubicBezTo>
                  <a:pt x="18510" y="9860"/>
                  <a:pt x="18652" y="9772"/>
                  <a:pt x="18703" y="9699"/>
                </a:cubicBezTo>
                <a:cubicBezTo>
                  <a:pt x="18744" y="9640"/>
                  <a:pt x="18522" y="9625"/>
                  <a:pt x="18504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75240" y="4259160"/>
            <a:ext cx="1001880" cy="982800"/>
          </a:xfrm>
          <a:custGeom>
            <a:avLst/>
            <a:gdLst/>
            <a:ahLst/>
            <a:rect l="l" t="t" r="r" b="b"/>
            <a:pathLst>
              <a:path w="2779" h="2729">
                <a:moveTo>
                  <a:pt x="17711" y="12378"/>
                </a:moveTo>
                <a:cubicBezTo>
                  <a:pt x="17786" y="12378"/>
                  <a:pt x="17862" y="12350"/>
                  <a:pt x="17934" y="12328"/>
                </a:cubicBezTo>
                <a:cubicBezTo>
                  <a:pt x="17959" y="12320"/>
                  <a:pt x="17983" y="12311"/>
                  <a:pt x="18008" y="12303"/>
                </a:cubicBezTo>
              </a:path>
              <a:path w="2779" h="2729">
                <a:moveTo>
                  <a:pt x="18405" y="12080"/>
                </a:moveTo>
                <a:cubicBezTo>
                  <a:pt x="18428" y="12204"/>
                  <a:pt x="18468" y="12389"/>
                  <a:pt x="18529" y="12502"/>
                </a:cubicBezTo>
                <a:cubicBezTo>
                  <a:pt x="18568" y="12540"/>
                  <a:pt x="18570" y="12557"/>
                  <a:pt x="18604" y="12551"/>
                </a:cubicBezTo>
              </a:path>
              <a:path w="2779" h="2729">
                <a:moveTo>
                  <a:pt x="18876" y="12030"/>
                </a:moveTo>
                <a:cubicBezTo>
                  <a:pt x="18954" y="12030"/>
                  <a:pt x="19024" y="12011"/>
                  <a:pt x="19100" y="12005"/>
                </a:cubicBezTo>
                <a:cubicBezTo>
                  <a:pt x="19273" y="11992"/>
                  <a:pt x="19318" y="11980"/>
                  <a:pt x="19323" y="12154"/>
                </a:cubicBezTo>
                <a:cubicBezTo>
                  <a:pt x="19326" y="12261"/>
                  <a:pt x="19323" y="12369"/>
                  <a:pt x="19323" y="12477"/>
                </a:cubicBezTo>
              </a:path>
              <a:path w="2779" h="2729">
                <a:moveTo>
                  <a:pt x="19546" y="11931"/>
                </a:moveTo>
                <a:cubicBezTo>
                  <a:pt x="19546" y="11983"/>
                  <a:pt x="19528" y="12065"/>
                  <a:pt x="19571" y="12080"/>
                </a:cubicBezTo>
                <a:cubicBezTo>
                  <a:pt x="19699" y="12123"/>
                  <a:pt x="19814" y="12104"/>
                  <a:pt x="19943" y="12080"/>
                </a:cubicBezTo>
              </a:path>
              <a:path w="2779" h="2729">
                <a:moveTo>
                  <a:pt x="19819" y="11832"/>
                </a:moveTo>
                <a:cubicBezTo>
                  <a:pt x="19780" y="11997"/>
                  <a:pt x="19794" y="12179"/>
                  <a:pt x="19794" y="12353"/>
                </a:cubicBezTo>
                <a:cubicBezTo>
                  <a:pt x="19794" y="12427"/>
                  <a:pt x="19794" y="12436"/>
                  <a:pt x="19794" y="12477"/>
                </a:cubicBezTo>
              </a:path>
              <a:path w="2779" h="2729">
                <a:moveTo>
                  <a:pt x="18058" y="13072"/>
                </a:moveTo>
                <a:cubicBezTo>
                  <a:pt x="18630" y="12976"/>
                  <a:pt x="19188" y="12913"/>
                  <a:pt x="19769" y="12898"/>
                </a:cubicBezTo>
                <a:cubicBezTo>
                  <a:pt x="20024" y="12891"/>
                  <a:pt x="20243" y="12903"/>
                  <a:pt x="20489" y="12948"/>
                </a:cubicBezTo>
              </a:path>
              <a:path w="2779" h="2729">
                <a:moveTo>
                  <a:pt x="19298" y="13419"/>
                </a:moveTo>
                <a:cubicBezTo>
                  <a:pt x="19333" y="13592"/>
                  <a:pt x="19281" y="13742"/>
                  <a:pt x="19298" y="13915"/>
                </a:cubicBezTo>
                <a:cubicBezTo>
                  <a:pt x="19317" y="14106"/>
                  <a:pt x="19505" y="14109"/>
                  <a:pt x="19645" y="14039"/>
                </a:cubicBezTo>
                <a:cubicBezTo>
                  <a:pt x="19771" y="13976"/>
                  <a:pt x="19766" y="13927"/>
                  <a:pt x="19745" y="13816"/>
                </a:cubicBezTo>
                <a:cubicBezTo>
                  <a:pt x="19543" y="13854"/>
                  <a:pt x="19513" y="13908"/>
                  <a:pt x="19496" y="14114"/>
                </a:cubicBezTo>
                <a:cubicBezTo>
                  <a:pt x="19496" y="14139"/>
                  <a:pt x="19496" y="14147"/>
                  <a:pt x="19496" y="14114"/>
                </a:cubicBezTo>
              </a:path>
              <a:path w="2779" h="2729">
                <a:moveTo>
                  <a:pt x="17859" y="13940"/>
                </a:moveTo>
                <a:cubicBezTo>
                  <a:pt x="17955" y="14055"/>
                  <a:pt x="18018" y="14178"/>
                  <a:pt x="18083" y="14312"/>
                </a:cubicBezTo>
                <a:cubicBezTo>
                  <a:pt x="18177" y="14506"/>
                  <a:pt x="18125" y="14366"/>
                  <a:pt x="18107" y="14288"/>
                </a:cubicBezTo>
              </a:path>
              <a:path w="2779" h="2729">
                <a:moveTo>
                  <a:pt x="18132" y="13866"/>
                </a:moveTo>
                <a:cubicBezTo>
                  <a:pt x="18078" y="14081"/>
                  <a:pt x="18035" y="14302"/>
                  <a:pt x="17959" y="14511"/>
                </a:cubicBezTo>
                <a:cubicBezTo>
                  <a:pt x="17939" y="14551"/>
                  <a:pt x="17920" y="14567"/>
                  <a:pt x="17959" y="14560"/>
                </a:cubicBezTo>
              </a:path>
              <a:path w="2779" h="2729">
                <a:moveTo>
                  <a:pt x="18504" y="13940"/>
                </a:moveTo>
                <a:cubicBezTo>
                  <a:pt x="18615" y="13895"/>
                  <a:pt x="18748" y="13808"/>
                  <a:pt x="18802" y="13915"/>
                </a:cubicBezTo>
              </a:path>
              <a:path w="2779" h="2729">
                <a:moveTo>
                  <a:pt x="18529" y="14213"/>
                </a:moveTo>
                <a:cubicBezTo>
                  <a:pt x="18668" y="14181"/>
                  <a:pt x="18733" y="14162"/>
                  <a:pt x="18852" y="140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10080" y="4017960"/>
            <a:ext cx="1106640" cy="322200"/>
          </a:xfrm>
          <a:custGeom>
            <a:avLst/>
            <a:gdLst/>
            <a:ahLst/>
            <a:rect l="l" t="t" r="r" b="b"/>
            <a:pathLst>
              <a:path w="3077" h="894">
                <a:moveTo>
                  <a:pt x="12898" y="11361"/>
                </a:moveTo>
                <a:cubicBezTo>
                  <a:pt x="12801" y="11417"/>
                  <a:pt x="12730" y="11454"/>
                  <a:pt x="12650" y="11534"/>
                </a:cubicBezTo>
                <a:cubicBezTo>
                  <a:pt x="12574" y="11610"/>
                  <a:pt x="12544" y="11652"/>
                  <a:pt x="12526" y="11757"/>
                </a:cubicBezTo>
                <a:cubicBezTo>
                  <a:pt x="12646" y="11826"/>
                  <a:pt x="12783" y="11865"/>
                  <a:pt x="12874" y="11956"/>
                </a:cubicBezTo>
                <a:cubicBezTo>
                  <a:pt x="12836" y="12009"/>
                  <a:pt x="12631" y="12145"/>
                  <a:pt x="12650" y="11956"/>
                </a:cubicBezTo>
                <a:cubicBezTo>
                  <a:pt x="12670" y="11759"/>
                  <a:pt x="12867" y="11604"/>
                  <a:pt x="12849" y="11410"/>
                </a:cubicBezTo>
                <a:cubicBezTo>
                  <a:pt x="12843" y="11347"/>
                  <a:pt x="12751" y="11377"/>
                  <a:pt x="12725" y="11385"/>
                </a:cubicBezTo>
              </a:path>
              <a:path w="3077" h="894">
                <a:moveTo>
                  <a:pt x="13072" y="11311"/>
                </a:moveTo>
                <a:cubicBezTo>
                  <a:pt x="13078" y="11393"/>
                  <a:pt x="13067" y="11596"/>
                  <a:pt x="13196" y="11609"/>
                </a:cubicBezTo>
                <a:cubicBezTo>
                  <a:pt x="13288" y="11618"/>
                  <a:pt x="13395" y="11549"/>
                  <a:pt x="13469" y="11509"/>
                </a:cubicBezTo>
              </a:path>
              <a:path w="3077" h="894">
                <a:moveTo>
                  <a:pt x="13370" y="11286"/>
                </a:moveTo>
                <a:cubicBezTo>
                  <a:pt x="13394" y="11490"/>
                  <a:pt x="13385" y="11704"/>
                  <a:pt x="13419" y="11906"/>
                </a:cubicBezTo>
                <a:cubicBezTo>
                  <a:pt x="13438" y="11964"/>
                  <a:pt x="13447" y="12007"/>
                  <a:pt x="13444" y="11956"/>
                </a:cubicBezTo>
              </a:path>
              <a:path w="3077" h="894">
                <a:moveTo>
                  <a:pt x="13915" y="11410"/>
                </a:moveTo>
                <a:cubicBezTo>
                  <a:pt x="13935" y="11577"/>
                  <a:pt x="13940" y="11737"/>
                  <a:pt x="13940" y="11906"/>
                </a:cubicBezTo>
                <a:cubicBezTo>
                  <a:pt x="13940" y="11890"/>
                  <a:pt x="13940" y="11873"/>
                  <a:pt x="13940" y="11857"/>
                </a:cubicBezTo>
              </a:path>
              <a:path w="3077" h="894">
                <a:moveTo>
                  <a:pt x="13717" y="11658"/>
                </a:moveTo>
                <a:cubicBezTo>
                  <a:pt x="13866" y="11611"/>
                  <a:pt x="14011" y="11569"/>
                  <a:pt x="14163" y="11534"/>
                </a:cubicBezTo>
              </a:path>
              <a:path w="3077" h="894">
                <a:moveTo>
                  <a:pt x="14684" y="11509"/>
                </a:moveTo>
                <a:cubicBezTo>
                  <a:pt x="14737" y="11492"/>
                  <a:pt x="14754" y="11341"/>
                  <a:pt x="14734" y="11286"/>
                </a:cubicBezTo>
                <a:cubicBezTo>
                  <a:pt x="14664" y="11192"/>
                  <a:pt x="14646" y="11161"/>
                  <a:pt x="14560" y="11162"/>
                </a:cubicBezTo>
                <a:cubicBezTo>
                  <a:pt x="14371" y="11305"/>
                  <a:pt x="14326" y="11398"/>
                  <a:pt x="14337" y="11633"/>
                </a:cubicBezTo>
                <a:cubicBezTo>
                  <a:pt x="14567" y="11685"/>
                  <a:pt x="14658" y="11612"/>
                  <a:pt x="14759" y="11385"/>
                </a:cubicBezTo>
                <a:cubicBezTo>
                  <a:pt x="14759" y="11377"/>
                  <a:pt x="14759" y="11369"/>
                  <a:pt x="14759" y="11361"/>
                </a:cubicBezTo>
                <a:cubicBezTo>
                  <a:pt x="14725" y="11528"/>
                  <a:pt x="14740" y="11695"/>
                  <a:pt x="14808" y="11857"/>
                </a:cubicBezTo>
                <a:cubicBezTo>
                  <a:pt x="14825" y="11882"/>
                  <a:pt x="14841" y="11906"/>
                  <a:pt x="14858" y="11931"/>
                </a:cubicBezTo>
              </a:path>
              <a:path w="3077" h="894">
                <a:moveTo>
                  <a:pt x="15230" y="11361"/>
                </a:moveTo>
                <a:cubicBezTo>
                  <a:pt x="15155" y="11493"/>
                  <a:pt x="14997" y="11710"/>
                  <a:pt x="15131" y="11857"/>
                </a:cubicBezTo>
                <a:cubicBezTo>
                  <a:pt x="15250" y="11987"/>
                  <a:pt x="15565" y="11918"/>
                  <a:pt x="15602" y="11733"/>
                </a:cubicBezTo>
                <a:cubicBezTo>
                  <a:pt x="15639" y="11545"/>
                  <a:pt x="15469" y="11475"/>
                  <a:pt x="15329" y="11460"/>
                </a:cubicBezTo>
                <a:cubicBezTo>
                  <a:pt x="15321" y="11460"/>
                  <a:pt x="15312" y="11460"/>
                  <a:pt x="15304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0" y="4044960"/>
            <a:ext cx="393840" cy="233280"/>
          </a:xfrm>
          <a:custGeom>
            <a:avLst/>
            <a:gdLst/>
            <a:ahLst/>
            <a:rect l="l" t="t" r="r" b="b"/>
            <a:pathLst>
              <a:path w="1093" h="645">
                <a:moveTo>
                  <a:pt x="16446" y="11460"/>
                </a:moveTo>
                <a:cubicBezTo>
                  <a:pt x="16446" y="11375"/>
                  <a:pt x="16478" y="11574"/>
                  <a:pt x="16495" y="11658"/>
                </a:cubicBezTo>
                <a:cubicBezTo>
                  <a:pt x="16515" y="11758"/>
                  <a:pt x="16536" y="11801"/>
                  <a:pt x="16495" y="11881"/>
                </a:cubicBezTo>
              </a:path>
              <a:path w="1093" h="645">
                <a:moveTo>
                  <a:pt x="16321" y="11609"/>
                </a:moveTo>
                <a:cubicBezTo>
                  <a:pt x="16531" y="11599"/>
                  <a:pt x="16715" y="11568"/>
                  <a:pt x="16917" y="11509"/>
                </a:cubicBezTo>
              </a:path>
              <a:path w="1093" h="645">
                <a:moveTo>
                  <a:pt x="17016" y="11361"/>
                </a:moveTo>
                <a:cubicBezTo>
                  <a:pt x="17143" y="11512"/>
                  <a:pt x="17231" y="11605"/>
                  <a:pt x="17413" y="11683"/>
                </a:cubicBezTo>
              </a:path>
              <a:path w="1093" h="645">
                <a:moveTo>
                  <a:pt x="17338" y="11237"/>
                </a:moveTo>
                <a:cubicBezTo>
                  <a:pt x="17282" y="11444"/>
                  <a:pt x="17207" y="11643"/>
                  <a:pt x="17190" y="118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2240" y="3983040"/>
            <a:ext cx="795600" cy="214200"/>
          </a:xfrm>
          <a:custGeom>
            <a:avLst/>
            <a:gdLst/>
            <a:ahLst/>
            <a:rect l="l" t="t" r="r" b="b"/>
            <a:pathLst>
              <a:path w="2209" h="596">
                <a:moveTo>
                  <a:pt x="17785" y="11311"/>
                </a:moveTo>
                <a:cubicBezTo>
                  <a:pt x="17894" y="11289"/>
                  <a:pt x="17997" y="11269"/>
                  <a:pt x="18107" y="11261"/>
                </a:cubicBezTo>
              </a:path>
              <a:path w="2209" h="596">
                <a:moveTo>
                  <a:pt x="17884" y="11534"/>
                </a:moveTo>
                <a:cubicBezTo>
                  <a:pt x="17934" y="11518"/>
                  <a:pt x="17983" y="11501"/>
                  <a:pt x="18033" y="11485"/>
                </a:cubicBezTo>
              </a:path>
              <a:path w="2209" h="596">
                <a:moveTo>
                  <a:pt x="18355" y="11063"/>
                </a:moveTo>
                <a:cubicBezTo>
                  <a:pt x="18393" y="11251"/>
                  <a:pt x="18444" y="11427"/>
                  <a:pt x="18504" y="11609"/>
                </a:cubicBezTo>
              </a:path>
              <a:path w="2209" h="596">
                <a:moveTo>
                  <a:pt x="19025" y="11088"/>
                </a:moveTo>
                <a:cubicBezTo>
                  <a:pt x="18892" y="11121"/>
                  <a:pt x="18857" y="11157"/>
                  <a:pt x="18752" y="11261"/>
                </a:cubicBezTo>
                <a:cubicBezTo>
                  <a:pt x="18843" y="11432"/>
                  <a:pt x="19013" y="11503"/>
                  <a:pt x="19174" y="11633"/>
                </a:cubicBezTo>
                <a:cubicBezTo>
                  <a:pt x="19235" y="11682"/>
                  <a:pt x="19130" y="11655"/>
                  <a:pt x="19100" y="11658"/>
                </a:cubicBezTo>
                <a:cubicBezTo>
                  <a:pt x="19026" y="11512"/>
                  <a:pt x="19050" y="11385"/>
                  <a:pt x="19149" y="11237"/>
                </a:cubicBezTo>
                <a:cubicBezTo>
                  <a:pt x="19220" y="11131"/>
                  <a:pt x="19313" y="11130"/>
                  <a:pt x="19422" y="11088"/>
                </a:cubicBezTo>
                <a:cubicBezTo>
                  <a:pt x="19439" y="11080"/>
                  <a:pt x="19455" y="11071"/>
                  <a:pt x="19472" y="11063"/>
                </a:cubicBezTo>
                <a:cubicBezTo>
                  <a:pt x="19408" y="11206"/>
                  <a:pt x="19325" y="11336"/>
                  <a:pt x="19397" y="11509"/>
                </a:cubicBezTo>
                <a:cubicBezTo>
                  <a:pt x="19494" y="11741"/>
                  <a:pt x="19862" y="11601"/>
                  <a:pt x="19968" y="11460"/>
                </a:cubicBezTo>
                <a:cubicBezTo>
                  <a:pt x="20129" y="11246"/>
                  <a:pt x="19700" y="11269"/>
                  <a:pt x="19645" y="112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48120" y="4411800"/>
            <a:ext cx="546120" cy="561960"/>
          </a:xfrm>
          <a:custGeom>
            <a:avLst/>
            <a:gdLst/>
            <a:ahLst/>
            <a:rect l="l" t="t" r="r" b="b"/>
            <a:pathLst>
              <a:path w="1514" h="1563">
                <a:moveTo>
                  <a:pt x="13469" y="12378"/>
                </a:moveTo>
                <a:cubicBezTo>
                  <a:pt x="13476" y="12455"/>
                  <a:pt x="13493" y="12501"/>
                  <a:pt x="13519" y="12576"/>
                </a:cubicBezTo>
                <a:cubicBezTo>
                  <a:pt x="13540" y="12637"/>
                  <a:pt x="13595" y="12767"/>
                  <a:pt x="13643" y="12799"/>
                </a:cubicBezTo>
                <a:cubicBezTo>
                  <a:pt x="13725" y="12854"/>
                  <a:pt x="13975" y="12652"/>
                  <a:pt x="14039" y="12626"/>
                </a:cubicBezTo>
                <a:cubicBezTo>
                  <a:pt x="14249" y="12542"/>
                  <a:pt x="14485" y="12484"/>
                  <a:pt x="14709" y="12452"/>
                </a:cubicBezTo>
                <a:cubicBezTo>
                  <a:pt x="14755" y="12445"/>
                  <a:pt x="14766" y="12460"/>
                  <a:pt x="14759" y="12402"/>
                </a:cubicBezTo>
                <a:cubicBezTo>
                  <a:pt x="14746" y="12294"/>
                  <a:pt x="14753" y="12277"/>
                  <a:pt x="14684" y="12254"/>
                </a:cubicBezTo>
              </a:path>
              <a:path w="1514" h="1563">
                <a:moveTo>
                  <a:pt x="13519" y="13221"/>
                </a:moveTo>
                <a:cubicBezTo>
                  <a:pt x="13519" y="13104"/>
                  <a:pt x="13542" y="13404"/>
                  <a:pt x="13568" y="13519"/>
                </a:cubicBezTo>
                <a:cubicBezTo>
                  <a:pt x="13574" y="13547"/>
                  <a:pt x="13628" y="13827"/>
                  <a:pt x="13643" y="13791"/>
                </a:cubicBezTo>
                <a:cubicBezTo>
                  <a:pt x="13651" y="13775"/>
                  <a:pt x="13659" y="13758"/>
                  <a:pt x="13667" y="13742"/>
                </a:cubicBezTo>
              </a:path>
              <a:path w="1514" h="1563">
                <a:moveTo>
                  <a:pt x="13940" y="13221"/>
                </a:moveTo>
                <a:cubicBezTo>
                  <a:pt x="14074" y="13221"/>
                  <a:pt x="14211" y="13225"/>
                  <a:pt x="14337" y="13171"/>
                </a:cubicBezTo>
                <a:cubicBezTo>
                  <a:pt x="14360" y="13148"/>
                  <a:pt x="14364" y="13140"/>
                  <a:pt x="14387" y="13146"/>
                </a:cubicBezTo>
                <a:cubicBezTo>
                  <a:pt x="14334" y="13316"/>
                  <a:pt x="14313" y="13511"/>
                  <a:pt x="14337" y="13692"/>
                </a:cubicBezTo>
                <a:cubicBezTo>
                  <a:pt x="14345" y="13717"/>
                  <a:pt x="14354" y="13742"/>
                  <a:pt x="14362" y="13767"/>
                </a:cubicBezTo>
              </a:path>
              <a:path w="1514" h="1563">
                <a:moveTo>
                  <a:pt x="14585" y="13196"/>
                </a:moveTo>
                <a:cubicBezTo>
                  <a:pt x="14626" y="13251"/>
                  <a:pt x="14609" y="13280"/>
                  <a:pt x="14585" y="13345"/>
                </a:cubicBezTo>
                <a:cubicBezTo>
                  <a:pt x="14692" y="13366"/>
                  <a:pt x="14770" y="13374"/>
                  <a:pt x="14883" y="13345"/>
                </a:cubicBezTo>
                <a:cubicBezTo>
                  <a:pt x="14940" y="13326"/>
                  <a:pt x="14947" y="13317"/>
                  <a:pt x="14982" y="13320"/>
                </a:cubicBezTo>
              </a:path>
              <a:path w="1514" h="1563">
                <a:moveTo>
                  <a:pt x="14883" y="12948"/>
                </a:moveTo>
                <a:cubicBezTo>
                  <a:pt x="14824" y="13066"/>
                  <a:pt x="14876" y="13213"/>
                  <a:pt x="14883" y="13345"/>
                </a:cubicBezTo>
                <a:cubicBezTo>
                  <a:pt x="14890" y="13477"/>
                  <a:pt x="14907" y="13644"/>
                  <a:pt x="14957" y="13767"/>
                </a:cubicBezTo>
                <a:cubicBezTo>
                  <a:pt x="14965" y="13775"/>
                  <a:pt x="14974" y="13783"/>
                  <a:pt x="14982" y="137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5160" y="340200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832" y="9773"/>
                </a:moveTo>
                <a:cubicBezTo>
                  <a:pt x="11873" y="9759"/>
                  <a:pt x="11872" y="9689"/>
                  <a:pt x="11832" y="9649"/>
                </a:cubicBezTo>
                <a:cubicBezTo>
                  <a:pt x="11797" y="9614"/>
                  <a:pt x="11751" y="9624"/>
                  <a:pt x="11708" y="9624"/>
                </a:cubicBezTo>
                <a:cubicBezTo>
                  <a:pt x="11696" y="9754"/>
                  <a:pt x="11655" y="9832"/>
                  <a:pt x="11733" y="9922"/>
                </a:cubicBezTo>
                <a:cubicBezTo>
                  <a:pt x="11839" y="9910"/>
                  <a:pt x="11863" y="9910"/>
                  <a:pt x="11881" y="9798"/>
                </a:cubicBezTo>
                <a:cubicBezTo>
                  <a:pt x="11881" y="9750"/>
                  <a:pt x="11905" y="10011"/>
                  <a:pt x="11906" y="10046"/>
                </a:cubicBezTo>
                <a:cubicBezTo>
                  <a:pt x="11907" y="10104"/>
                  <a:pt x="11906" y="10228"/>
                  <a:pt x="11906" y="10170"/>
                </a:cubicBezTo>
              </a:path>
              <a:path w="919" h="745">
                <a:moveTo>
                  <a:pt x="12154" y="9748"/>
                </a:moveTo>
                <a:cubicBezTo>
                  <a:pt x="12134" y="9829"/>
                  <a:pt x="12095" y="9898"/>
                  <a:pt x="12105" y="9996"/>
                </a:cubicBezTo>
                <a:cubicBezTo>
                  <a:pt x="12116" y="10101"/>
                  <a:pt x="12150" y="10205"/>
                  <a:pt x="12278" y="10170"/>
                </a:cubicBezTo>
                <a:cubicBezTo>
                  <a:pt x="12409" y="10134"/>
                  <a:pt x="12505" y="10016"/>
                  <a:pt x="12402" y="9897"/>
                </a:cubicBezTo>
                <a:cubicBezTo>
                  <a:pt x="12380" y="9872"/>
                  <a:pt x="12275" y="9774"/>
                  <a:pt x="12229" y="9798"/>
                </a:cubicBezTo>
                <a:cubicBezTo>
                  <a:pt x="12204" y="9814"/>
                  <a:pt x="12179" y="9831"/>
                  <a:pt x="12154" y="9847"/>
                </a:cubicBezTo>
              </a:path>
              <a:path w="919" h="745">
                <a:moveTo>
                  <a:pt x="12551" y="9451"/>
                </a:moveTo>
                <a:cubicBezTo>
                  <a:pt x="12481" y="9451"/>
                  <a:pt x="12471" y="9510"/>
                  <a:pt x="12452" y="9575"/>
                </a:cubicBezTo>
                <a:cubicBezTo>
                  <a:pt x="12452" y="9583"/>
                  <a:pt x="12452" y="9591"/>
                  <a:pt x="12452" y="9599"/>
                </a:cubicBezTo>
                <a:cubicBezTo>
                  <a:pt x="12489" y="9592"/>
                  <a:pt x="12698" y="9512"/>
                  <a:pt x="12551" y="9475"/>
                </a:cubicBezTo>
                <a:cubicBezTo>
                  <a:pt x="12526" y="9475"/>
                  <a:pt x="12502" y="9475"/>
                  <a:pt x="12477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00120" y="6126120"/>
            <a:ext cx="2135160" cy="108000"/>
          </a:xfrm>
          <a:custGeom>
            <a:avLst/>
            <a:gdLst/>
            <a:ahLst/>
            <a:rect l="l" t="t" r="r" b="b"/>
            <a:pathLst>
              <a:path w="5930" h="299">
                <a:moveTo>
                  <a:pt x="4167" y="17314"/>
                </a:moveTo>
                <a:cubicBezTo>
                  <a:pt x="4301" y="17292"/>
                  <a:pt x="4466" y="17298"/>
                  <a:pt x="4614" y="17289"/>
                </a:cubicBezTo>
                <a:cubicBezTo>
                  <a:pt x="5085" y="17259"/>
                  <a:pt x="5555" y="17264"/>
                  <a:pt x="6028" y="17264"/>
                </a:cubicBezTo>
                <a:cubicBezTo>
                  <a:pt x="6661" y="17264"/>
                  <a:pt x="7282" y="17206"/>
                  <a:pt x="7913" y="17165"/>
                </a:cubicBezTo>
                <a:cubicBezTo>
                  <a:pt x="8369" y="17135"/>
                  <a:pt x="8821" y="17061"/>
                  <a:pt x="9277" y="17041"/>
                </a:cubicBezTo>
                <a:cubicBezTo>
                  <a:pt x="9493" y="17031"/>
                  <a:pt x="9711" y="17031"/>
                  <a:pt x="9922" y="17016"/>
                </a:cubicBezTo>
                <a:cubicBezTo>
                  <a:pt x="9980" y="17012"/>
                  <a:pt x="10038" y="17019"/>
                  <a:pt x="10096" y="170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910440" y="3306600"/>
            <a:ext cx="3284280" cy="1920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60240" y="3008880"/>
            <a:ext cx="5400" cy="3181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3760" y="2101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s a, b and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76760" y="4419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9072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76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5680" y="4921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17880" y="5013360"/>
            <a:ext cx="91800" cy="9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2160" y="35496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3641760"/>
            <a:ext cx="92160" cy="9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25840" y="3348000"/>
            <a:ext cx="374400" cy="554040"/>
          </a:xfrm>
          <a:custGeom>
            <a:avLst/>
            <a:gdLst/>
            <a:ahLst/>
            <a:rect l="l" t="t" r="r" b="b"/>
            <a:pathLst>
              <a:path w="1042" h="1539">
                <a:moveTo>
                  <a:pt x="7367" y="10269"/>
                </a:moveTo>
                <a:cubicBezTo>
                  <a:pt x="7339" y="10251"/>
                  <a:pt x="7304" y="10201"/>
                  <a:pt x="7293" y="10145"/>
                </a:cubicBezTo>
                <a:cubicBezTo>
                  <a:pt x="7277" y="10069"/>
                  <a:pt x="7304" y="9987"/>
                  <a:pt x="7342" y="9922"/>
                </a:cubicBezTo>
                <a:cubicBezTo>
                  <a:pt x="7395" y="9831"/>
                  <a:pt x="7388" y="9862"/>
                  <a:pt x="7441" y="9823"/>
                </a:cubicBezTo>
                <a:cubicBezTo>
                  <a:pt x="7524" y="9843"/>
                  <a:pt x="7519" y="9947"/>
                  <a:pt x="7541" y="10021"/>
                </a:cubicBezTo>
                <a:cubicBezTo>
                  <a:pt x="7582" y="10160"/>
                  <a:pt x="7554" y="10278"/>
                  <a:pt x="7541" y="10418"/>
                </a:cubicBezTo>
                <a:cubicBezTo>
                  <a:pt x="7531" y="10531"/>
                  <a:pt x="7554" y="10631"/>
                  <a:pt x="7565" y="10740"/>
                </a:cubicBezTo>
                <a:cubicBezTo>
                  <a:pt x="7565" y="10765"/>
                  <a:pt x="7565" y="10790"/>
                  <a:pt x="7565" y="10815"/>
                </a:cubicBezTo>
                <a:cubicBezTo>
                  <a:pt x="7621" y="10852"/>
                  <a:pt x="7576" y="10742"/>
                  <a:pt x="7565" y="10691"/>
                </a:cubicBezTo>
                <a:cubicBezTo>
                  <a:pt x="7543" y="10592"/>
                  <a:pt x="7534" y="10565"/>
                  <a:pt x="7615" y="10542"/>
                </a:cubicBezTo>
                <a:cubicBezTo>
                  <a:pt x="7700" y="10518"/>
                  <a:pt x="7793" y="10565"/>
                  <a:pt x="7863" y="10492"/>
                </a:cubicBezTo>
                <a:cubicBezTo>
                  <a:pt x="7957" y="10394"/>
                  <a:pt x="7921" y="10321"/>
                  <a:pt x="7813" y="10294"/>
                </a:cubicBezTo>
              </a:path>
              <a:path w="1042" h="1539">
                <a:moveTo>
                  <a:pt x="7913" y="9773"/>
                </a:moveTo>
                <a:cubicBezTo>
                  <a:pt x="7901" y="9810"/>
                  <a:pt x="7853" y="9817"/>
                  <a:pt x="7838" y="9872"/>
                </a:cubicBezTo>
                <a:cubicBezTo>
                  <a:pt x="7822" y="9929"/>
                  <a:pt x="7857" y="10123"/>
                  <a:pt x="7888" y="10170"/>
                </a:cubicBezTo>
                <a:cubicBezTo>
                  <a:pt x="7896" y="10170"/>
                  <a:pt x="7905" y="10170"/>
                  <a:pt x="7913" y="10170"/>
                </a:cubicBezTo>
                <a:cubicBezTo>
                  <a:pt x="7981" y="10170"/>
                  <a:pt x="7962" y="10135"/>
                  <a:pt x="8012" y="10096"/>
                </a:cubicBezTo>
                <a:cubicBezTo>
                  <a:pt x="8075" y="10046"/>
                  <a:pt x="8234" y="9965"/>
                  <a:pt x="8310" y="10046"/>
                </a:cubicBezTo>
                <a:cubicBezTo>
                  <a:pt x="8397" y="10139"/>
                  <a:pt x="8300" y="10267"/>
                  <a:pt x="8235" y="10319"/>
                </a:cubicBezTo>
                <a:cubicBezTo>
                  <a:pt x="8164" y="10376"/>
                  <a:pt x="8151" y="10382"/>
                  <a:pt x="8086" y="10344"/>
                </a:cubicBezTo>
              </a:path>
              <a:path w="1042" h="1539">
                <a:moveTo>
                  <a:pt x="7863" y="9897"/>
                </a:moveTo>
                <a:cubicBezTo>
                  <a:pt x="7912" y="9831"/>
                  <a:pt x="7924" y="9749"/>
                  <a:pt x="7962" y="9674"/>
                </a:cubicBezTo>
                <a:cubicBezTo>
                  <a:pt x="8002" y="9614"/>
                  <a:pt x="8005" y="9602"/>
                  <a:pt x="8037" y="9575"/>
                </a:cubicBezTo>
              </a:path>
              <a:path w="1042" h="1539">
                <a:moveTo>
                  <a:pt x="8161" y="9302"/>
                </a:moveTo>
                <a:cubicBezTo>
                  <a:pt x="8135" y="9311"/>
                  <a:pt x="8109" y="9391"/>
                  <a:pt x="8136" y="9426"/>
                </a:cubicBezTo>
                <a:cubicBezTo>
                  <a:pt x="8196" y="9503"/>
                  <a:pt x="8269" y="9435"/>
                  <a:pt x="8285" y="9376"/>
                </a:cubicBezTo>
                <a:cubicBezTo>
                  <a:pt x="8309" y="9285"/>
                  <a:pt x="8248" y="9289"/>
                  <a:pt x="8210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14680" y="4983120"/>
            <a:ext cx="509400" cy="392040"/>
          </a:xfrm>
          <a:custGeom>
            <a:avLst/>
            <a:gdLst/>
            <a:ahLst/>
            <a:rect l="l" t="t" r="r" b="b"/>
            <a:pathLst>
              <a:path w="1415" h="1092">
                <a:moveTo>
                  <a:pt x="4862" y="14288"/>
                </a:moveTo>
                <a:cubicBezTo>
                  <a:pt x="4882" y="14209"/>
                  <a:pt x="4905" y="14200"/>
                  <a:pt x="4986" y="14139"/>
                </a:cubicBezTo>
                <a:cubicBezTo>
                  <a:pt x="5051" y="14095"/>
                  <a:pt x="5065" y="14084"/>
                  <a:pt x="5110" y="14064"/>
                </a:cubicBezTo>
                <a:cubicBezTo>
                  <a:pt x="5201" y="14224"/>
                  <a:pt x="5149" y="14340"/>
                  <a:pt x="5085" y="14511"/>
                </a:cubicBezTo>
                <a:cubicBezTo>
                  <a:pt x="5047" y="14614"/>
                  <a:pt x="4932" y="14919"/>
                  <a:pt x="4787" y="14932"/>
                </a:cubicBezTo>
                <a:cubicBezTo>
                  <a:pt x="4779" y="14924"/>
                  <a:pt x="4770" y="14916"/>
                  <a:pt x="4762" y="14908"/>
                </a:cubicBezTo>
                <a:cubicBezTo>
                  <a:pt x="4783" y="14781"/>
                  <a:pt x="4817" y="14705"/>
                  <a:pt x="4961" y="14684"/>
                </a:cubicBezTo>
                <a:cubicBezTo>
                  <a:pt x="5078" y="14667"/>
                  <a:pt x="5133" y="14707"/>
                  <a:pt x="5209" y="14784"/>
                </a:cubicBezTo>
              </a:path>
              <a:path w="1415" h="1092">
                <a:moveTo>
                  <a:pt x="5457" y="14163"/>
                </a:moveTo>
                <a:cubicBezTo>
                  <a:pt x="5443" y="14221"/>
                  <a:pt x="5432" y="14268"/>
                  <a:pt x="5432" y="14337"/>
                </a:cubicBezTo>
                <a:cubicBezTo>
                  <a:pt x="5507" y="14287"/>
                  <a:pt x="5641" y="14166"/>
                  <a:pt x="5705" y="14312"/>
                </a:cubicBezTo>
                <a:cubicBezTo>
                  <a:pt x="5770" y="14460"/>
                  <a:pt x="5715" y="14622"/>
                  <a:pt x="5581" y="14684"/>
                </a:cubicBezTo>
                <a:cubicBezTo>
                  <a:pt x="5520" y="14712"/>
                  <a:pt x="5363" y="14709"/>
                  <a:pt x="5308" y="14660"/>
                </a:cubicBezTo>
                <a:cubicBezTo>
                  <a:pt x="5308" y="14652"/>
                  <a:pt x="5308" y="14643"/>
                  <a:pt x="5308" y="14635"/>
                </a:cubicBezTo>
              </a:path>
              <a:path w="1415" h="1092">
                <a:moveTo>
                  <a:pt x="5407" y="14213"/>
                </a:moveTo>
                <a:cubicBezTo>
                  <a:pt x="5468" y="14152"/>
                  <a:pt x="5541" y="14120"/>
                  <a:pt x="5606" y="14064"/>
                </a:cubicBezTo>
                <a:cubicBezTo>
                  <a:pt x="5628" y="14042"/>
                  <a:pt x="5633" y="14033"/>
                  <a:pt x="5655" y="14039"/>
                </a:cubicBezTo>
              </a:path>
              <a:path w="1415" h="1092">
                <a:moveTo>
                  <a:pt x="6028" y="13841"/>
                </a:moveTo>
                <a:cubicBezTo>
                  <a:pt x="5950" y="13919"/>
                  <a:pt x="5937" y="13955"/>
                  <a:pt x="5928" y="14064"/>
                </a:cubicBezTo>
                <a:cubicBezTo>
                  <a:pt x="6070" y="14064"/>
                  <a:pt x="6091" y="14029"/>
                  <a:pt x="6176" y="13915"/>
                </a:cubicBezTo>
                <a:cubicBezTo>
                  <a:pt x="6110" y="13899"/>
                  <a:pt x="6071" y="13891"/>
                  <a:pt x="6003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0680" y="4402080"/>
            <a:ext cx="544320" cy="608040"/>
          </a:xfrm>
          <a:custGeom>
            <a:avLst/>
            <a:gdLst/>
            <a:ahLst/>
            <a:rect l="l" t="t" r="r" b="b"/>
            <a:pathLst>
              <a:path w="1514" h="1687">
                <a:moveTo>
                  <a:pt x="7888" y="13196"/>
                </a:moveTo>
                <a:cubicBezTo>
                  <a:pt x="7888" y="13389"/>
                  <a:pt x="7874" y="13575"/>
                  <a:pt x="7863" y="13767"/>
                </a:cubicBezTo>
                <a:cubicBezTo>
                  <a:pt x="7863" y="13849"/>
                  <a:pt x="7863" y="13866"/>
                  <a:pt x="7863" y="13915"/>
                </a:cubicBezTo>
              </a:path>
              <a:path w="1514" h="1687">
                <a:moveTo>
                  <a:pt x="8260" y="13047"/>
                </a:moveTo>
                <a:cubicBezTo>
                  <a:pt x="8247" y="13139"/>
                  <a:pt x="8219" y="13228"/>
                  <a:pt x="8210" y="13320"/>
                </a:cubicBezTo>
                <a:cubicBezTo>
                  <a:pt x="8256" y="13308"/>
                  <a:pt x="8360" y="13229"/>
                  <a:pt x="8409" y="13246"/>
                </a:cubicBezTo>
                <a:cubicBezTo>
                  <a:pt x="8553" y="13295"/>
                  <a:pt x="8611" y="13483"/>
                  <a:pt x="8508" y="13593"/>
                </a:cubicBezTo>
                <a:cubicBezTo>
                  <a:pt x="8425" y="13682"/>
                  <a:pt x="8209" y="13774"/>
                  <a:pt x="8086" y="13767"/>
                </a:cubicBezTo>
                <a:cubicBezTo>
                  <a:pt x="8057" y="13737"/>
                  <a:pt x="8052" y="13722"/>
                  <a:pt x="8086" y="13692"/>
                </a:cubicBezTo>
              </a:path>
              <a:path w="1514" h="1687">
                <a:moveTo>
                  <a:pt x="8260" y="13072"/>
                </a:moveTo>
                <a:cubicBezTo>
                  <a:pt x="8346" y="13004"/>
                  <a:pt x="8482" y="12972"/>
                  <a:pt x="8558" y="12898"/>
                </a:cubicBezTo>
                <a:cubicBezTo>
                  <a:pt x="8558" y="12890"/>
                  <a:pt x="8558" y="12882"/>
                  <a:pt x="8558" y="12874"/>
                </a:cubicBezTo>
              </a:path>
              <a:path w="1514" h="1687">
                <a:moveTo>
                  <a:pt x="8756" y="12824"/>
                </a:moveTo>
                <a:cubicBezTo>
                  <a:pt x="8741" y="12886"/>
                  <a:pt x="8720" y="12954"/>
                  <a:pt x="8706" y="13022"/>
                </a:cubicBezTo>
                <a:cubicBezTo>
                  <a:pt x="8706" y="13030"/>
                  <a:pt x="8706" y="13039"/>
                  <a:pt x="8706" y="13047"/>
                </a:cubicBezTo>
                <a:cubicBezTo>
                  <a:pt x="8771" y="13047"/>
                  <a:pt x="8820" y="13006"/>
                  <a:pt x="8880" y="12998"/>
                </a:cubicBezTo>
                <a:cubicBezTo>
                  <a:pt x="9100" y="12968"/>
                  <a:pt x="9102" y="13164"/>
                  <a:pt x="9029" y="13320"/>
                </a:cubicBezTo>
                <a:cubicBezTo>
                  <a:pt x="8984" y="13415"/>
                  <a:pt x="8799" y="13547"/>
                  <a:pt x="8682" y="13494"/>
                </a:cubicBezTo>
                <a:cubicBezTo>
                  <a:pt x="8651" y="13431"/>
                  <a:pt x="8642" y="13400"/>
                  <a:pt x="8657" y="13345"/>
                </a:cubicBezTo>
              </a:path>
              <a:path w="1514" h="1687">
                <a:moveTo>
                  <a:pt x="8830" y="12774"/>
                </a:moveTo>
                <a:cubicBezTo>
                  <a:pt x="8905" y="12725"/>
                  <a:pt x="8984" y="12680"/>
                  <a:pt x="9054" y="12626"/>
                </a:cubicBezTo>
              </a:path>
              <a:path w="1514" h="1687">
                <a:moveTo>
                  <a:pt x="9277" y="12229"/>
                </a:moveTo>
                <a:cubicBezTo>
                  <a:pt x="9183" y="12229"/>
                  <a:pt x="9184" y="12298"/>
                  <a:pt x="9178" y="12378"/>
                </a:cubicBezTo>
                <a:cubicBezTo>
                  <a:pt x="9168" y="12519"/>
                  <a:pt x="9278" y="12522"/>
                  <a:pt x="9351" y="12427"/>
                </a:cubicBezTo>
                <a:cubicBezTo>
                  <a:pt x="9416" y="12342"/>
                  <a:pt x="9314" y="12347"/>
                  <a:pt x="9252" y="123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2760" y="965160"/>
            <a:ext cx="2562120" cy="196920"/>
          </a:xfrm>
          <a:custGeom>
            <a:avLst/>
            <a:gdLst/>
            <a:ahLst/>
            <a:rect l="l" t="t" r="r" b="b"/>
            <a:pathLst>
              <a:path w="7120" h="547">
                <a:moveTo>
                  <a:pt x="1339" y="2679"/>
                </a:moveTo>
                <a:cubicBezTo>
                  <a:pt x="1378" y="2768"/>
                  <a:pt x="1441" y="2920"/>
                  <a:pt x="1513" y="3026"/>
                </a:cubicBezTo>
                <a:cubicBezTo>
                  <a:pt x="1635" y="3205"/>
                  <a:pt x="1749" y="3257"/>
                  <a:pt x="1885" y="3076"/>
                </a:cubicBezTo>
                <a:cubicBezTo>
                  <a:pt x="1957" y="2980"/>
                  <a:pt x="1941" y="2861"/>
                  <a:pt x="1960" y="2753"/>
                </a:cubicBezTo>
                <a:cubicBezTo>
                  <a:pt x="1975" y="2778"/>
                  <a:pt x="2081" y="2972"/>
                  <a:pt x="2084" y="2977"/>
                </a:cubicBezTo>
                <a:cubicBezTo>
                  <a:pt x="2164" y="3101"/>
                  <a:pt x="2255" y="3144"/>
                  <a:pt x="2356" y="3225"/>
                </a:cubicBezTo>
                <a:cubicBezTo>
                  <a:pt x="2451" y="3121"/>
                  <a:pt x="2544" y="3020"/>
                  <a:pt x="2629" y="2902"/>
                </a:cubicBezTo>
                <a:cubicBezTo>
                  <a:pt x="2758" y="3067"/>
                  <a:pt x="2799" y="3205"/>
                  <a:pt x="3026" y="3200"/>
                </a:cubicBezTo>
                <a:cubicBezTo>
                  <a:pt x="3244" y="3196"/>
                  <a:pt x="3393" y="2986"/>
                  <a:pt x="3547" y="2853"/>
                </a:cubicBezTo>
                <a:cubicBezTo>
                  <a:pt x="3555" y="2845"/>
                  <a:pt x="3564" y="2836"/>
                  <a:pt x="3572" y="2828"/>
                </a:cubicBezTo>
                <a:cubicBezTo>
                  <a:pt x="3636" y="2979"/>
                  <a:pt x="3646" y="3085"/>
                  <a:pt x="3795" y="3150"/>
                </a:cubicBezTo>
                <a:cubicBezTo>
                  <a:pt x="3966" y="3224"/>
                  <a:pt x="4204" y="2878"/>
                  <a:pt x="4316" y="2803"/>
                </a:cubicBezTo>
                <a:cubicBezTo>
                  <a:pt x="4341" y="2795"/>
                  <a:pt x="4365" y="2786"/>
                  <a:pt x="4390" y="2778"/>
                </a:cubicBezTo>
                <a:cubicBezTo>
                  <a:pt x="4461" y="2894"/>
                  <a:pt x="4543" y="3140"/>
                  <a:pt x="4713" y="3150"/>
                </a:cubicBezTo>
                <a:cubicBezTo>
                  <a:pt x="4895" y="3161"/>
                  <a:pt x="4974" y="2944"/>
                  <a:pt x="5060" y="2828"/>
                </a:cubicBezTo>
                <a:cubicBezTo>
                  <a:pt x="5092" y="2886"/>
                  <a:pt x="5168" y="3112"/>
                  <a:pt x="5259" y="3150"/>
                </a:cubicBezTo>
                <a:cubicBezTo>
                  <a:pt x="5451" y="3230"/>
                  <a:pt x="5578" y="3004"/>
                  <a:pt x="5680" y="2877"/>
                </a:cubicBezTo>
                <a:cubicBezTo>
                  <a:pt x="5705" y="2844"/>
                  <a:pt x="5730" y="2811"/>
                  <a:pt x="5755" y="2778"/>
                </a:cubicBezTo>
                <a:cubicBezTo>
                  <a:pt x="5809" y="2859"/>
                  <a:pt x="5893" y="3102"/>
                  <a:pt x="6003" y="3125"/>
                </a:cubicBezTo>
                <a:cubicBezTo>
                  <a:pt x="6187" y="3163"/>
                  <a:pt x="6215" y="2961"/>
                  <a:pt x="6350" y="2952"/>
                </a:cubicBezTo>
                <a:cubicBezTo>
                  <a:pt x="6479" y="2943"/>
                  <a:pt x="6544" y="3090"/>
                  <a:pt x="6672" y="3125"/>
                </a:cubicBezTo>
                <a:cubicBezTo>
                  <a:pt x="6912" y="3192"/>
                  <a:pt x="6947" y="3076"/>
                  <a:pt x="7144" y="2977"/>
                </a:cubicBezTo>
                <a:cubicBezTo>
                  <a:pt x="7326" y="2886"/>
                  <a:pt x="7272" y="2957"/>
                  <a:pt x="7417" y="3051"/>
                </a:cubicBezTo>
                <a:cubicBezTo>
                  <a:pt x="7534" y="3127"/>
                  <a:pt x="7575" y="3187"/>
                  <a:pt x="7689" y="3076"/>
                </a:cubicBezTo>
                <a:cubicBezTo>
                  <a:pt x="7737" y="3004"/>
                  <a:pt x="7752" y="2983"/>
                  <a:pt x="7764" y="2927"/>
                </a:cubicBezTo>
                <a:cubicBezTo>
                  <a:pt x="7828" y="2972"/>
                  <a:pt x="7906" y="3089"/>
                  <a:pt x="7987" y="3076"/>
                </a:cubicBezTo>
                <a:cubicBezTo>
                  <a:pt x="8079" y="3061"/>
                  <a:pt x="8211" y="2942"/>
                  <a:pt x="8285" y="2927"/>
                </a:cubicBezTo>
                <a:cubicBezTo>
                  <a:pt x="8338" y="2916"/>
                  <a:pt x="8404" y="2927"/>
                  <a:pt x="8458" y="29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44760" y="3483000"/>
            <a:ext cx="590400" cy="822240"/>
          </a:xfrm>
          <a:custGeom>
            <a:avLst/>
            <a:gdLst/>
            <a:ahLst/>
            <a:rect l="l" t="t" r="r" b="b"/>
            <a:pathLst>
              <a:path w="1638" h="2283">
                <a:moveTo>
                  <a:pt x="4341" y="10889"/>
                </a:moveTo>
                <a:cubicBezTo>
                  <a:pt x="4341" y="11148"/>
                  <a:pt x="4343" y="11401"/>
                  <a:pt x="4316" y="11658"/>
                </a:cubicBezTo>
                <a:cubicBezTo>
                  <a:pt x="4303" y="11782"/>
                  <a:pt x="4291" y="12006"/>
                  <a:pt x="4291" y="11881"/>
                </a:cubicBezTo>
              </a:path>
              <a:path w="1638" h="2283">
                <a:moveTo>
                  <a:pt x="4837" y="10740"/>
                </a:moveTo>
                <a:cubicBezTo>
                  <a:pt x="4814" y="10836"/>
                  <a:pt x="4807" y="10985"/>
                  <a:pt x="4738" y="11038"/>
                </a:cubicBezTo>
                <a:cubicBezTo>
                  <a:pt x="4836" y="11018"/>
                  <a:pt x="4904" y="10963"/>
                  <a:pt x="5011" y="11013"/>
                </a:cubicBezTo>
                <a:cubicBezTo>
                  <a:pt x="5178" y="11091"/>
                  <a:pt x="4910" y="11393"/>
                  <a:pt x="4837" y="11435"/>
                </a:cubicBezTo>
                <a:cubicBezTo>
                  <a:pt x="4660" y="11538"/>
                  <a:pt x="4643" y="11401"/>
                  <a:pt x="4589" y="11286"/>
                </a:cubicBezTo>
              </a:path>
              <a:path w="1638" h="2283">
                <a:moveTo>
                  <a:pt x="4812" y="10641"/>
                </a:moveTo>
                <a:cubicBezTo>
                  <a:pt x="4929" y="10579"/>
                  <a:pt x="5053" y="10519"/>
                  <a:pt x="5159" y="10443"/>
                </a:cubicBezTo>
              </a:path>
              <a:path w="1638" h="2283">
                <a:moveTo>
                  <a:pt x="5259" y="10344"/>
                </a:moveTo>
                <a:cubicBezTo>
                  <a:pt x="5248" y="10429"/>
                  <a:pt x="5217" y="10510"/>
                  <a:pt x="5184" y="10592"/>
                </a:cubicBezTo>
                <a:cubicBezTo>
                  <a:pt x="5271" y="10592"/>
                  <a:pt x="5343" y="10540"/>
                  <a:pt x="5432" y="10542"/>
                </a:cubicBezTo>
                <a:cubicBezTo>
                  <a:pt x="5623" y="10546"/>
                  <a:pt x="5667" y="10717"/>
                  <a:pt x="5531" y="10840"/>
                </a:cubicBezTo>
                <a:cubicBezTo>
                  <a:pt x="5364" y="10992"/>
                  <a:pt x="5251" y="10969"/>
                  <a:pt x="5085" y="10864"/>
                </a:cubicBezTo>
              </a:path>
              <a:path w="1638" h="2283">
                <a:moveTo>
                  <a:pt x="5283" y="10269"/>
                </a:moveTo>
                <a:cubicBezTo>
                  <a:pt x="5374" y="10237"/>
                  <a:pt x="5465" y="10203"/>
                  <a:pt x="5556" y="10170"/>
                </a:cubicBezTo>
              </a:path>
              <a:path w="1638" h="2283">
                <a:moveTo>
                  <a:pt x="5854" y="9674"/>
                </a:moveTo>
                <a:cubicBezTo>
                  <a:pt x="5780" y="9710"/>
                  <a:pt x="5768" y="9791"/>
                  <a:pt x="5755" y="9872"/>
                </a:cubicBezTo>
                <a:cubicBezTo>
                  <a:pt x="5778" y="9872"/>
                  <a:pt x="5995" y="9874"/>
                  <a:pt x="5928" y="9773"/>
                </a:cubicBezTo>
                <a:cubicBezTo>
                  <a:pt x="5903" y="9765"/>
                  <a:pt x="5879" y="9756"/>
                  <a:pt x="5854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6040" y="299088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1240" y="8310"/>
                </a:moveTo>
                <a:cubicBezTo>
                  <a:pt x="1292" y="8310"/>
                  <a:pt x="1290" y="8307"/>
                  <a:pt x="1290" y="8359"/>
                </a:cubicBezTo>
                <a:cubicBezTo>
                  <a:pt x="1290" y="8546"/>
                  <a:pt x="1250" y="8721"/>
                  <a:pt x="1240" y="8905"/>
                </a:cubicBezTo>
                <a:cubicBezTo>
                  <a:pt x="1240" y="8933"/>
                  <a:pt x="1242" y="8939"/>
                  <a:pt x="1265" y="89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4960" y="3000240"/>
            <a:ext cx="127080" cy="179640"/>
          </a:xfrm>
          <a:custGeom>
            <a:avLst/>
            <a:gdLst/>
            <a:ahLst/>
            <a:rect l="l" t="t" r="r" b="b"/>
            <a:pathLst>
              <a:path w="349" h="497">
                <a:moveTo>
                  <a:pt x="1836" y="8359"/>
                </a:moveTo>
                <a:cubicBezTo>
                  <a:pt x="1671" y="8321"/>
                  <a:pt x="1628" y="8340"/>
                  <a:pt x="1488" y="8434"/>
                </a:cubicBezTo>
                <a:cubicBezTo>
                  <a:pt x="1520" y="8561"/>
                  <a:pt x="1605" y="8554"/>
                  <a:pt x="1662" y="8657"/>
                </a:cubicBezTo>
                <a:cubicBezTo>
                  <a:pt x="1714" y="8751"/>
                  <a:pt x="1649" y="8769"/>
                  <a:pt x="1588" y="8830"/>
                </a:cubicBezTo>
                <a:cubicBezTo>
                  <a:pt x="1551" y="8737"/>
                  <a:pt x="1637" y="8610"/>
                  <a:pt x="1712" y="8508"/>
                </a:cubicBezTo>
                <a:cubicBezTo>
                  <a:pt x="1720" y="8500"/>
                  <a:pt x="1728" y="8491"/>
                  <a:pt x="1736" y="84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960" y="2990880"/>
            <a:ext cx="125280" cy="16200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2158" y="8310"/>
                </a:moveTo>
                <a:cubicBezTo>
                  <a:pt x="2109" y="8431"/>
                  <a:pt x="2052" y="8576"/>
                  <a:pt x="2108" y="8706"/>
                </a:cubicBezTo>
                <a:cubicBezTo>
                  <a:pt x="2125" y="8723"/>
                  <a:pt x="2141" y="8739"/>
                  <a:pt x="2158" y="8756"/>
                </a:cubicBezTo>
                <a:cubicBezTo>
                  <a:pt x="2257" y="8715"/>
                  <a:pt x="2523" y="8603"/>
                  <a:pt x="2431" y="8434"/>
                </a:cubicBezTo>
                <a:cubicBezTo>
                  <a:pt x="2347" y="8378"/>
                  <a:pt x="2310" y="8361"/>
                  <a:pt x="2232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2200" y="3330720"/>
            <a:ext cx="133560" cy="54000"/>
          </a:xfrm>
          <a:custGeom>
            <a:avLst/>
            <a:gdLst/>
            <a:ahLst/>
            <a:rect l="l" t="t" r="r" b="b"/>
            <a:pathLst>
              <a:path w="373" h="150">
                <a:moveTo>
                  <a:pt x="893" y="9401"/>
                </a:moveTo>
                <a:cubicBezTo>
                  <a:pt x="1018" y="9329"/>
                  <a:pt x="1125" y="9295"/>
                  <a:pt x="1265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8040" y="3259080"/>
            <a:ext cx="10620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1712" y="9079"/>
                </a:moveTo>
                <a:cubicBezTo>
                  <a:pt x="1773" y="9066"/>
                  <a:pt x="1878" y="9033"/>
                  <a:pt x="1910" y="9128"/>
                </a:cubicBezTo>
                <a:cubicBezTo>
                  <a:pt x="1965" y="9292"/>
                  <a:pt x="1801" y="9373"/>
                  <a:pt x="1687" y="9426"/>
                </a:cubicBezTo>
                <a:cubicBezTo>
                  <a:pt x="1687" y="9361"/>
                  <a:pt x="1707" y="9210"/>
                  <a:pt x="1811" y="9227"/>
                </a:cubicBezTo>
                <a:cubicBezTo>
                  <a:pt x="1902" y="9242"/>
                  <a:pt x="1938" y="9366"/>
                  <a:pt x="1984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8240" y="3268800"/>
            <a:ext cx="88920" cy="1062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2183" y="9079"/>
                </a:moveTo>
                <a:cubicBezTo>
                  <a:pt x="2155" y="9079"/>
                  <a:pt x="2144" y="9081"/>
                  <a:pt x="2133" y="9103"/>
                </a:cubicBezTo>
                <a:cubicBezTo>
                  <a:pt x="2150" y="9173"/>
                  <a:pt x="2245" y="9188"/>
                  <a:pt x="2307" y="9227"/>
                </a:cubicBezTo>
                <a:cubicBezTo>
                  <a:pt x="2453" y="9319"/>
                  <a:pt x="2375" y="9349"/>
                  <a:pt x="2257" y="93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160" y="3224160"/>
            <a:ext cx="73080" cy="79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2232" y="8979"/>
                </a:moveTo>
                <a:cubicBezTo>
                  <a:pt x="2309" y="8964"/>
                  <a:pt x="2355" y="8954"/>
                  <a:pt x="2431" y="89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4840" y="3456000"/>
            <a:ext cx="768240" cy="17280"/>
          </a:xfrm>
          <a:custGeom>
            <a:avLst/>
            <a:gdLst/>
            <a:ahLst/>
            <a:rect l="l" t="t" r="r" b="b"/>
            <a:pathLst>
              <a:path w="2134" h="51">
                <a:moveTo>
                  <a:pt x="571" y="9649"/>
                </a:moveTo>
                <a:cubicBezTo>
                  <a:pt x="723" y="9649"/>
                  <a:pt x="865" y="9637"/>
                  <a:pt x="1017" y="9624"/>
                </a:cubicBezTo>
                <a:cubicBezTo>
                  <a:pt x="1467" y="9586"/>
                  <a:pt x="1906" y="9609"/>
                  <a:pt x="2356" y="9624"/>
                </a:cubicBezTo>
                <a:cubicBezTo>
                  <a:pt x="2472" y="9628"/>
                  <a:pt x="2588" y="9624"/>
                  <a:pt x="2704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3527280"/>
            <a:ext cx="142920" cy="2239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2084" y="9847"/>
                </a:moveTo>
                <a:cubicBezTo>
                  <a:pt x="2039" y="9825"/>
                  <a:pt x="1958" y="9808"/>
                  <a:pt x="1935" y="9798"/>
                </a:cubicBezTo>
                <a:cubicBezTo>
                  <a:pt x="1869" y="9770"/>
                  <a:pt x="1818" y="9843"/>
                  <a:pt x="1811" y="9897"/>
                </a:cubicBezTo>
                <a:cubicBezTo>
                  <a:pt x="1800" y="9977"/>
                  <a:pt x="1811" y="10064"/>
                  <a:pt x="1811" y="10145"/>
                </a:cubicBezTo>
                <a:cubicBezTo>
                  <a:pt x="1862" y="10128"/>
                  <a:pt x="2045" y="10045"/>
                  <a:pt x="2059" y="10170"/>
                </a:cubicBezTo>
                <a:cubicBezTo>
                  <a:pt x="2075" y="10312"/>
                  <a:pt x="1910" y="10418"/>
                  <a:pt x="1786" y="10418"/>
                </a:cubicBezTo>
                <a:cubicBezTo>
                  <a:pt x="1682" y="10418"/>
                  <a:pt x="1694" y="10365"/>
                  <a:pt x="1687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3581280"/>
            <a:ext cx="36360" cy="160560"/>
          </a:xfrm>
          <a:custGeom>
            <a:avLst/>
            <a:gdLst/>
            <a:ahLst/>
            <a:rect l="l" t="t" r="r" b="b"/>
            <a:pathLst>
              <a:path w="100" h="447">
                <a:moveTo>
                  <a:pt x="1389" y="9947"/>
                </a:moveTo>
                <a:cubicBezTo>
                  <a:pt x="1438" y="10082"/>
                  <a:pt x="1482" y="10199"/>
                  <a:pt x="1488" y="10344"/>
                </a:cubicBezTo>
                <a:cubicBezTo>
                  <a:pt x="1488" y="10360"/>
                  <a:pt x="1488" y="10377"/>
                  <a:pt x="1488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12880" y="3527280"/>
            <a:ext cx="152280" cy="18756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2679" y="9798"/>
                </a:moveTo>
                <a:cubicBezTo>
                  <a:pt x="2591" y="9833"/>
                  <a:pt x="2501" y="9865"/>
                  <a:pt x="2406" y="9872"/>
                </a:cubicBezTo>
                <a:cubicBezTo>
                  <a:pt x="2359" y="9875"/>
                  <a:pt x="2322" y="9994"/>
                  <a:pt x="2307" y="10046"/>
                </a:cubicBezTo>
                <a:cubicBezTo>
                  <a:pt x="2307" y="10054"/>
                  <a:pt x="2307" y="10063"/>
                  <a:pt x="2307" y="10071"/>
                </a:cubicBezTo>
                <a:cubicBezTo>
                  <a:pt x="2407" y="10054"/>
                  <a:pt x="2454" y="10014"/>
                  <a:pt x="2555" y="10046"/>
                </a:cubicBezTo>
                <a:cubicBezTo>
                  <a:pt x="2694" y="10091"/>
                  <a:pt x="2611" y="10242"/>
                  <a:pt x="2530" y="10294"/>
                </a:cubicBezTo>
                <a:cubicBezTo>
                  <a:pt x="2428" y="10360"/>
                  <a:pt x="2347" y="10308"/>
                  <a:pt x="2257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910440" y="3306600"/>
            <a:ext cx="3284280" cy="1920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60240" y="3008880"/>
            <a:ext cx="5400" cy="3181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101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s a, b and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76760" y="4419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9072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76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92440" y="337644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12720" y="457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4290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914400" y="1294920"/>
            <a:ext cx="21337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1295280"/>
            <a:ext cx="213336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7200" y="2787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6960" y="2787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65600" y="1371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5240" y="28796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27760" y="28954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06880" y="3027240"/>
            <a:ext cx="1563840" cy="446040"/>
          </a:xfrm>
          <a:custGeom>
            <a:avLst/>
            <a:gdLst/>
            <a:ahLst/>
            <a:rect l="l" t="t" r="r" b="b"/>
            <a:pathLst>
              <a:path w="4342" h="1241">
                <a:moveTo>
                  <a:pt x="12973" y="9525"/>
                </a:moveTo>
                <a:cubicBezTo>
                  <a:pt x="12990" y="9487"/>
                  <a:pt x="13006" y="9446"/>
                  <a:pt x="13022" y="9401"/>
                </a:cubicBezTo>
                <a:cubicBezTo>
                  <a:pt x="13036" y="9361"/>
                  <a:pt x="13061" y="9313"/>
                  <a:pt x="13072" y="9277"/>
                </a:cubicBezTo>
                <a:cubicBezTo>
                  <a:pt x="13084" y="9238"/>
                  <a:pt x="13081" y="9191"/>
                  <a:pt x="13097" y="9153"/>
                </a:cubicBezTo>
                <a:cubicBezTo>
                  <a:pt x="13118" y="9103"/>
                  <a:pt x="13157" y="9048"/>
                  <a:pt x="13196" y="9004"/>
                </a:cubicBezTo>
                <a:cubicBezTo>
                  <a:pt x="13248" y="8944"/>
                  <a:pt x="13302" y="8916"/>
                  <a:pt x="13370" y="8880"/>
                </a:cubicBezTo>
                <a:cubicBezTo>
                  <a:pt x="13473" y="8825"/>
                  <a:pt x="13555" y="8802"/>
                  <a:pt x="13667" y="8781"/>
                </a:cubicBezTo>
                <a:cubicBezTo>
                  <a:pt x="13774" y="8761"/>
                  <a:pt x="13887" y="8718"/>
                  <a:pt x="13990" y="8706"/>
                </a:cubicBezTo>
                <a:cubicBezTo>
                  <a:pt x="14072" y="8696"/>
                  <a:pt x="14157" y="8690"/>
                  <a:pt x="14238" y="8682"/>
                </a:cubicBezTo>
                <a:cubicBezTo>
                  <a:pt x="14326" y="8673"/>
                  <a:pt x="14402" y="8699"/>
                  <a:pt x="14486" y="8706"/>
                </a:cubicBezTo>
                <a:cubicBezTo>
                  <a:pt x="14617" y="8718"/>
                  <a:pt x="14731" y="8740"/>
                  <a:pt x="14858" y="8781"/>
                </a:cubicBezTo>
                <a:cubicBezTo>
                  <a:pt x="14983" y="8822"/>
                  <a:pt x="15063" y="8858"/>
                  <a:pt x="15156" y="8930"/>
                </a:cubicBezTo>
                <a:cubicBezTo>
                  <a:pt x="15203" y="8967"/>
                  <a:pt x="15267" y="8988"/>
                  <a:pt x="15304" y="9029"/>
                </a:cubicBezTo>
                <a:cubicBezTo>
                  <a:pt x="15341" y="9070"/>
                  <a:pt x="15382" y="9109"/>
                  <a:pt x="15429" y="9153"/>
                </a:cubicBezTo>
                <a:cubicBezTo>
                  <a:pt x="15457" y="9180"/>
                  <a:pt x="15495" y="9238"/>
                  <a:pt x="15528" y="9277"/>
                </a:cubicBezTo>
                <a:cubicBezTo>
                  <a:pt x="15555" y="9309"/>
                  <a:pt x="15598" y="9356"/>
                  <a:pt x="15627" y="9401"/>
                </a:cubicBezTo>
                <a:cubicBezTo>
                  <a:pt x="15654" y="9443"/>
                  <a:pt x="15714" y="9531"/>
                  <a:pt x="15726" y="9575"/>
                </a:cubicBezTo>
                <a:cubicBezTo>
                  <a:pt x="15737" y="9614"/>
                  <a:pt x="15743" y="9632"/>
                  <a:pt x="15751" y="9649"/>
                </a:cubicBezTo>
              </a:path>
              <a:path w="4342" h="1241">
                <a:moveTo>
                  <a:pt x="14015" y="8979"/>
                </a:moveTo>
                <a:cubicBezTo>
                  <a:pt x="14014" y="9019"/>
                  <a:pt x="14074" y="8997"/>
                  <a:pt x="14163" y="8954"/>
                </a:cubicBezTo>
                <a:cubicBezTo>
                  <a:pt x="14215" y="8929"/>
                  <a:pt x="14239" y="8900"/>
                  <a:pt x="14263" y="8880"/>
                </a:cubicBezTo>
                <a:cubicBezTo>
                  <a:pt x="14258" y="8891"/>
                  <a:pt x="14156" y="9128"/>
                  <a:pt x="14163" y="9128"/>
                </a:cubicBezTo>
                <a:cubicBezTo>
                  <a:pt x="14260" y="9123"/>
                  <a:pt x="14348" y="8994"/>
                  <a:pt x="14412" y="8930"/>
                </a:cubicBezTo>
                <a:cubicBezTo>
                  <a:pt x="14377" y="9010"/>
                  <a:pt x="14349" y="9049"/>
                  <a:pt x="14312" y="9128"/>
                </a:cubicBezTo>
                <a:cubicBezTo>
                  <a:pt x="14255" y="9248"/>
                  <a:pt x="14423" y="9128"/>
                  <a:pt x="14461" y="9103"/>
                </a:cubicBezTo>
                <a:cubicBezTo>
                  <a:pt x="14494" y="9078"/>
                  <a:pt x="14527" y="9054"/>
                  <a:pt x="14560" y="9029"/>
                </a:cubicBezTo>
                <a:cubicBezTo>
                  <a:pt x="14525" y="9102"/>
                  <a:pt x="14413" y="9262"/>
                  <a:pt x="14412" y="9351"/>
                </a:cubicBezTo>
                <a:cubicBezTo>
                  <a:pt x="14420" y="9351"/>
                  <a:pt x="14428" y="9351"/>
                  <a:pt x="14436" y="9351"/>
                </a:cubicBezTo>
                <a:cubicBezTo>
                  <a:pt x="14554" y="9283"/>
                  <a:pt x="14675" y="9199"/>
                  <a:pt x="14784" y="9128"/>
                </a:cubicBezTo>
                <a:cubicBezTo>
                  <a:pt x="14753" y="9190"/>
                  <a:pt x="14625" y="9377"/>
                  <a:pt x="14684" y="9401"/>
                </a:cubicBezTo>
                <a:cubicBezTo>
                  <a:pt x="14725" y="9417"/>
                  <a:pt x="14986" y="9229"/>
                  <a:pt x="15032" y="9203"/>
                </a:cubicBezTo>
                <a:cubicBezTo>
                  <a:pt x="14995" y="9254"/>
                  <a:pt x="14884" y="9403"/>
                  <a:pt x="15007" y="9351"/>
                </a:cubicBezTo>
                <a:cubicBezTo>
                  <a:pt x="15161" y="9286"/>
                  <a:pt x="15120" y="9241"/>
                  <a:pt x="15106" y="9376"/>
                </a:cubicBezTo>
                <a:cubicBezTo>
                  <a:pt x="15098" y="9456"/>
                  <a:pt x="15112" y="9420"/>
                  <a:pt x="15131" y="9451"/>
                </a:cubicBezTo>
              </a:path>
              <a:path w="4342" h="1241">
                <a:moveTo>
                  <a:pt x="11534" y="8434"/>
                </a:moveTo>
                <a:cubicBezTo>
                  <a:pt x="11616" y="8460"/>
                  <a:pt x="11530" y="8630"/>
                  <a:pt x="11509" y="8682"/>
                </a:cubicBezTo>
                <a:cubicBezTo>
                  <a:pt x="11466" y="8769"/>
                  <a:pt x="11459" y="8792"/>
                  <a:pt x="11410" y="8830"/>
                </a:cubicBezTo>
                <a:cubicBezTo>
                  <a:pt x="11493" y="8814"/>
                  <a:pt x="11565" y="8757"/>
                  <a:pt x="11658" y="8781"/>
                </a:cubicBezTo>
                <a:cubicBezTo>
                  <a:pt x="11723" y="8797"/>
                  <a:pt x="11768" y="8842"/>
                  <a:pt x="11832" y="8855"/>
                </a:cubicBezTo>
              </a:path>
              <a:path w="4342" h="1241">
                <a:moveTo>
                  <a:pt x="11757" y="8409"/>
                </a:moveTo>
                <a:cubicBezTo>
                  <a:pt x="11768" y="8599"/>
                  <a:pt x="11796" y="8789"/>
                  <a:pt x="11807" y="8979"/>
                </a:cubicBezTo>
                <a:cubicBezTo>
                  <a:pt x="11811" y="9037"/>
                  <a:pt x="11807" y="9161"/>
                  <a:pt x="11807" y="9103"/>
                </a:cubicBezTo>
              </a:path>
              <a:path w="4342" h="1241">
                <a:moveTo>
                  <a:pt x="12328" y="8483"/>
                </a:moveTo>
                <a:cubicBezTo>
                  <a:pt x="12189" y="8533"/>
                  <a:pt x="12021" y="8578"/>
                  <a:pt x="11931" y="8706"/>
                </a:cubicBezTo>
                <a:cubicBezTo>
                  <a:pt x="11923" y="8731"/>
                  <a:pt x="11914" y="8756"/>
                  <a:pt x="11906" y="8781"/>
                </a:cubicBezTo>
                <a:cubicBezTo>
                  <a:pt x="12025" y="8844"/>
                  <a:pt x="12259" y="8876"/>
                  <a:pt x="12328" y="9004"/>
                </a:cubicBezTo>
                <a:cubicBezTo>
                  <a:pt x="12387" y="9115"/>
                  <a:pt x="12261" y="9137"/>
                  <a:pt x="12204" y="9153"/>
                </a:cubicBezTo>
                <a:cubicBezTo>
                  <a:pt x="12094" y="9007"/>
                  <a:pt x="12228" y="8924"/>
                  <a:pt x="12278" y="8756"/>
                </a:cubicBezTo>
                <a:cubicBezTo>
                  <a:pt x="12291" y="8713"/>
                  <a:pt x="12278" y="8652"/>
                  <a:pt x="12278" y="8607"/>
                </a:cubicBezTo>
              </a:path>
              <a:path w="4342" h="1241">
                <a:moveTo>
                  <a:pt x="12626" y="8483"/>
                </a:moveTo>
                <a:cubicBezTo>
                  <a:pt x="12585" y="8469"/>
                  <a:pt x="12599" y="8449"/>
                  <a:pt x="12551" y="8558"/>
                </a:cubicBezTo>
                <a:cubicBezTo>
                  <a:pt x="12527" y="8630"/>
                  <a:pt x="12517" y="8653"/>
                  <a:pt x="12576" y="8682"/>
                </a:cubicBezTo>
                <a:cubicBezTo>
                  <a:pt x="12721" y="8722"/>
                  <a:pt x="12772" y="8623"/>
                  <a:pt x="12849" y="8508"/>
                </a:cubicBezTo>
                <a:cubicBezTo>
                  <a:pt x="12767" y="8426"/>
                  <a:pt x="12707" y="8407"/>
                  <a:pt x="12626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46880" y="750960"/>
            <a:ext cx="1233360" cy="1481040"/>
          </a:xfrm>
          <a:custGeom>
            <a:avLst/>
            <a:gdLst/>
            <a:ahLst/>
            <a:rect l="l" t="t" r="r" b="b"/>
            <a:pathLst>
              <a:path w="3424" h="4118">
                <a:moveTo>
                  <a:pt x="18703" y="3125"/>
                </a:moveTo>
                <a:cubicBezTo>
                  <a:pt x="18723" y="3301"/>
                  <a:pt x="18728" y="3468"/>
                  <a:pt x="18728" y="3646"/>
                </a:cubicBezTo>
                <a:cubicBezTo>
                  <a:pt x="18728" y="3742"/>
                  <a:pt x="18704" y="3820"/>
                  <a:pt x="18752" y="3820"/>
                </a:cubicBezTo>
              </a:path>
              <a:path w="3424" h="4118">
                <a:moveTo>
                  <a:pt x="19397" y="2977"/>
                </a:moveTo>
                <a:cubicBezTo>
                  <a:pt x="19271" y="3021"/>
                  <a:pt x="19157" y="3042"/>
                  <a:pt x="19124" y="3175"/>
                </a:cubicBezTo>
                <a:cubicBezTo>
                  <a:pt x="19215" y="3274"/>
                  <a:pt x="19450" y="3354"/>
                  <a:pt x="19472" y="3497"/>
                </a:cubicBezTo>
                <a:cubicBezTo>
                  <a:pt x="19493" y="3637"/>
                  <a:pt x="19390" y="3692"/>
                  <a:pt x="19298" y="3746"/>
                </a:cubicBezTo>
                <a:cubicBezTo>
                  <a:pt x="19199" y="3499"/>
                  <a:pt x="19340" y="3475"/>
                  <a:pt x="19422" y="3249"/>
                </a:cubicBezTo>
                <a:cubicBezTo>
                  <a:pt x="19422" y="3224"/>
                  <a:pt x="19422" y="3200"/>
                  <a:pt x="19422" y="3175"/>
                </a:cubicBezTo>
              </a:path>
              <a:path w="3424" h="4118">
                <a:moveTo>
                  <a:pt x="19993" y="2977"/>
                </a:moveTo>
                <a:cubicBezTo>
                  <a:pt x="19877" y="3005"/>
                  <a:pt x="19819" y="3179"/>
                  <a:pt x="19769" y="3274"/>
                </a:cubicBezTo>
                <a:cubicBezTo>
                  <a:pt x="19668" y="3466"/>
                  <a:pt x="19719" y="3661"/>
                  <a:pt x="19968" y="3671"/>
                </a:cubicBezTo>
                <a:cubicBezTo>
                  <a:pt x="20178" y="3679"/>
                  <a:pt x="20440" y="3475"/>
                  <a:pt x="20389" y="3249"/>
                </a:cubicBezTo>
                <a:cubicBezTo>
                  <a:pt x="20349" y="3072"/>
                  <a:pt x="20171" y="3071"/>
                  <a:pt x="20042" y="3101"/>
                </a:cubicBezTo>
              </a:path>
              <a:path w="3424" h="4118">
                <a:moveTo>
                  <a:pt x="17909" y="4539"/>
                </a:moveTo>
                <a:cubicBezTo>
                  <a:pt x="18025" y="4516"/>
                  <a:pt x="18141" y="4492"/>
                  <a:pt x="18256" y="4465"/>
                </a:cubicBezTo>
              </a:path>
              <a:path w="3424" h="4118">
                <a:moveTo>
                  <a:pt x="18876" y="4217"/>
                </a:moveTo>
                <a:cubicBezTo>
                  <a:pt x="18896" y="4317"/>
                  <a:pt x="18959" y="4379"/>
                  <a:pt x="18976" y="4490"/>
                </a:cubicBezTo>
                <a:cubicBezTo>
                  <a:pt x="18976" y="4491"/>
                  <a:pt x="18976" y="4685"/>
                  <a:pt x="18976" y="4614"/>
                </a:cubicBezTo>
              </a:path>
              <a:path w="3424" h="4118">
                <a:moveTo>
                  <a:pt x="19298" y="4093"/>
                </a:moveTo>
                <a:cubicBezTo>
                  <a:pt x="19433" y="4044"/>
                  <a:pt x="19504" y="4023"/>
                  <a:pt x="19621" y="4093"/>
                </a:cubicBezTo>
                <a:cubicBezTo>
                  <a:pt x="19564" y="4196"/>
                  <a:pt x="19504" y="4232"/>
                  <a:pt x="19397" y="4291"/>
                </a:cubicBezTo>
                <a:cubicBezTo>
                  <a:pt x="19476" y="4271"/>
                  <a:pt x="19554" y="4245"/>
                  <a:pt x="19645" y="4291"/>
                </a:cubicBezTo>
                <a:cubicBezTo>
                  <a:pt x="19820" y="4379"/>
                  <a:pt x="19648" y="4545"/>
                  <a:pt x="19546" y="4589"/>
                </a:cubicBezTo>
                <a:cubicBezTo>
                  <a:pt x="19401" y="4652"/>
                  <a:pt x="19378" y="4617"/>
                  <a:pt x="19348" y="4514"/>
                </a:cubicBezTo>
              </a:path>
              <a:path w="3424" h="4118">
                <a:moveTo>
                  <a:pt x="20092" y="4093"/>
                </a:moveTo>
                <a:cubicBezTo>
                  <a:pt x="20059" y="4043"/>
                  <a:pt x="20176" y="4029"/>
                  <a:pt x="20241" y="4018"/>
                </a:cubicBezTo>
                <a:cubicBezTo>
                  <a:pt x="20257" y="4018"/>
                  <a:pt x="20274" y="4018"/>
                  <a:pt x="20290" y="4018"/>
                </a:cubicBezTo>
                <a:cubicBezTo>
                  <a:pt x="20323" y="4165"/>
                  <a:pt x="20242" y="4255"/>
                  <a:pt x="20141" y="4366"/>
                </a:cubicBezTo>
                <a:cubicBezTo>
                  <a:pt x="20078" y="4429"/>
                  <a:pt x="20061" y="4439"/>
                  <a:pt x="20042" y="4490"/>
                </a:cubicBezTo>
                <a:cubicBezTo>
                  <a:pt x="20194" y="4490"/>
                  <a:pt x="20319" y="4438"/>
                  <a:pt x="20464" y="4415"/>
                </a:cubicBezTo>
                <a:cubicBezTo>
                  <a:pt x="20497" y="4415"/>
                  <a:pt x="20530" y="4415"/>
                  <a:pt x="20563" y="4415"/>
                </a:cubicBezTo>
              </a:path>
              <a:path w="3424" h="4118">
                <a:moveTo>
                  <a:pt x="17909" y="5308"/>
                </a:moveTo>
                <a:cubicBezTo>
                  <a:pt x="17988" y="5229"/>
                  <a:pt x="18050" y="5235"/>
                  <a:pt x="18182" y="5209"/>
                </a:cubicBezTo>
                <a:cubicBezTo>
                  <a:pt x="18699" y="5108"/>
                  <a:pt x="19219" y="5072"/>
                  <a:pt x="19745" y="5060"/>
                </a:cubicBezTo>
                <a:cubicBezTo>
                  <a:pt x="20262" y="5048"/>
                  <a:pt x="20800" y="5054"/>
                  <a:pt x="21307" y="5085"/>
                </a:cubicBezTo>
                <a:cubicBezTo>
                  <a:pt x="21315" y="5085"/>
                  <a:pt x="21324" y="5085"/>
                  <a:pt x="21332" y="5085"/>
                </a:cubicBezTo>
              </a:path>
              <a:path w="3424" h="4118">
                <a:moveTo>
                  <a:pt x="19025" y="2654"/>
                </a:moveTo>
                <a:cubicBezTo>
                  <a:pt x="19071" y="2769"/>
                  <a:pt x="19204" y="2866"/>
                  <a:pt x="19273" y="2977"/>
                </a:cubicBezTo>
                <a:cubicBezTo>
                  <a:pt x="19362" y="3120"/>
                  <a:pt x="19372" y="3237"/>
                  <a:pt x="19372" y="3398"/>
                </a:cubicBezTo>
                <a:cubicBezTo>
                  <a:pt x="19372" y="3458"/>
                  <a:pt x="19387" y="3557"/>
                  <a:pt x="19372" y="3572"/>
                </a:cubicBezTo>
              </a:path>
              <a:path w="3424" h="4118">
                <a:moveTo>
                  <a:pt x="18703" y="2084"/>
                </a:moveTo>
                <a:cubicBezTo>
                  <a:pt x="18809" y="2104"/>
                  <a:pt x="19128" y="2062"/>
                  <a:pt x="19199" y="2108"/>
                </a:cubicBezTo>
                <a:cubicBezTo>
                  <a:pt x="19300" y="2173"/>
                  <a:pt x="19205" y="2561"/>
                  <a:pt x="19199" y="2654"/>
                </a:cubicBezTo>
                <a:cubicBezTo>
                  <a:pt x="19199" y="2728"/>
                  <a:pt x="19199" y="2737"/>
                  <a:pt x="19199" y="2778"/>
                </a:cubicBezTo>
              </a:path>
              <a:path w="3424" h="4118">
                <a:moveTo>
                  <a:pt x="19670" y="2505"/>
                </a:moveTo>
                <a:cubicBezTo>
                  <a:pt x="19646" y="2631"/>
                  <a:pt x="19649" y="2753"/>
                  <a:pt x="19621" y="2877"/>
                </a:cubicBezTo>
              </a:path>
              <a:path w="3424" h="4118">
                <a:moveTo>
                  <a:pt x="19844" y="5308"/>
                </a:moveTo>
                <a:cubicBezTo>
                  <a:pt x="19807" y="5473"/>
                  <a:pt x="19775" y="5635"/>
                  <a:pt x="19769" y="5804"/>
                </a:cubicBezTo>
                <a:cubicBezTo>
                  <a:pt x="19769" y="5821"/>
                  <a:pt x="19769" y="5837"/>
                  <a:pt x="19769" y="5854"/>
                </a:cubicBezTo>
                <a:cubicBezTo>
                  <a:pt x="19904" y="5835"/>
                  <a:pt x="20011" y="5771"/>
                  <a:pt x="20141" y="5730"/>
                </a:cubicBezTo>
                <a:cubicBezTo>
                  <a:pt x="20149" y="5730"/>
                  <a:pt x="20158" y="5730"/>
                  <a:pt x="20166" y="5730"/>
                </a:cubicBezTo>
              </a:path>
              <a:path w="3424" h="4118">
                <a:moveTo>
                  <a:pt x="20191" y="5333"/>
                </a:moveTo>
                <a:cubicBezTo>
                  <a:pt x="20191" y="5489"/>
                  <a:pt x="20122" y="6293"/>
                  <a:pt x="20241" y="6077"/>
                </a:cubicBezTo>
              </a:path>
              <a:path w="3424" h="4118">
                <a:moveTo>
                  <a:pt x="20786" y="5383"/>
                </a:moveTo>
                <a:cubicBezTo>
                  <a:pt x="20671" y="5405"/>
                  <a:pt x="20344" y="5480"/>
                  <a:pt x="20389" y="5680"/>
                </a:cubicBezTo>
                <a:cubicBezTo>
                  <a:pt x="20431" y="5868"/>
                  <a:pt x="20723" y="5889"/>
                  <a:pt x="20737" y="6102"/>
                </a:cubicBezTo>
                <a:cubicBezTo>
                  <a:pt x="20712" y="6176"/>
                  <a:pt x="20704" y="6201"/>
                  <a:pt x="20638" y="6201"/>
                </a:cubicBezTo>
                <a:cubicBezTo>
                  <a:pt x="20546" y="6003"/>
                  <a:pt x="20626" y="5849"/>
                  <a:pt x="20737" y="5655"/>
                </a:cubicBezTo>
                <a:cubicBezTo>
                  <a:pt x="20767" y="5626"/>
                  <a:pt x="20769" y="5615"/>
                  <a:pt x="20712" y="56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67040" y="1919160"/>
            <a:ext cx="357120" cy="339840"/>
          </a:xfrm>
          <a:custGeom>
            <a:avLst/>
            <a:gdLst/>
            <a:ahLst/>
            <a:rect l="l" t="t" r="r" b="b"/>
            <a:pathLst>
              <a:path w="993" h="944">
                <a:moveTo>
                  <a:pt x="8434" y="5705"/>
                </a:moveTo>
                <a:cubicBezTo>
                  <a:pt x="8434" y="5649"/>
                  <a:pt x="8426" y="5572"/>
                  <a:pt x="8384" y="5531"/>
                </a:cubicBezTo>
                <a:cubicBezTo>
                  <a:pt x="8310" y="5458"/>
                  <a:pt x="8160" y="5467"/>
                  <a:pt x="8086" y="5531"/>
                </a:cubicBezTo>
                <a:cubicBezTo>
                  <a:pt x="8003" y="5603"/>
                  <a:pt x="7881" y="5833"/>
                  <a:pt x="8037" y="5904"/>
                </a:cubicBezTo>
                <a:cubicBezTo>
                  <a:pt x="8141" y="5951"/>
                  <a:pt x="8213" y="5810"/>
                  <a:pt x="8260" y="5755"/>
                </a:cubicBezTo>
                <a:cubicBezTo>
                  <a:pt x="8268" y="5730"/>
                  <a:pt x="8277" y="5705"/>
                  <a:pt x="8285" y="5680"/>
                </a:cubicBezTo>
                <a:cubicBezTo>
                  <a:pt x="8285" y="5856"/>
                  <a:pt x="8265" y="6026"/>
                  <a:pt x="8260" y="6201"/>
                </a:cubicBezTo>
                <a:cubicBezTo>
                  <a:pt x="8260" y="6226"/>
                  <a:pt x="8260" y="6251"/>
                  <a:pt x="8260" y="6276"/>
                </a:cubicBezTo>
              </a:path>
              <a:path w="993" h="944">
                <a:moveTo>
                  <a:pt x="8458" y="5655"/>
                </a:moveTo>
                <a:cubicBezTo>
                  <a:pt x="8500" y="5637"/>
                  <a:pt x="8655" y="5550"/>
                  <a:pt x="8682" y="5631"/>
                </a:cubicBezTo>
                <a:cubicBezTo>
                  <a:pt x="8727" y="5763"/>
                  <a:pt x="8597" y="5930"/>
                  <a:pt x="8533" y="6028"/>
                </a:cubicBezTo>
                <a:cubicBezTo>
                  <a:pt x="8489" y="6093"/>
                  <a:pt x="8478" y="6107"/>
                  <a:pt x="8458" y="6152"/>
                </a:cubicBezTo>
                <a:cubicBezTo>
                  <a:pt x="8555" y="6152"/>
                  <a:pt x="8648" y="6148"/>
                  <a:pt x="8731" y="6127"/>
                </a:cubicBezTo>
                <a:cubicBezTo>
                  <a:pt x="8739" y="6127"/>
                  <a:pt x="8748" y="6127"/>
                  <a:pt x="8756" y="6127"/>
                </a:cubicBezTo>
              </a:path>
              <a:path w="993" h="944">
                <a:moveTo>
                  <a:pt x="8855" y="5333"/>
                </a:moveTo>
                <a:cubicBezTo>
                  <a:pt x="8855" y="5393"/>
                  <a:pt x="8835" y="5449"/>
                  <a:pt x="8905" y="5457"/>
                </a:cubicBezTo>
                <a:cubicBezTo>
                  <a:pt x="8980" y="5465"/>
                  <a:pt x="8953" y="5439"/>
                  <a:pt x="8905" y="54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46760" y="625320"/>
            <a:ext cx="1304640" cy="1249560"/>
          </a:xfrm>
          <a:custGeom>
            <a:avLst/>
            <a:gdLst/>
            <a:ahLst/>
            <a:rect l="l" t="t" r="r" b="b"/>
            <a:pathLst>
              <a:path w="3622" h="3474">
                <a:moveTo>
                  <a:pt x="14709" y="2629"/>
                </a:moveTo>
                <a:cubicBezTo>
                  <a:pt x="14675" y="2749"/>
                  <a:pt x="14618" y="2866"/>
                  <a:pt x="14560" y="2977"/>
                </a:cubicBezTo>
                <a:cubicBezTo>
                  <a:pt x="14552" y="2993"/>
                  <a:pt x="14544" y="3010"/>
                  <a:pt x="14536" y="3026"/>
                </a:cubicBezTo>
                <a:cubicBezTo>
                  <a:pt x="14611" y="3007"/>
                  <a:pt x="14618" y="2998"/>
                  <a:pt x="14709" y="3026"/>
                </a:cubicBezTo>
                <a:cubicBezTo>
                  <a:pt x="14761" y="3042"/>
                  <a:pt x="14807" y="3066"/>
                  <a:pt x="14858" y="3076"/>
                </a:cubicBezTo>
              </a:path>
              <a:path w="3622" h="3474">
                <a:moveTo>
                  <a:pt x="14908" y="2580"/>
                </a:moveTo>
                <a:cubicBezTo>
                  <a:pt x="14896" y="2792"/>
                  <a:pt x="14880" y="2993"/>
                  <a:pt x="14833" y="3200"/>
                </a:cubicBezTo>
                <a:cubicBezTo>
                  <a:pt x="14817" y="3270"/>
                  <a:pt x="14774" y="3338"/>
                  <a:pt x="14833" y="3299"/>
                </a:cubicBezTo>
              </a:path>
              <a:path w="3622" h="3474">
                <a:moveTo>
                  <a:pt x="15280" y="2704"/>
                </a:moveTo>
                <a:cubicBezTo>
                  <a:pt x="15161" y="2809"/>
                  <a:pt x="15026" y="3004"/>
                  <a:pt x="15007" y="3175"/>
                </a:cubicBezTo>
                <a:cubicBezTo>
                  <a:pt x="15015" y="3208"/>
                  <a:pt x="15024" y="3241"/>
                  <a:pt x="15032" y="3274"/>
                </a:cubicBezTo>
                <a:cubicBezTo>
                  <a:pt x="15210" y="3346"/>
                  <a:pt x="15391" y="3325"/>
                  <a:pt x="15429" y="3076"/>
                </a:cubicBezTo>
                <a:cubicBezTo>
                  <a:pt x="15475" y="2775"/>
                  <a:pt x="15229" y="2756"/>
                  <a:pt x="15032" y="2803"/>
                </a:cubicBezTo>
              </a:path>
              <a:path w="3622" h="3474">
                <a:moveTo>
                  <a:pt x="13915" y="3448"/>
                </a:moveTo>
                <a:cubicBezTo>
                  <a:pt x="13915" y="3580"/>
                  <a:pt x="13930" y="3748"/>
                  <a:pt x="13866" y="3870"/>
                </a:cubicBezTo>
                <a:cubicBezTo>
                  <a:pt x="13858" y="3870"/>
                  <a:pt x="13849" y="3870"/>
                  <a:pt x="13841" y="3870"/>
                </a:cubicBezTo>
              </a:path>
              <a:path w="3622" h="3474">
                <a:moveTo>
                  <a:pt x="13816" y="3621"/>
                </a:moveTo>
                <a:cubicBezTo>
                  <a:pt x="13948" y="3665"/>
                  <a:pt x="14047" y="3666"/>
                  <a:pt x="14188" y="3671"/>
                </a:cubicBezTo>
              </a:path>
              <a:path w="3622" h="3474">
                <a:moveTo>
                  <a:pt x="14660" y="3597"/>
                </a:moveTo>
                <a:cubicBezTo>
                  <a:pt x="14602" y="3677"/>
                  <a:pt x="14567" y="3747"/>
                  <a:pt x="14560" y="3845"/>
                </a:cubicBezTo>
                <a:cubicBezTo>
                  <a:pt x="14560" y="3853"/>
                  <a:pt x="14560" y="3862"/>
                  <a:pt x="14560" y="3870"/>
                </a:cubicBezTo>
                <a:cubicBezTo>
                  <a:pt x="14704" y="3890"/>
                  <a:pt x="14749" y="3879"/>
                  <a:pt x="14883" y="3820"/>
                </a:cubicBezTo>
              </a:path>
              <a:path w="3622" h="3474">
                <a:moveTo>
                  <a:pt x="14833" y="3547"/>
                </a:moveTo>
                <a:cubicBezTo>
                  <a:pt x="14788" y="3706"/>
                  <a:pt x="14734" y="3860"/>
                  <a:pt x="14684" y="4018"/>
                </a:cubicBezTo>
                <a:cubicBezTo>
                  <a:pt x="14666" y="4092"/>
                  <a:pt x="14658" y="4099"/>
                  <a:pt x="14660" y="4142"/>
                </a:cubicBezTo>
              </a:path>
              <a:path w="3622" h="3474">
                <a:moveTo>
                  <a:pt x="15205" y="3621"/>
                </a:moveTo>
                <a:cubicBezTo>
                  <a:pt x="15135" y="3643"/>
                  <a:pt x="14877" y="3699"/>
                  <a:pt x="14957" y="3845"/>
                </a:cubicBezTo>
                <a:cubicBezTo>
                  <a:pt x="15007" y="3937"/>
                  <a:pt x="15105" y="3997"/>
                  <a:pt x="15156" y="4093"/>
                </a:cubicBezTo>
                <a:cubicBezTo>
                  <a:pt x="15117" y="4119"/>
                  <a:pt x="14943" y="4191"/>
                  <a:pt x="14957" y="4068"/>
                </a:cubicBezTo>
                <a:cubicBezTo>
                  <a:pt x="14980" y="3862"/>
                  <a:pt x="15139" y="3839"/>
                  <a:pt x="15230" y="3696"/>
                </a:cubicBezTo>
                <a:cubicBezTo>
                  <a:pt x="15230" y="3668"/>
                  <a:pt x="15228" y="3657"/>
                  <a:pt x="15205" y="3646"/>
                </a:cubicBezTo>
              </a:path>
              <a:path w="3622" h="3474">
                <a:moveTo>
                  <a:pt x="13742" y="4217"/>
                </a:moveTo>
                <a:cubicBezTo>
                  <a:pt x="13925" y="4217"/>
                  <a:pt x="14104" y="4259"/>
                  <a:pt x="14288" y="4266"/>
                </a:cubicBezTo>
                <a:cubicBezTo>
                  <a:pt x="14596" y="4278"/>
                  <a:pt x="14926" y="4260"/>
                  <a:pt x="15230" y="4316"/>
                </a:cubicBezTo>
                <a:cubicBezTo>
                  <a:pt x="15247" y="4324"/>
                  <a:pt x="15263" y="4333"/>
                  <a:pt x="15280" y="4341"/>
                </a:cubicBezTo>
              </a:path>
              <a:path w="3622" h="3474">
                <a:moveTo>
                  <a:pt x="14412" y="4564"/>
                </a:moveTo>
                <a:cubicBezTo>
                  <a:pt x="14255" y="4546"/>
                  <a:pt x="14132" y="4552"/>
                  <a:pt x="13990" y="4614"/>
                </a:cubicBezTo>
                <a:cubicBezTo>
                  <a:pt x="14022" y="4792"/>
                  <a:pt x="14148" y="4832"/>
                  <a:pt x="14213" y="4986"/>
                </a:cubicBezTo>
                <a:cubicBezTo>
                  <a:pt x="14278" y="5140"/>
                  <a:pt x="14061" y="5080"/>
                  <a:pt x="14015" y="5060"/>
                </a:cubicBezTo>
                <a:cubicBezTo>
                  <a:pt x="14068" y="4889"/>
                  <a:pt x="14195" y="4823"/>
                  <a:pt x="14337" y="4713"/>
                </a:cubicBezTo>
                <a:cubicBezTo>
                  <a:pt x="14354" y="4696"/>
                  <a:pt x="14370" y="4680"/>
                  <a:pt x="14387" y="4663"/>
                </a:cubicBezTo>
              </a:path>
              <a:path w="3622" h="3474">
                <a:moveTo>
                  <a:pt x="14808" y="4638"/>
                </a:moveTo>
                <a:cubicBezTo>
                  <a:pt x="14707" y="4638"/>
                  <a:pt x="14594" y="4643"/>
                  <a:pt x="14511" y="4713"/>
                </a:cubicBezTo>
                <a:cubicBezTo>
                  <a:pt x="14494" y="4738"/>
                  <a:pt x="14478" y="4762"/>
                  <a:pt x="14461" y="4787"/>
                </a:cubicBezTo>
                <a:cubicBezTo>
                  <a:pt x="14521" y="4878"/>
                  <a:pt x="14690" y="4978"/>
                  <a:pt x="14709" y="5085"/>
                </a:cubicBezTo>
                <a:cubicBezTo>
                  <a:pt x="14741" y="5266"/>
                  <a:pt x="14547" y="5177"/>
                  <a:pt x="14486" y="5135"/>
                </a:cubicBezTo>
                <a:cubicBezTo>
                  <a:pt x="14549" y="4990"/>
                  <a:pt x="14805" y="4943"/>
                  <a:pt x="14784" y="4787"/>
                </a:cubicBezTo>
                <a:cubicBezTo>
                  <a:pt x="14759" y="4779"/>
                  <a:pt x="14734" y="4770"/>
                  <a:pt x="14709" y="4762"/>
                </a:cubicBezTo>
              </a:path>
              <a:path w="3622" h="3474">
                <a:moveTo>
                  <a:pt x="16272" y="2505"/>
                </a:moveTo>
                <a:cubicBezTo>
                  <a:pt x="16272" y="2443"/>
                  <a:pt x="16150" y="2747"/>
                  <a:pt x="16148" y="2753"/>
                </a:cubicBezTo>
                <a:cubicBezTo>
                  <a:pt x="16121" y="2825"/>
                  <a:pt x="16099" y="2866"/>
                  <a:pt x="16123" y="2877"/>
                </a:cubicBezTo>
              </a:path>
              <a:path w="3622" h="3474">
                <a:moveTo>
                  <a:pt x="16718" y="2356"/>
                </a:moveTo>
                <a:cubicBezTo>
                  <a:pt x="16658" y="2390"/>
                  <a:pt x="16499" y="2449"/>
                  <a:pt x="16495" y="2530"/>
                </a:cubicBezTo>
                <a:cubicBezTo>
                  <a:pt x="16491" y="2610"/>
                  <a:pt x="16620" y="2680"/>
                  <a:pt x="16594" y="2753"/>
                </a:cubicBezTo>
                <a:cubicBezTo>
                  <a:pt x="16586" y="2753"/>
                  <a:pt x="16578" y="2753"/>
                  <a:pt x="16570" y="2753"/>
                </a:cubicBezTo>
                <a:cubicBezTo>
                  <a:pt x="16511" y="2768"/>
                  <a:pt x="16400" y="2759"/>
                  <a:pt x="16495" y="2654"/>
                </a:cubicBezTo>
                <a:cubicBezTo>
                  <a:pt x="16583" y="2556"/>
                  <a:pt x="16738" y="2518"/>
                  <a:pt x="16818" y="2406"/>
                </a:cubicBezTo>
                <a:cubicBezTo>
                  <a:pt x="16818" y="2381"/>
                  <a:pt x="16818" y="2373"/>
                  <a:pt x="16793" y="2381"/>
                </a:cubicBezTo>
              </a:path>
              <a:path w="3622" h="3474">
                <a:moveTo>
                  <a:pt x="17214" y="2356"/>
                </a:moveTo>
                <a:cubicBezTo>
                  <a:pt x="17139" y="2418"/>
                  <a:pt x="17059" y="2566"/>
                  <a:pt x="17041" y="2679"/>
                </a:cubicBezTo>
                <a:cubicBezTo>
                  <a:pt x="17041" y="2712"/>
                  <a:pt x="17041" y="2745"/>
                  <a:pt x="17041" y="2778"/>
                </a:cubicBezTo>
                <a:cubicBezTo>
                  <a:pt x="17165" y="2831"/>
                  <a:pt x="17270" y="2782"/>
                  <a:pt x="17338" y="2654"/>
                </a:cubicBezTo>
                <a:cubicBezTo>
                  <a:pt x="17404" y="2530"/>
                  <a:pt x="17348" y="2506"/>
                  <a:pt x="17264" y="2456"/>
                </a:cubicBezTo>
              </a:path>
              <a:path w="3622" h="3474">
                <a:moveTo>
                  <a:pt x="15776" y="3125"/>
                </a:moveTo>
                <a:cubicBezTo>
                  <a:pt x="15875" y="3125"/>
                  <a:pt x="15954" y="3126"/>
                  <a:pt x="16049" y="3101"/>
                </a:cubicBezTo>
              </a:path>
              <a:path w="3622" h="3474">
                <a:moveTo>
                  <a:pt x="16669" y="3150"/>
                </a:moveTo>
                <a:cubicBezTo>
                  <a:pt x="16594" y="3135"/>
                  <a:pt x="16527" y="3125"/>
                  <a:pt x="16446" y="3125"/>
                </a:cubicBezTo>
                <a:cubicBezTo>
                  <a:pt x="16463" y="3233"/>
                  <a:pt x="16533" y="3252"/>
                  <a:pt x="16570" y="3349"/>
                </a:cubicBezTo>
                <a:cubicBezTo>
                  <a:pt x="16570" y="3390"/>
                  <a:pt x="16578" y="3406"/>
                  <a:pt x="16545" y="3398"/>
                </a:cubicBezTo>
                <a:cubicBezTo>
                  <a:pt x="16475" y="3390"/>
                  <a:pt x="16417" y="3367"/>
                  <a:pt x="16520" y="3299"/>
                </a:cubicBezTo>
                <a:cubicBezTo>
                  <a:pt x="16592" y="3251"/>
                  <a:pt x="16634" y="3234"/>
                  <a:pt x="16694" y="3175"/>
                </a:cubicBezTo>
              </a:path>
              <a:path w="3622" h="3474">
                <a:moveTo>
                  <a:pt x="17041" y="3051"/>
                </a:moveTo>
                <a:cubicBezTo>
                  <a:pt x="16985" y="3074"/>
                  <a:pt x="16816" y="3123"/>
                  <a:pt x="16867" y="3225"/>
                </a:cubicBezTo>
                <a:cubicBezTo>
                  <a:pt x="16912" y="3313"/>
                  <a:pt x="17063" y="3238"/>
                  <a:pt x="17090" y="3299"/>
                </a:cubicBezTo>
                <a:cubicBezTo>
                  <a:pt x="17111" y="3345"/>
                  <a:pt x="17066" y="3348"/>
                  <a:pt x="17066" y="3398"/>
                </a:cubicBezTo>
                <a:cubicBezTo>
                  <a:pt x="17066" y="3406"/>
                  <a:pt x="17066" y="3415"/>
                  <a:pt x="17066" y="3423"/>
                </a:cubicBezTo>
                <a:cubicBezTo>
                  <a:pt x="17009" y="3423"/>
                  <a:pt x="16993" y="3389"/>
                  <a:pt x="16966" y="3373"/>
                </a:cubicBezTo>
                <a:cubicBezTo>
                  <a:pt x="16878" y="3321"/>
                  <a:pt x="17022" y="3241"/>
                  <a:pt x="17066" y="3200"/>
                </a:cubicBezTo>
                <a:cubicBezTo>
                  <a:pt x="17136" y="3135"/>
                  <a:pt x="17169" y="3133"/>
                  <a:pt x="17140" y="3076"/>
                </a:cubicBezTo>
              </a:path>
              <a:path w="3622" h="3474">
                <a:moveTo>
                  <a:pt x="15900" y="3572"/>
                </a:moveTo>
                <a:cubicBezTo>
                  <a:pt x="16232" y="3572"/>
                  <a:pt x="16561" y="3584"/>
                  <a:pt x="16892" y="3597"/>
                </a:cubicBezTo>
                <a:cubicBezTo>
                  <a:pt x="16999" y="3601"/>
                  <a:pt x="17107" y="3597"/>
                  <a:pt x="17214" y="3597"/>
                </a:cubicBezTo>
              </a:path>
              <a:path w="3622" h="3474">
                <a:moveTo>
                  <a:pt x="16520" y="3944"/>
                </a:moveTo>
                <a:cubicBezTo>
                  <a:pt x="16575" y="3926"/>
                  <a:pt x="16571" y="3855"/>
                  <a:pt x="16545" y="3795"/>
                </a:cubicBezTo>
                <a:cubicBezTo>
                  <a:pt x="16498" y="3687"/>
                  <a:pt x="16359" y="3874"/>
                  <a:pt x="16346" y="3894"/>
                </a:cubicBezTo>
                <a:cubicBezTo>
                  <a:pt x="16268" y="4012"/>
                  <a:pt x="16312" y="4148"/>
                  <a:pt x="16470" y="4068"/>
                </a:cubicBezTo>
                <a:cubicBezTo>
                  <a:pt x="16515" y="4046"/>
                  <a:pt x="16520" y="4003"/>
                  <a:pt x="16545" y="3969"/>
                </a:cubicBezTo>
                <a:cubicBezTo>
                  <a:pt x="16533" y="4094"/>
                  <a:pt x="16513" y="4217"/>
                  <a:pt x="16495" y="4341"/>
                </a:cubicBezTo>
                <a:cubicBezTo>
                  <a:pt x="16495" y="4349"/>
                  <a:pt x="16495" y="4358"/>
                  <a:pt x="16495" y="4366"/>
                </a:cubicBezTo>
              </a:path>
              <a:path w="3622" h="3474">
                <a:moveTo>
                  <a:pt x="16818" y="4018"/>
                </a:moveTo>
                <a:cubicBezTo>
                  <a:pt x="16868" y="4000"/>
                  <a:pt x="16889" y="3994"/>
                  <a:pt x="16942" y="3994"/>
                </a:cubicBezTo>
                <a:cubicBezTo>
                  <a:pt x="16942" y="4123"/>
                  <a:pt x="16904" y="4172"/>
                  <a:pt x="16818" y="4266"/>
                </a:cubicBezTo>
                <a:cubicBezTo>
                  <a:pt x="16779" y="4305"/>
                  <a:pt x="16762" y="4307"/>
                  <a:pt x="16768" y="4341"/>
                </a:cubicBezTo>
                <a:cubicBezTo>
                  <a:pt x="16853" y="4351"/>
                  <a:pt x="16927" y="4366"/>
                  <a:pt x="17016" y="4366"/>
                </a:cubicBezTo>
              </a:path>
              <a:path w="3622" h="3474">
                <a:moveTo>
                  <a:pt x="16545" y="2332"/>
                </a:moveTo>
                <a:cubicBezTo>
                  <a:pt x="16594" y="2395"/>
                  <a:pt x="16599" y="2499"/>
                  <a:pt x="16619" y="2580"/>
                </a:cubicBezTo>
                <a:cubicBezTo>
                  <a:pt x="16639" y="2660"/>
                  <a:pt x="16661" y="2728"/>
                  <a:pt x="16694" y="2803"/>
                </a:cubicBezTo>
              </a:path>
              <a:path w="3622" h="3474">
                <a:moveTo>
                  <a:pt x="16545" y="1761"/>
                </a:moveTo>
                <a:cubicBezTo>
                  <a:pt x="16553" y="1753"/>
                  <a:pt x="16562" y="1744"/>
                  <a:pt x="16570" y="1736"/>
                </a:cubicBezTo>
                <a:cubicBezTo>
                  <a:pt x="16593" y="1748"/>
                  <a:pt x="16735" y="1749"/>
                  <a:pt x="16743" y="1761"/>
                </a:cubicBezTo>
                <a:cubicBezTo>
                  <a:pt x="16796" y="1841"/>
                  <a:pt x="16813" y="1993"/>
                  <a:pt x="16793" y="2084"/>
                </a:cubicBezTo>
                <a:cubicBezTo>
                  <a:pt x="16782" y="2136"/>
                  <a:pt x="16768" y="2154"/>
                  <a:pt x="16768" y="2208"/>
                </a:cubicBezTo>
              </a:path>
              <a:path w="3622" h="3474">
                <a:moveTo>
                  <a:pt x="17016" y="2183"/>
                </a:moveTo>
                <a:cubicBezTo>
                  <a:pt x="16994" y="2262"/>
                  <a:pt x="16968" y="2334"/>
                  <a:pt x="16942" y="2406"/>
                </a:cubicBezTo>
                <a:cubicBezTo>
                  <a:pt x="16942" y="2414"/>
                  <a:pt x="16942" y="2423"/>
                  <a:pt x="16942" y="24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31040" y="2000160"/>
            <a:ext cx="696960" cy="1768680"/>
          </a:xfrm>
          <a:custGeom>
            <a:avLst/>
            <a:gdLst/>
            <a:ahLst/>
            <a:rect l="l" t="t" r="r" b="b"/>
            <a:pathLst>
              <a:path w="1935" h="4913">
                <a:moveTo>
                  <a:pt x="21506" y="6598"/>
                </a:moveTo>
                <a:cubicBezTo>
                  <a:pt x="21506" y="6531"/>
                  <a:pt x="21521" y="6458"/>
                  <a:pt x="21481" y="6400"/>
                </a:cubicBezTo>
                <a:cubicBezTo>
                  <a:pt x="21396" y="6277"/>
                  <a:pt x="21269" y="6337"/>
                  <a:pt x="21183" y="6424"/>
                </a:cubicBezTo>
                <a:cubicBezTo>
                  <a:pt x="21067" y="6541"/>
                  <a:pt x="21031" y="6643"/>
                  <a:pt x="21109" y="6772"/>
                </a:cubicBezTo>
                <a:cubicBezTo>
                  <a:pt x="21266" y="6713"/>
                  <a:pt x="21331" y="6650"/>
                  <a:pt x="21406" y="6499"/>
                </a:cubicBezTo>
                <a:cubicBezTo>
                  <a:pt x="21406" y="6491"/>
                  <a:pt x="21406" y="6482"/>
                  <a:pt x="21406" y="6474"/>
                </a:cubicBezTo>
                <a:cubicBezTo>
                  <a:pt x="21406" y="6648"/>
                  <a:pt x="21406" y="7119"/>
                  <a:pt x="21406" y="6945"/>
                </a:cubicBezTo>
              </a:path>
              <a:path w="1935" h="4913">
                <a:moveTo>
                  <a:pt x="21580" y="6400"/>
                </a:moveTo>
                <a:cubicBezTo>
                  <a:pt x="21672" y="6363"/>
                  <a:pt x="21805" y="6290"/>
                  <a:pt x="21903" y="6350"/>
                </a:cubicBezTo>
                <a:cubicBezTo>
                  <a:pt x="22040" y="6433"/>
                  <a:pt x="21811" y="6670"/>
                  <a:pt x="21779" y="6722"/>
                </a:cubicBezTo>
                <a:cubicBezTo>
                  <a:pt x="21735" y="6809"/>
                  <a:pt x="21728" y="6833"/>
                  <a:pt x="21679" y="6871"/>
                </a:cubicBezTo>
                <a:cubicBezTo>
                  <a:pt x="21788" y="6865"/>
                  <a:pt x="21893" y="6852"/>
                  <a:pt x="22002" y="6846"/>
                </a:cubicBezTo>
              </a:path>
              <a:path w="1935" h="4913">
                <a:moveTo>
                  <a:pt x="20563" y="7441"/>
                </a:moveTo>
                <a:cubicBezTo>
                  <a:pt x="20569" y="7478"/>
                  <a:pt x="20669" y="7822"/>
                  <a:pt x="20662" y="7838"/>
                </a:cubicBezTo>
                <a:cubicBezTo>
                  <a:pt x="20654" y="7830"/>
                  <a:pt x="20646" y="7821"/>
                  <a:pt x="20638" y="7813"/>
                </a:cubicBezTo>
              </a:path>
              <a:path w="1935" h="4913">
                <a:moveTo>
                  <a:pt x="20365" y="7689"/>
                </a:moveTo>
                <a:cubicBezTo>
                  <a:pt x="20558" y="7639"/>
                  <a:pt x="20728" y="7570"/>
                  <a:pt x="20910" y="7491"/>
                </a:cubicBezTo>
              </a:path>
              <a:path w="1935" h="4913">
                <a:moveTo>
                  <a:pt x="20985" y="7367"/>
                </a:moveTo>
                <a:cubicBezTo>
                  <a:pt x="20993" y="7422"/>
                  <a:pt x="21015" y="7521"/>
                  <a:pt x="21059" y="7565"/>
                </a:cubicBezTo>
                <a:cubicBezTo>
                  <a:pt x="21112" y="7618"/>
                  <a:pt x="21242" y="7568"/>
                  <a:pt x="21282" y="7516"/>
                </a:cubicBezTo>
                <a:cubicBezTo>
                  <a:pt x="21290" y="7491"/>
                  <a:pt x="21299" y="7466"/>
                  <a:pt x="21307" y="7441"/>
                </a:cubicBezTo>
              </a:path>
              <a:path w="1935" h="4913">
                <a:moveTo>
                  <a:pt x="21233" y="7218"/>
                </a:moveTo>
                <a:cubicBezTo>
                  <a:pt x="21240" y="7353"/>
                  <a:pt x="21258" y="7479"/>
                  <a:pt x="21258" y="7615"/>
                </a:cubicBezTo>
                <a:cubicBezTo>
                  <a:pt x="21258" y="7665"/>
                  <a:pt x="21258" y="7682"/>
                  <a:pt x="21258" y="7615"/>
                </a:cubicBezTo>
              </a:path>
              <a:path w="1935" h="4913">
                <a:moveTo>
                  <a:pt x="21580" y="7094"/>
                </a:moveTo>
                <a:cubicBezTo>
                  <a:pt x="21451" y="7148"/>
                  <a:pt x="21395" y="7192"/>
                  <a:pt x="21332" y="7317"/>
                </a:cubicBezTo>
                <a:cubicBezTo>
                  <a:pt x="21419" y="7386"/>
                  <a:pt x="21670" y="7473"/>
                  <a:pt x="21704" y="7590"/>
                </a:cubicBezTo>
                <a:cubicBezTo>
                  <a:pt x="21696" y="7615"/>
                  <a:pt x="21687" y="7640"/>
                  <a:pt x="21679" y="7665"/>
                </a:cubicBezTo>
                <a:cubicBezTo>
                  <a:pt x="21518" y="7700"/>
                  <a:pt x="21506" y="7616"/>
                  <a:pt x="21530" y="7466"/>
                </a:cubicBezTo>
                <a:cubicBezTo>
                  <a:pt x="21544" y="7377"/>
                  <a:pt x="21679" y="7233"/>
                  <a:pt x="21679" y="7169"/>
                </a:cubicBezTo>
                <a:cubicBezTo>
                  <a:pt x="21671" y="7169"/>
                  <a:pt x="21662" y="7169"/>
                  <a:pt x="21654" y="7169"/>
                </a:cubicBezTo>
              </a:path>
              <a:path w="1935" h="4913">
                <a:moveTo>
                  <a:pt x="20687" y="8111"/>
                </a:moveTo>
                <a:cubicBezTo>
                  <a:pt x="21027" y="7998"/>
                  <a:pt x="21353" y="7954"/>
                  <a:pt x="21704" y="7888"/>
                </a:cubicBezTo>
                <a:cubicBezTo>
                  <a:pt x="21814" y="7867"/>
                  <a:pt x="22041" y="7855"/>
                  <a:pt x="22151" y="7813"/>
                </a:cubicBezTo>
                <a:cubicBezTo>
                  <a:pt x="22151" y="7805"/>
                  <a:pt x="22151" y="7797"/>
                  <a:pt x="22151" y="7789"/>
                </a:cubicBezTo>
              </a:path>
              <a:path w="1935" h="4913">
                <a:moveTo>
                  <a:pt x="22076" y="8136"/>
                </a:moveTo>
                <a:cubicBezTo>
                  <a:pt x="22020" y="8136"/>
                  <a:pt x="21998" y="8146"/>
                  <a:pt x="21952" y="8161"/>
                </a:cubicBezTo>
                <a:cubicBezTo>
                  <a:pt x="21908" y="8176"/>
                  <a:pt x="21887" y="8214"/>
                  <a:pt x="21878" y="8260"/>
                </a:cubicBezTo>
                <a:cubicBezTo>
                  <a:pt x="21861" y="8344"/>
                  <a:pt x="21856" y="8479"/>
                  <a:pt x="21927" y="8533"/>
                </a:cubicBezTo>
                <a:cubicBezTo>
                  <a:pt x="22012" y="8597"/>
                  <a:pt x="22156" y="8549"/>
                  <a:pt x="22225" y="8483"/>
                </a:cubicBezTo>
                <a:cubicBezTo>
                  <a:pt x="22281" y="8429"/>
                  <a:pt x="22345" y="8272"/>
                  <a:pt x="22275" y="8210"/>
                </a:cubicBezTo>
                <a:cubicBezTo>
                  <a:pt x="22180" y="8126"/>
                  <a:pt x="22063" y="8160"/>
                  <a:pt x="21952" y="8186"/>
                </a:cubicBezTo>
              </a:path>
              <a:path w="1935" h="4913">
                <a:moveTo>
                  <a:pt x="21208" y="5556"/>
                </a:moveTo>
                <a:cubicBezTo>
                  <a:pt x="21208" y="5763"/>
                  <a:pt x="21208" y="5969"/>
                  <a:pt x="21208" y="6176"/>
                </a:cubicBezTo>
              </a:path>
              <a:path w="1935" h="4913">
                <a:moveTo>
                  <a:pt x="20786" y="8334"/>
                </a:moveTo>
                <a:cubicBezTo>
                  <a:pt x="20811" y="8334"/>
                  <a:pt x="20819" y="8334"/>
                  <a:pt x="20811" y="8310"/>
                </a:cubicBezTo>
                <a:cubicBezTo>
                  <a:pt x="20835" y="8448"/>
                  <a:pt x="20840" y="8593"/>
                  <a:pt x="20861" y="8731"/>
                </a:cubicBezTo>
                <a:cubicBezTo>
                  <a:pt x="20883" y="8796"/>
                  <a:pt x="20891" y="8811"/>
                  <a:pt x="20886" y="8855"/>
                </a:cubicBezTo>
              </a:path>
              <a:path w="1935" h="4913">
                <a:moveTo>
                  <a:pt x="21109" y="8310"/>
                </a:moveTo>
                <a:cubicBezTo>
                  <a:pt x="21100" y="8360"/>
                  <a:pt x="21016" y="8499"/>
                  <a:pt x="21084" y="8533"/>
                </a:cubicBezTo>
                <a:cubicBezTo>
                  <a:pt x="21123" y="8553"/>
                  <a:pt x="21265" y="8497"/>
                  <a:pt x="21307" y="8483"/>
                </a:cubicBezTo>
              </a:path>
              <a:path w="1935" h="4913">
                <a:moveTo>
                  <a:pt x="21258" y="8235"/>
                </a:moveTo>
                <a:cubicBezTo>
                  <a:pt x="21280" y="8328"/>
                  <a:pt x="21327" y="8434"/>
                  <a:pt x="21357" y="8533"/>
                </a:cubicBezTo>
                <a:cubicBezTo>
                  <a:pt x="21382" y="8614"/>
                  <a:pt x="21414" y="8678"/>
                  <a:pt x="21431" y="8756"/>
                </a:cubicBezTo>
              </a:path>
              <a:path w="1935" h="4913">
                <a:moveTo>
                  <a:pt x="20563" y="9227"/>
                </a:moveTo>
                <a:cubicBezTo>
                  <a:pt x="20619" y="9339"/>
                  <a:pt x="20666" y="9450"/>
                  <a:pt x="20687" y="9575"/>
                </a:cubicBezTo>
                <a:cubicBezTo>
                  <a:pt x="20687" y="9616"/>
                  <a:pt x="20695" y="9632"/>
                  <a:pt x="20662" y="9624"/>
                </a:cubicBezTo>
              </a:path>
              <a:path w="1935" h="4913">
                <a:moveTo>
                  <a:pt x="20489" y="9500"/>
                </a:moveTo>
                <a:cubicBezTo>
                  <a:pt x="20630" y="9441"/>
                  <a:pt x="20770" y="9388"/>
                  <a:pt x="20910" y="9327"/>
                </a:cubicBezTo>
              </a:path>
              <a:path w="1935" h="4913">
                <a:moveTo>
                  <a:pt x="21109" y="9128"/>
                </a:moveTo>
                <a:cubicBezTo>
                  <a:pt x="21115" y="9151"/>
                  <a:pt x="21137" y="9322"/>
                  <a:pt x="21158" y="9327"/>
                </a:cubicBezTo>
                <a:cubicBezTo>
                  <a:pt x="21298" y="9362"/>
                  <a:pt x="21339" y="9256"/>
                  <a:pt x="21382" y="9153"/>
                </a:cubicBezTo>
              </a:path>
              <a:path w="1935" h="4913">
                <a:moveTo>
                  <a:pt x="21307" y="9054"/>
                </a:moveTo>
                <a:cubicBezTo>
                  <a:pt x="21316" y="9206"/>
                  <a:pt x="21337" y="9361"/>
                  <a:pt x="21406" y="9500"/>
                </a:cubicBezTo>
                <a:cubicBezTo>
                  <a:pt x="21414" y="9508"/>
                  <a:pt x="21423" y="9517"/>
                  <a:pt x="21431" y="9525"/>
                </a:cubicBezTo>
              </a:path>
              <a:path w="1935" h="4913">
                <a:moveTo>
                  <a:pt x="21754" y="9029"/>
                </a:moveTo>
                <a:cubicBezTo>
                  <a:pt x="21713" y="9144"/>
                  <a:pt x="21649" y="9369"/>
                  <a:pt x="21853" y="9401"/>
                </a:cubicBezTo>
                <a:cubicBezTo>
                  <a:pt x="22014" y="9426"/>
                  <a:pt x="22129" y="9205"/>
                  <a:pt x="22076" y="9079"/>
                </a:cubicBezTo>
                <a:cubicBezTo>
                  <a:pt x="22026" y="8960"/>
                  <a:pt x="21896" y="9053"/>
                  <a:pt x="21828" y="9079"/>
                </a:cubicBezTo>
              </a:path>
              <a:path w="1935" h="4913">
                <a:moveTo>
                  <a:pt x="20786" y="10071"/>
                </a:moveTo>
                <a:cubicBezTo>
                  <a:pt x="21050" y="9957"/>
                  <a:pt x="21311" y="9851"/>
                  <a:pt x="21580" y="9748"/>
                </a:cubicBezTo>
                <a:cubicBezTo>
                  <a:pt x="21737" y="9688"/>
                  <a:pt x="21878" y="9624"/>
                  <a:pt x="22027" y="9550"/>
                </a:cubicBezTo>
              </a:path>
              <a:path w="1935" h="4913">
                <a:moveTo>
                  <a:pt x="20985" y="9996"/>
                </a:moveTo>
                <a:cubicBezTo>
                  <a:pt x="21032" y="10117"/>
                  <a:pt x="21116" y="10310"/>
                  <a:pt x="21109" y="10443"/>
                </a:cubicBezTo>
                <a:cubicBezTo>
                  <a:pt x="21076" y="10476"/>
                  <a:pt x="21076" y="10476"/>
                  <a:pt x="21134" y="10418"/>
                </a:cubicBezTo>
              </a:path>
              <a:path w="1935" h="4913">
                <a:moveTo>
                  <a:pt x="21530" y="9922"/>
                </a:moveTo>
                <a:cubicBezTo>
                  <a:pt x="21427" y="9977"/>
                  <a:pt x="21367" y="10018"/>
                  <a:pt x="21282" y="10096"/>
                </a:cubicBezTo>
                <a:cubicBezTo>
                  <a:pt x="21375" y="10202"/>
                  <a:pt x="21510" y="10162"/>
                  <a:pt x="21630" y="10244"/>
                </a:cubicBezTo>
                <a:cubicBezTo>
                  <a:pt x="21657" y="10300"/>
                  <a:pt x="21665" y="10322"/>
                  <a:pt x="21654" y="10368"/>
                </a:cubicBezTo>
                <a:cubicBezTo>
                  <a:pt x="21538" y="10393"/>
                  <a:pt x="21505" y="10397"/>
                  <a:pt x="21406" y="10344"/>
                </a:cubicBezTo>
                <a:cubicBezTo>
                  <a:pt x="21434" y="10195"/>
                  <a:pt x="21524" y="10137"/>
                  <a:pt x="21580" y="9996"/>
                </a:cubicBezTo>
                <a:cubicBezTo>
                  <a:pt x="21580" y="9988"/>
                  <a:pt x="21580" y="9979"/>
                  <a:pt x="21580" y="9971"/>
                </a:cubicBezTo>
              </a:path>
              <a:path w="1935" h="4913">
                <a:moveTo>
                  <a:pt x="22002" y="9798"/>
                </a:moveTo>
                <a:cubicBezTo>
                  <a:pt x="21923" y="9935"/>
                  <a:pt x="21888" y="10038"/>
                  <a:pt x="21878" y="10195"/>
                </a:cubicBezTo>
                <a:cubicBezTo>
                  <a:pt x="22023" y="10218"/>
                  <a:pt x="22156" y="10179"/>
                  <a:pt x="22225" y="10021"/>
                </a:cubicBezTo>
                <a:cubicBezTo>
                  <a:pt x="22299" y="9851"/>
                  <a:pt x="21977" y="9897"/>
                  <a:pt x="21903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12720" y="457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1676520"/>
            <a:ext cx="3429000" cy="3429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066680" y="3733560"/>
            <a:ext cx="518184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905120" y="1523520"/>
            <a:ext cx="2438280" cy="403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40080" y="2558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38440" y="4616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9760" y="3397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48948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266688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10000" y="3017880"/>
            <a:ext cx="222120" cy="339840"/>
          </a:xfrm>
          <a:custGeom>
            <a:avLst/>
            <a:gdLst/>
            <a:ahLst/>
            <a:rect l="l" t="t" r="r" b="b"/>
            <a:pathLst>
              <a:path w="621" h="944">
                <a:moveTo>
                  <a:pt x="9798" y="8706"/>
                </a:moveTo>
                <a:cubicBezTo>
                  <a:pt x="9752" y="8752"/>
                  <a:pt x="9748" y="8764"/>
                  <a:pt x="9748" y="8830"/>
                </a:cubicBezTo>
                <a:cubicBezTo>
                  <a:pt x="9748" y="8912"/>
                  <a:pt x="9763" y="8979"/>
                  <a:pt x="9773" y="9054"/>
                </a:cubicBezTo>
                <a:cubicBezTo>
                  <a:pt x="9786" y="9150"/>
                  <a:pt x="9775" y="9170"/>
                  <a:pt x="9823" y="9252"/>
                </a:cubicBezTo>
                <a:cubicBezTo>
                  <a:pt x="9872" y="9335"/>
                  <a:pt x="9931" y="9351"/>
                  <a:pt x="10021" y="9302"/>
                </a:cubicBezTo>
                <a:cubicBezTo>
                  <a:pt x="10087" y="9266"/>
                  <a:pt x="10193" y="9169"/>
                  <a:pt x="10170" y="9079"/>
                </a:cubicBezTo>
                <a:cubicBezTo>
                  <a:pt x="10148" y="9035"/>
                  <a:pt x="10145" y="9023"/>
                  <a:pt x="10120" y="9004"/>
                </a:cubicBezTo>
                <a:cubicBezTo>
                  <a:pt x="10040" y="9004"/>
                  <a:pt x="10030" y="9106"/>
                  <a:pt x="10021" y="9178"/>
                </a:cubicBezTo>
                <a:cubicBezTo>
                  <a:pt x="10006" y="9302"/>
                  <a:pt x="10027" y="9358"/>
                  <a:pt x="10120" y="9277"/>
                </a:cubicBezTo>
              </a:path>
              <a:path w="621" h="944">
                <a:moveTo>
                  <a:pt x="10120" y="8607"/>
                </a:moveTo>
                <a:cubicBezTo>
                  <a:pt x="10120" y="8700"/>
                  <a:pt x="10183" y="8771"/>
                  <a:pt x="10220" y="8855"/>
                </a:cubicBezTo>
                <a:cubicBezTo>
                  <a:pt x="10262" y="8952"/>
                  <a:pt x="10331" y="9058"/>
                  <a:pt x="10368" y="9153"/>
                </a:cubicBezTo>
                <a:cubicBezTo>
                  <a:pt x="10368" y="9161"/>
                  <a:pt x="10368" y="9170"/>
                  <a:pt x="10368" y="9178"/>
                </a:cubicBezTo>
              </a:path>
              <a:path w="621" h="944">
                <a:moveTo>
                  <a:pt x="10120" y="8434"/>
                </a:moveTo>
                <a:cubicBezTo>
                  <a:pt x="10130" y="8484"/>
                  <a:pt x="10171" y="8561"/>
                  <a:pt x="10220" y="8483"/>
                </a:cubicBezTo>
                <a:cubicBezTo>
                  <a:pt x="10244" y="8444"/>
                  <a:pt x="10228" y="8396"/>
                  <a:pt x="10220" y="8384"/>
                </a:cubicBezTo>
                <a:cubicBezTo>
                  <a:pt x="10185" y="8384"/>
                  <a:pt x="10167" y="8389"/>
                  <a:pt x="10145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13080" y="1724040"/>
            <a:ext cx="250920" cy="650880"/>
          </a:xfrm>
          <a:custGeom>
            <a:avLst/>
            <a:gdLst/>
            <a:ahLst/>
            <a:rect l="l" t="t" r="r" b="b"/>
            <a:pathLst>
              <a:path w="695" h="1812">
                <a:moveTo>
                  <a:pt x="9227" y="5804"/>
                </a:moveTo>
                <a:cubicBezTo>
                  <a:pt x="9153" y="5778"/>
                  <a:pt x="9232" y="5877"/>
                  <a:pt x="9252" y="5978"/>
                </a:cubicBezTo>
                <a:cubicBezTo>
                  <a:pt x="9291" y="6176"/>
                  <a:pt x="9289" y="6367"/>
                  <a:pt x="9376" y="6548"/>
                </a:cubicBezTo>
                <a:cubicBezTo>
                  <a:pt x="9384" y="6565"/>
                  <a:pt x="9393" y="6581"/>
                  <a:pt x="9401" y="6598"/>
                </a:cubicBezTo>
                <a:cubicBezTo>
                  <a:pt x="9529" y="6491"/>
                  <a:pt x="9600" y="6389"/>
                  <a:pt x="9649" y="6226"/>
                </a:cubicBezTo>
                <a:cubicBezTo>
                  <a:pt x="9672" y="6134"/>
                  <a:pt x="9683" y="6109"/>
                  <a:pt x="9649" y="6052"/>
                </a:cubicBezTo>
                <a:cubicBezTo>
                  <a:pt x="9596" y="6001"/>
                  <a:pt x="9536" y="6105"/>
                  <a:pt x="9525" y="6176"/>
                </a:cubicBezTo>
                <a:cubicBezTo>
                  <a:pt x="9510" y="6277"/>
                  <a:pt x="9474" y="6458"/>
                  <a:pt x="9575" y="6375"/>
                </a:cubicBezTo>
              </a:path>
              <a:path w="695" h="1812">
                <a:moveTo>
                  <a:pt x="9624" y="5383"/>
                </a:moveTo>
                <a:cubicBezTo>
                  <a:pt x="9727" y="5459"/>
                  <a:pt x="9758" y="5701"/>
                  <a:pt x="9798" y="5829"/>
                </a:cubicBezTo>
                <a:cubicBezTo>
                  <a:pt x="9815" y="5883"/>
                  <a:pt x="9872" y="6127"/>
                  <a:pt x="9897" y="6102"/>
                </a:cubicBezTo>
              </a:path>
              <a:path w="695" h="1812">
                <a:moveTo>
                  <a:pt x="9599" y="4812"/>
                </a:moveTo>
                <a:cubicBezTo>
                  <a:pt x="9599" y="4898"/>
                  <a:pt x="9633" y="4976"/>
                  <a:pt x="9649" y="5060"/>
                </a:cubicBezTo>
                <a:cubicBezTo>
                  <a:pt x="9649" y="5068"/>
                  <a:pt x="9649" y="5077"/>
                  <a:pt x="9649" y="5085"/>
                </a:cubicBezTo>
                <a:cubicBezTo>
                  <a:pt x="9745" y="5025"/>
                  <a:pt x="9817" y="4965"/>
                  <a:pt x="9798" y="4837"/>
                </a:cubicBezTo>
                <a:cubicBezTo>
                  <a:pt x="9781" y="4723"/>
                  <a:pt x="9690" y="4812"/>
                  <a:pt x="9674" y="48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30760" y="2446200"/>
            <a:ext cx="447480" cy="411480"/>
          </a:xfrm>
          <a:custGeom>
            <a:avLst/>
            <a:gdLst/>
            <a:ahLst/>
            <a:rect l="l" t="t" r="r" b="b"/>
            <a:pathLst>
              <a:path w="1241" h="1143">
                <a:moveTo>
                  <a:pt x="10641" y="7243"/>
                </a:moveTo>
                <a:cubicBezTo>
                  <a:pt x="10641" y="7395"/>
                  <a:pt x="10663" y="7537"/>
                  <a:pt x="10666" y="7689"/>
                </a:cubicBezTo>
                <a:cubicBezTo>
                  <a:pt x="10667" y="7754"/>
                  <a:pt x="10649" y="7916"/>
                  <a:pt x="10716" y="7938"/>
                </a:cubicBezTo>
              </a:path>
              <a:path w="1241" h="1143">
                <a:moveTo>
                  <a:pt x="10964" y="7243"/>
                </a:moveTo>
                <a:cubicBezTo>
                  <a:pt x="10964" y="7169"/>
                  <a:pt x="11012" y="7459"/>
                  <a:pt x="11013" y="7466"/>
                </a:cubicBezTo>
                <a:cubicBezTo>
                  <a:pt x="11036" y="7578"/>
                  <a:pt x="11050" y="7694"/>
                  <a:pt x="11112" y="7789"/>
                </a:cubicBezTo>
              </a:path>
              <a:path w="1241" h="1143">
                <a:moveTo>
                  <a:pt x="11485" y="7243"/>
                </a:moveTo>
                <a:cubicBezTo>
                  <a:pt x="11538" y="7225"/>
                  <a:pt x="11497" y="7207"/>
                  <a:pt x="11485" y="7169"/>
                </a:cubicBezTo>
                <a:cubicBezTo>
                  <a:pt x="11471" y="7125"/>
                  <a:pt x="11465" y="7083"/>
                  <a:pt x="11410" y="7069"/>
                </a:cubicBezTo>
                <a:cubicBezTo>
                  <a:pt x="11349" y="7054"/>
                  <a:pt x="11270" y="7106"/>
                  <a:pt x="11261" y="7169"/>
                </a:cubicBezTo>
                <a:cubicBezTo>
                  <a:pt x="11253" y="7223"/>
                  <a:pt x="11234" y="7384"/>
                  <a:pt x="11311" y="7392"/>
                </a:cubicBezTo>
                <a:cubicBezTo>
                  <a:pt x="11416" y="7403"/>
                  <a:pt x="11498" y="7363"/>
                  <a:pt x="11559" y="7293"/>
                </a:cubicBezTo>
              </a:path>
              <a:path w="1241" h="1143">
                <a:moveTo>
                  <a:pt x="11509" y="7144"/>
                </a:moveTo>
                <a:cubicBezTo>
                  <a:pt x="11509" y="7266"/>
                  <a:pt x="11531" y="7372"/>
                  <a:pt x="11559" y="7491"/>
                </a:cubicBezTo>
                <a:cubicBezTo>
                  <a:pt x="11573" y="7551"/>
                  <a:pt x="11580" y="7700"/>
                  <a:pt x="11633" y="7665"/>
                </a:cubicBezTo>
              </a:path>
              <a:path w="1241" h="1143">
                <a:moveTo>
                  <a:pt x="11733" y="6796"/>
                </a:moveTo>
                <a:cubicBezTo>
                  <a:pt x="11671" y="6827"/>
                  <a:pt x="11672" y="6868"/>
                  <a:pt x="11683" y="6921"/>
                </a:cubicBezTo>
                <a:cubicBezTo>
                  <a:pt x="11705" y="7028"/>
                  <a:pt x="11813" y="6934"/>
                  <a:pt x="11857" y="6896"/>
                </a:cubicBezTo>
                <a:cubicBezTo>
                  <a:pt x="11865" y="6888"/>
                  <a:pt x="11873" y="6879"/>
                  <a:pt x="11881" y="6871"/>
                </a:cubicBezTo>
                <a:cubicBezTo>
                  <a:pt x="11849" y="6822"/>
                  <a:pt x="11772" y="6831"/>
                  <a:pt x="11708" y="68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840" y="3402000"/>
            <a:ext cx="884160" cy="920880"/>
          </a:xfrm>
          <a:custGeom>
            <a:avLst/>
            <a:gdLst/>
            <a:ahLst/>
            <a:rect l="l" t="t" r="r" b="b"/>
            <a:pathLst>
              <a:path w="2457" h="2555">
                <a:moveTo>
                  <a:pt x="1612" y="9500"/>
                </a:moveTo>
                <a:cubicBezTo>
                  <a:pt x="1580" y="9635"/>
                  <a:pt x="1563" y="9807"/>
                  <a:pt x="1513" y="9947"/>
                </a:cubicBezTo>
                <a:cubicBezTo>
                  <a:pt x="1471" y="10065"/>
                  <a:pt x="1431" y="10103"/>
                  <a:pt x="1414" y="10220"/>
                </a:cubicBezTo>
              </a:path>
              <a:path w="2457" h="2555">
                <a:moveTo>
                  <a:pt x="2282" y="9525"/>
                </a:moveTo>
                <a:cubicBezTo>
                  <a:pt x="2249" y="9476"/>
                  <a:pt x="2073" y="9491"/>
                  <a:pt x="2009" y="9525"/>
                </a:cubicBezTo>
                <a:cubicBezTo>
                  <a:pt x="1857" y="9606"/>
                  <a:pt x="1926" y="9687"/>
                  <a:pt x="2009" y="9773"/>
                </a:cubicBezTo>
                <a:cubicBezTo>
                  <a:pt x="2133" y="9901"/>
                  <a:pt x="2154" y="10015"/>
                  <a:pt x="1960" y="10096"/>
                </a:cubicBezTo>
                <a:cubicBezTo>
                  <a:pt x="1943" y="10096"/>
                  <a:pt x="1927" y="10096"/>
                  <a:pt x="1910" y="10096"/>
                </a:cubicBezTo>
                <a:cubicBezTo>
                  <a:pt x="1894" y="9935"/>
                  <a:pt x="2021" y="9822"/>
                  <a:pt x="2133" y="9699"/>
                </a:cubicBezTo>
                <a:cubicBezTo>
                  <a:pt x="2156" y="9676"/>
                  <a:pt x="2160" y="9668"/>
                  <a:pt x="2183" y="9674"/>
                </a:cubicBezTo>
              </a:path>
              <a:path w="2457" h="2555">
                <a:moveTo>
                  <a:pt x="2729" y="9451"/>
                </a:moveTo>
                <a:cubicBezTo>
                  <a:pt x="2601" y="9562"/>
                  <a:pt x="2509" y="9741"/>
                  <a:pt x="2505" y="9922"/>
                </a:cubicBezTo>
                <a:cubicBezTo>
                  <a:pt x="2513" y="9955"/>
                  <a:pt x="2522" y="9988"/>
                  <a:pt x="2530" y="10021"/>
                </a:cubicBezTo>
                <a:cubicBezTo>
                  <a:pt x="2692" y="10043"/>
                  <a:pt x="2920" y="10006"/>
                  <a:pt x="3001" y="9823"/>
                </a:cubicBezTo>
                <a:cubicBezTo>
                  <a:pt x="3089" y="9624"/>
                  <a:pt x="2914" y="9533"/>
                  <a:pt x="2778" y="9575"/>
                </a:cubicBezTo>
              </a:path>
              <a:path w="2457" h="2555">
                <a:moveTo>
                  <a:pt x="943" y="10616"/>
                </a:moveTo>
                <a:cubicBezTo>
                  <a:pt x="1038" y="10616"/>
                  <a:pt x="1123" y="10590"/>
                  <a:pt x="1215" y="10567"/>
                </a:cubicBezTo>
              </a:path>
              <a:path w="2457" h="2555">
                <a:moveTo>
                  <a:pt x="2009" y="10294"/>
                </a:moveTo>
                <a:cubicBezTo>
                  <a:pt x="1984" y="10416"/>
                  <a:pt x="1917" y="10541"/>
                  <a:pt x="1885" y="10666"/>
                </a:cubicBezTo>
                <a:cubicBezTo>
                  <a:pt x="1853" y="10791"/>
                  <a:pt x="1840" y="10833"/>
                  <a:pt x="1910" y="10914"/>
                </a:cubicBezTo>
                <a:cubicBezTo>
                  <a:pt x="2111" y="10887"/>
                  <a:pt x="2166" y="10846"/>
                  <a:pt x="2257" y="10666"/>
                </a:cubicBezTo>
                <a:cubicBezTo>
                  <a:pt x="2170" y="10684"/>
                  <a:pt x="2094" y="10755"/>
                  <a:pt x="2059" y="10840"/>
                </a:cubicBezTo>
                <a:cubicBezTo>
                  <a:pt x="2059" y="10889"/>
                  <a:pt x="2059" y="10905"/>
                  <a:pt x="2108" y="10889"/>
                </a:cubicBezTo>
              </a:path>
              <a:path w="2457" h="2555">
                <a:moveTo>
                  <a:pt x="2480" y="10368"/>
                </a:moveTo>
                <a:cubicBezTo>
                  <a:pt x="2500" y="10310"/>
                  <a:pt x="2606" y="10283"/>
                  <a:pt x="2679" y="10294"/>
                </a:cubicBezTo>
                <a:cubicBezTo>
                  <a:pt x="2687" y="10302"/>
                  <a:pt x="2696" y="10311"/>
                  <a:pt x="2704" y="10319"/>
                </a:cubicBezTo>
                <a:cubicBezTo>
                  <a:pt x="2692" y="10430"/>
                  <a:pt x="2653" y="10484"/>
                  <a:pt x="2580" y="10567"/>
                </a:cubicBezTo>
                <a:cubicBezTo>
                  <a:pt x="2514" y="10567"/>
                  <a:pt x="2694" y="10540"/>
                  <a:pt x="2704" y="10542"/>
                </a:cubicBezTo>
                <a:cubicBezTo>
                  <a:pt x="2876" y="10572"/>
                  <a:pt x="2708" y="10725"/>
                  <a:pt x="2654" y="10765"/>
                </a:cubicBezTo>
                <a:cubicBezTo>
                  <a:pt x="2576" y="10822"/>
                  <a:pt x="2557" y="10829"/>
                  <a:pt x="2480" y="10790"/>
                </a:cubicBezTo>
              </a:path>
              <a:path w="2457" h="2555">
                <a:moveTo>
                  <a:pt x="868" y="11385"/>
                </a:moveTo>
                <a:cubicBezTo>
                  <a:pt x="1313" y="11303"/>
                  <a:pt x="1740" y="11159"/>
                  <a:pt x="2183" y="11063"/>
                </a:cubicBezTo>
                <a:cubicBezTo>
                  <a:pt x="2556" y="10982"/>
                  <a:pt x="2932" y="10942"/>
                  <a:pt x="3299" y="10889"/>
                </a:cubicBezTo>
                <a:cubicBezTo>
                  <a:pt x="3307" y="10889"/>
                  <a:pt x="3316" y="10889"/>
                  <a:pt x="3324" y="10889"/>
                </a:cubicBezTo>
              </a:path>
              <a:path w="2457" h="2555">
                <a:moveTo>
                  <a:pt x="1563" y="11361"/>
                </a:moveTo>
                <a:cubicBezTo>
                  <a:pt x="1545" y="11518"/>
                  <a:pt x="1512" y="11680"/>
                  <a:pt x="1463" y="11832"/>
                </a:cubicBezTo>
                <a:cubicBezTo>
                  <a:pt x="1436" y="11917"/>
                  <a:pt x="1380" y="11966"/>
                  <a:pt x="1439" y="12005"/>
                </a:cubicBezTo>
              </a:path>
              <a:path w="2457" h="2555">
                <a:moveTo>
                  <a:pt x="1935" y="11460"/>
                </a:moveTo>
                <a:cubicBezTo>
                  <a:pt x="1924" y="11630"/>
                  <a:pt x="1875" y="11772"/>
                  <a:pt x="1836" y="11931"/>
                </a:cubicBezTo>
                <a:cubicBezTo>
                  <a:pt x="1836" y="11972"/>
                  <a:pt x="1827" y="11989"/>
                  <a:pt x="1860" y="11981"/>
                </a:cubicBezTo>
              </a:path>
              <a:path w="2457" h="2555">
                <a:moveTo>
                  <a:pt x="2183" y="11361"/>
                </a:moveTo>
                <a:cubicBezTo>
                  <a:pt x="2311" y="11316"/>
                  <a:pt x="2424" y="11238"/>
                  <a:pt x="2555" y="11212"/>
                </a:cubicBezTo>
                <a:cubicBezTo>
                  <a:pt x="2574" y="11405"/>
                  <a:pt x="2552" y="11589"/>
                  <a:pt x="2505" y="11782"/>
                </a:cubicBezTo>
                <a:cubicBezTo>
                  <a:pt x="2497" y="11807"/>
                  <a:pt x="2488" y="11832"/>
                  <a:pt x="2480" y="118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0960" y="1562040"/>
            <a:ext cx="865080" cy="1108080"/>
          </a:xfrm>
          <a:custGeom>
            <a:avLst/>
            <a:gdLst/>
            <a:ahLst/>
            <a:rect l="l" t="t" r="r" b="b"/>
            <a:pathLst>
              <a:path w="2407" h="3077">
                <a:moveTo>
                  <a:pt x="2307" y="5209"/>
                </a:moveTo>
                <a:cubicBezTo>
                  <a:pt x="2307" y="5181"/>
                  <a:pt x="2305" y="5170"/>
                  <a:pt x="2282" y="5159"/>
                </a:cubicBezTo>
                <a:cubicBezTo>
                  <a:pt x="2282" y="5058"/>
                  <a:pt x="2313" y="5308"/>
                  <a:pt x="2332" y="5407"/>
                </a:cubicBezTo>
                <a:cubicBezTo>
                  <a:pt x="2338" y="5442"/>
                  <a:pt x="2375" y="5904"/>
                  <a:pt x="2406" y="5904"/>
                </a:cubicBezTo>
                <a:cubicBezTo>
                  <a:pt x="2406" y="5887"/>
                  <a:pt x="2406" y="5871"/>
                  <a:pt x="2406" y="5854"/>
                </a:cubicBezTo>
              </a:path>
              <a:path w="2407" h="3077">
                <a:moveTo>
                  <a:pt x="2828" y="4564"/>
                </a:moveTo>
                <a:cubicBezTo>
                  <a:pt x="2746" y="4690"/>
                  <a:pt x="2694" y="4785"/>
                  <a:pt x="2679" y="4936"/>
                </a:cubicBezTo>
                <a:cubicBezTo>
                  <a:pt x="2784" y="4957"/>
                  <a:pt x="3050" y="4929"/>
                  <a:pt x="3076" y="5085"/>
                </a:cubicBezTo>
                <a:cubicBezTo>
                  <a:pt x="3052" y="5202"/>
                  <a:pt x="3049" y="5238"/>
                  <a:pt x="2977" y="5283"/>
                </a:cubicBezTo>
                <a:cubicBezTo>
                  <a:pt x="2801" y="5157"/>
                  <a:pt x="2866" y="4999"/>
                  <a:pt x="2902" y="4787"/>
                </a:cubicBezTo>
                <a:cubicBezTo>
                  <a:pt x="2920" y="4696"/>
                  <a:pt x="2929" y="4689"/>
                  <a:pt x="2927" y="4638"/>
                </a:cubicBezTo>
              </a:path>
              <a:path w="2407" h="3077">
                <a:moveTo>
                  <a:pt x="3225" y="4341"/>
                </a:moveTo>
                <a:cubicBezTo>
                  <a:pt x="3241" y="4549"/>
                  <a:pt x="3264" y="4672"/>
                  <a:pt x="3398" y="4837"/>
                </a:cubicBezTo>
                <a:cubicBezTo>
                  <a:pt x="3486" y="4741"/>
                  <a:pt x="3620" y="4539"/>
                  <a:pt x="3522" y="4390"/>
                </a:cubicBezTo>
                <a:cubicBezTo>
                  <a:pt x="3436" y="4390"/>
                  <a:pt x="3397" y="4419"/>
                  <a:pt x="3373" y="4514"/>
                </a:cubicBezTo>
              </a:path>
              <a:path w="2407" h="3077">
                <a:moveTo>
                  <a:pt x="2084" y="6945"/>
                </a:moveTo>
                <a:cubicBezTo>
                  <a:pt x="2166" y="6791"/>
                  <a:pt x="2290" y="6706"/>
                  <a:pt x="2431" y="6598"/>
                </a:cubicBezTo>
              </a:path>
              <a:path w="2407" h="3077">
                <a:moveTo>
                  <a:pt x="2753" y="6127"/>
                </a:moveTo>
                <a:cubicBezTo>
                  <a:pt x="2793" y="6246"/>
                  <a:pt x="2840" y="6372"/>
                  <a:pt x="2877" y="6499"/>
                </a:cubicBezTo>
                <a:cubicBezTo>
                  <a:pt x="2904" y="6592"/>
                  <a:pt x="2911" y="6645"/>
                  <a:pt x="2927" y="6548"/>
                </a:cubicBezTo>
              </a:path>
              <a:path w="2407" h="3077">
                <a:moveTo>
                  <a:pt x="3175" y="5581"/>
                </a:moveTo>
                <a:cubicBezTo>
                  <a:pt x="3241" y="5744"/>
                  <a:pt x="3261" y="5917"/>
                  <a:pt x="3324" y="6077"/>
                </a:cubicBezTo>
                <a:cubicBezTo>
                  <a:pt x="3332" y="6085"/>
                  <a:pt x="3341" y="6094"/>
                  <a:pt x="3349" y="6102"/>
                </a:cubicBezTo>
              </a:path>
              <a:path w="2407" h="3077">
                <a:moveTo>
                  <a:pt x="3671" y="5110"/>
                </a:moveTo>
                <a:cubicBezTo>
                  <a:pt x="3596" y="5035"/>
                  <a:pt x="3560" y="5073"/>
                  <a:pt x="3522" y="5184"/>
                </a:cubicBezTo>
                <a:cubicBezTo>
                  <a:pt x="3476" y="5318"/>
                  <a:pt x="3524" y="5471"/>
                  <a:pt x="3621" y="5283"/>
                </a:cubicBezTo>
                <a:cubicBezTo>
                  <a:pt x="3638" y="5242"/>
                  <a:pt x="3654" y="5200"/>
                  <a:pt x="3671" y="5159"/>
                </a:cubicBezTo>
                <a:cubicBezTo>
                  <a:pt x="3671" y="5151"/>
                  <a:pt x="3671" y="5143"/>
                  <a:pt x="3671" y="5135"/>
                </a:cubicBezTo>
                <a:cubicBezTo>
                  <a:pt x="3733" y="5226"/>
                  <a:pt x="3777" y="5352"/>
                  <a:pt x="3820" y="5457"/>
                </a:cubicBezTo>
                <a:cubicBezTo>
                  <a:pt x="3843" y="5524"/>
                  <a:pt x="3848" y="5542"/>
                  <a:pt x="3870" y="5581"/>
                </a:cubicBezTo>
              </a:path>
              <a:path w="2407" h="3077">
                <a:moveTo>
                  <a:pt x="2654" y="7417"/>
                </a:moveTo>
                <a:cubicBezTo>
                  <a:pt x="2797" y="7205"/>
                  <a:pt x="3005" y="7008"/>
                  <a:pt x="3175" y="6796"/>
                </a:cubicBezTo>
                <a:cubicBezTo>
                  <a:pt x="3502" y="6387"/>
                  <a:pt x="3799" y="5981"/>
                  <a:pt x="4167" y="5606"/>
                </a:cubicBezTo>
                <a:cubicBezTo>
                  <a:pt x="4209" y="5564"/>
                  <a:pt x="4286" y="5487"/>
                  <a:pt x="4316" y="5457"/>
                </a:cubicBezTo>
              </a:path>
              <a:path w="2407" h="3077">
                <a:moveTo>
                  <a:pt x="3820" y="6499"/>
                </a:moveTo>
                <a:cubicBezTo>
                  <a:pt x="3855" y="6657"/>
                  <a:pt x="3869" y="6811"/>
                  <a:pt x="3969" y="6945"/>
                </a:cubicBezTo>
                <a:cubicBezTo>
                  <a:pt x="4059" y="7066"/>
                  <a:pt x="4189" y="7000"/>
                  <a:pt x="4242" y="6871"/>
                </a:cubicBezTo>
                <a:cubicBezTo>
                  <a:pt x="4280" y="6778"/>
                  <a:pt x="4319" y="6582"/>
                  <a:pt x="4242" y="6524"/>
                </a:cubicBezTo>
                <a:cubicBezTo>
                  <a:pt x="4168" y="6655"/>
                  <a:pt x="4151" y="6683"/>
                  <a:pt x="4217" y="6821"/>
                </a:cubicBezTo>
                <a:cubicBezTo>
                  <a:pt x="4237" y="6861"/>
                  <a:pt x="4235" y="6878"/>
                  <a:pt x="4266" y="6871"/>
                </a:cubicBezTo>
              </a:path>
              <a:path w="2407" h="3077">
                <a:moveTo>
                  <a:pt x="4316" y="6226"/>
                </a:moveTo>
                <a:cubicBezTo>
                  <a:pt x="4379" y="6358"/>
                  <a:pt x="4462" y="6506"/>
                  <a:pt x="4490" y="66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4010040"/>
            <a:ext cx="1893960" cy="2436840"/>
          </a:xfrm>
          <a:custGeom>
            <a:avLst/>
            <a:gdLst/>
            <a:ahLst/>
            <a:rect l="l" t="t" r="r" b="b"/>
            <a:pathLst>
              <a:path w="5260" h="6773">
                <a:moveTo>
                  <a:pt x="7640" y="11906"/>
                </a:moveTo>
                <a:cubicBezTo>
                  <a:pt x="7627" y="11867"/>
                  <a:pt x="7628" y="11896"/>
                  <a:pt x="7615" y="11857"/>
                </a:cubicBezTo>
                <a:cubicBezTo>
                  <a:pt x="7660" y="11872"/>
                  <a:pt x="7619" y="11903"/>
                  <a:pt x="7615" y="11956"/>
                </a:cubicBezTo>
                <a:cubicBezTo>
                  <a:pt x="7609" y="12026"/>
                  <a:pt x="7623" y="12096"/>
                  <a:pt x="7640" y="12129"/>
                </a:cubicBezTo>
                <a:cubicBezTo>
                  <a:pt x="7655" y="12159"/>
                  <a:pt x="7673" y="12195"/>
                  <a:pt x="7714" y="12204"/>
                </a:cubicBezTo>
                <a:cubicBezTo>
                  <a:pt x="7798" y="12222"/>
                  <a:pt x="7886" y="12198"/>
                  <a:pt x="7962" y="12179"/>
                </a:cubicBezTo>
                <a:cubicBezTo>
                  <a:pt x="7975" y="12176"/>
                  <a:pt x="8083" y="12113"/>
                  <a:pt x="8086" y="12105"/>
                </a:cubicBezTo>
                <a:cubicBezTo>
                  <a:pt x="8088" y="12099"/>
                  <a:pt x="8124" y="11991"/>
                  <a:pt x="8111" y="11981"/>
                </a:cubicBezTo>
                <a:cubicBezTo>
                  <a:pt x="8085" y="11961"/>
                  <a:pt x="8024" y="11956"/>
                  <a:pt x="7987" y="11956"/>
                </a:cubicBezTo>
                <a:cubicBezTo>
                  <a:pt x="7917" y="11956"/>
                  <a:pt x="7895" y="12013"/>
                  <a:pt x="7888" y="12080"/>
                </a:cubicBezTo>
                <a:cubicBezTo>
                  <a:pt x="7883" y="12127"/>
                  <a:pt x="7905" y="12237"/>
                  <a:pt x="7938" y="12204"/>
                </a:cubicBezTo>
                <a:cubicBezTo>
                  <a:pt x="7938" y="12196"/>
                  <a:pt x="7938" y="12187"/>
                  <a:pt x="7938" y="12179"/>
                </a:cubicBezTo>
              </a:path>
              <a:path w="5260" h="6773">
                <a:moveTo>
                  <a:pt x="8111" y="11658"/>
                </a:moveTo>
                <a:cubicBezTo>
                  <a:pt x="8103" y="11658"/>
                  <a:pt x="8094" y="11658"/>
                  <a:pt x="8086" y="11658"/>
                </a:cubicBezTo>
                <a:cubicBezTo>
                  <a:pt x="8097" y="11613"/>
                  <a:pt x="8167" y="11558"/>
                  <a:pt x="8210" y="11534"/>
                </a:cubicBezTo>
                <a:cubicBezTo>
                  <a:pt x="8218" y="11534"/>
                  <a:pt x="8227" y="11534"/>
                  <a:pt x="8235" y="11534"/>
                </a:cubicBezTo>
                <a:cubicBezTo>
                  <a:pt x="8281" y="11591"/>
                  <a:pt x="8305" y="11656"/>
                  <a:pt x="8285" y="11733"/>
                </a:cubicBezTo>
                <a:cubicBezTo>
                  <a:pt x="8264" y="11811"/>
                  <a:pt x="8252" y="11757"/>
                  <a:pt x="8235" y="11807"/>
                </a:cubicBezTo>
                <a:cubicBezTo>
                  <a:pt x="8284" y="11791"/>
                  <a:pt x="8327" y="11760"/>
                  <a:pt x="8409" y="11757"/>
                </a:cubicBezTo>
                <a:cubicBezTo>
                  <a:pt x="8458" y="11755"/>
                  <a:pt x="8563" y="11777"/>
                  <a:pt x="8558" y="11857"/>
                </a:cubicBezTo>
                <a:cubicBezTo>
                  <a:pt x="8551" y="11974"/>
                  <a:pt x="8463" y="12005"/>
                  <a:pt x="8384" y="12055"/>
                </a:cubicBezTo>
                <a:cubicBezTo>
                  <a:pt x="8332" y="12088"/>
                  <a:pt x="8285" y="12054"/>
                  <a:pt x="8260" y="12005"/>
                </a:cubicBezTo>
              </a:path>
              <a:path w="5260" h="6773">
                <a:moveTo>
                  <a:pt x="8409" y="11212"/>
                </a:moveTo>
                <a:cubicBezTo>
                  <a:pt x="8341" y="11245"/>
                  <a:pt x="8359" y="11309"/>
                  <a:pt x="8359" y="11385"/>
                </a:cubicBezTo>
                <a:cubicBezTo>
                  <a:pt x="8460" y="11373"/>
                  <a:pt x="8535" y="11338"/>
                  <a:pt x="8508" y="11212"/>
                </a:cubicBezTo>
                <a:cubicBezTo>
                  <a:pt x="8499" y="11169"/>
                  <a:pt x="8383" y="11200"/>
                  <a:pt x="8359" y="11212"/>
                </a:cubicBezTo>
              </a:path>
              <a:path w="5260" h="6773">
                <a:moveTo>
                  <a:pt x="5531" y="13196"/>
                </a:moveTo>
                <a:cubicBezTo>
                  <a:pt x="5479" y="13214"/>
                  <a:pt x="5467" y="13365"/>
                  <a:pt x="5457" y="13419"/>
                </a:cubicBezTo>
                <a:cubicBezTo>
                  <a:pt x="5425" y="13589"/>
                  <a:pt x="5421" y="13749"/>
                  <a:pt x="5457" y="13915"/>
                </a:cubicBezTo>
                <a:cubicBezTo>
                  <a:pt x="5606" y="13929"/>
                  <a:pt x="5699" y="13858"/>
                  <a:pt x="5779" y="13717"/>
                </a:cubicBezTo>
                <a:cubicBezTo>
                  <a:pt x="5802" y="13650"/>
                  <a:pt x="5813" y="13632"/>
                  <a:pt x="5779" y="13593"/>
                </a:cubicBezTo>
                <a:cubicBezTo>
                  <a:pt x="5721" y="13638"/>
                  <a:pt x="5669" y="13777"/>
                  <a:pt x="5655" y="13866"/>
                </a:cubicBezTo>
                <a:cubicBezTo>
                  <a:pt x="5655" y="13927"/>
                  <a:pt x="5646" y="13961"/>
                  <a:pt x="5680" y="13915"/>
                </a:cubicBezTo>
              </a:path>
              <a:path w="5260" h="6773">
                <a:moveTo>
                  <a:pt x="5779" y="13246"/>
                </a:moveTo>
                <a:cubicBezTo>
                  <a:pt x="5786" y="13229"/>
                  <a:pt x="5887" y="13091"/>
                  <a:pt x="5928" y="13122"/>
                </a:cubicBezTo>
                <a:cubicBezTo>
                  <a:pt x="5983" y="13163"/>
                  <a:pt x="5895" y="13309"/>
                  <a:pt x="5879" y="13345"/>
                </a:cubicBezTo>
                <a:cubicBezTo>
                  <a:pt x="5962" y="13345"/>
                  <a:pt x="6032" y="13355"/>
                  <a:pt x="6028" y="13469"/>
                </a:cubicBezTo>
                <a:cubicBezTo>
                  <a:pt x="6024" y="13564"/>
                  <a:pt x="5910" y="13721"/>
                  <a:pt x="5804" y="13692"/>
                </a:cubicBezTo>
                <a:cubicBezTo>
                  <a:pt x="5804" y="13684"/>
                  <a:pt x="5804" y="13675"/>
                  <a:pt x="5804" y="13667"/>
                </a:cubicBezTo>
              </a:path>
              <a:path w="5260" h="6773">
                <a:moveTo>
                  <a:pt x="6127" y="13072"/>
                </a:moveTo>
                <a:cubicBezTo>
                  <a:pt x="6105" y="13110"/>
                  <a:pt x="6086" y="13134"/>
                  <a:pt x="6077" y="13171"/>
                </a:cubicBezTo>
                <a:cubicBezTo>
                  <a:pt x="6188" y="13171"/>
                  <a:pt x="6201" y="13157"/>
                  <a:pt x="6226" y="13047"/>
                </a:cubicBezTo>
                <a:cubicBezTo>
                  <a:pt x="6148" y="13021"/>
                  <a:pt x="6120" y="13015"/>
                  <a:pt x="6077" y="13072"/>
                </a:cubicBezTo>
              </a:path>
              <a:path w="5260" h="6773">
                <a:moveTo>
                  <a:pt x="5730" y="12105"/>
                </a:moveTo>
                <a:cubicBezTo>
                  <a:pt x="5695" y="12093"/>
                  <a:pt x="5705" y="12098"/>
                  <a:pt x="5705" y="12055"/>
                </a:cubicBezTo>
                <a:cubicBezTo>
                  <a:pt x="5690" y="12157"/>
                  <a:pt x="5664" y="12266"/>
                  <a:pt x="5655" y="12378"/>
                </a:cubicBezTo>
                <a:cubicBezTo>
                  <a:pt x="5649" y="12457"/>
                  <a:pt x="5639" y="12524"/>
                  <a:pt x="5631" y="12601"/>
                </a:cubicBezTo>
              </a:path>
              <a:path w="5260" h="6773">
                <a:moveTo>
                  <a:pt x="6127" y="11981"/>
                </a:moveTo>
                <a:cubicBezTo>
                  <a:pt x="6127" y="12134"/>
                  <a:pt x="6113" y="12277"/>
                  <a:pt x="6077" y="12427"/>
                </a:cubicBezTo>
                <a:cubicBezTo>
                  <a:pt x="6057" y="12488"/>
                  <a:pt x="6038" y="12523"/>
                  <a:pt x="6077" y="12477"/>
                </a:cubicBezTo>
              </a:path>
              <a:path w="5260" h="6773">
                <a:moveTo>
                  <a:pt x="6400" y="11956"/>
                </a:moveTo>
                <a:cubicBezTo>
                  <a:pt x="6458" y="11898"/>
                  <a:pt x="6621" y="11855"/>
                  <a:pt x="6722" y="11832"/>
                </a:cubicBezTo>
                <a:cubicBezTo>
                  <a:pt x="6730" y="11832"/>
                  <a:pt x="6739" y="11832"/>
                  <a:pt x="6747" y="11832"/>
                </a:cubicBezTo>
                <a:cubicBezTo>
                  <a:pt x="6777" y="12011"/>
                  <a:pt x="6778" y="12175"/>
                  <a:pt x="6722" y="12353"/>
                </a:cubicBezTo>
                <a:cubicBezTo>
                  <a:pt x="6702" y="12393"/>
                  <a:pt x="6693" y="12419"/>
                  <a:pt x="6697" y="12378"/>
                </a:cubicBezTo>
              </a:path>
              <a:path w="5260" h="6773">
                <a:moveTo>
                  <a:pt x="6871" y="11137"/>
                </a:moveTo>
                <a:cubicBezTo>
                  <a:pt x="6840" y="11229"/>
                  <a:pt x="6833" y="11223"/>
                  <a:pt x="6896" y="11286"/>
                </a:cubicBezTo>
                <a:cubicBezTo>
                  <a:pt x="6959" y="11201"/>
                  <a:pt x="6983" y="11175"/>
                  <a:pt x="6871" y="11162"/>
                </a:cubicBezTo>
              </a:path>
              <a:path w="5260" h="6773">
                <a:moveTo>
                  <a:pt x="6995" y="13295"/>
                </a:moveTo>
                <a:cubicBezTo>
                  <a:pt x="7014" y="13249"/>
                  <a:pt x="7035" y="13213"/>
                  <a:pt x="7045" y="13171"/>
                </a:cubicBezTo>
                <a:cubicBezTo>
                  <a:pt x="7045" y="13323"/>
                  <a:pt x="7031" y="13468"/>
                  <a:pt x="7020" y="13618"/>
                </a:cubicBezTo>
                <a:cubicBezTo>
                  <a:pt x="7020" y="13676"/>
                  <a:pt x="7020" y="13684"/>
                  <a:pt x="7020" y="13717"/>
                </a:cubicBezTo>
              </a:path>
              <a:path w="5260" h="6773">
                <a:moveTo>
                  <a:pt x="7293" y="13097"/>
                </a:moveTo>
                <a:cubicBezTo>
                  <a:pt x="7359" y="13215"/>
                  <a:pt x="7379" y="13382"/>
                  <a:pt x="7392" y="13519"/>
                </a:cubicBezTo>
                <a:cubicBezTo>
                  <a:pt x="7397" y="13576"/>
                  <a:pt x="7392" y="13700"/>
                  <a:pt x="7392" y="13643"/>
                </a:cubicBezTo>
              </a:path>
              <a:path w="5260" h="6773">
                <a:moveTo>
                  <a:pt x="7590" y="13047"/>
                </a:moveTo>
                <a:cubicBezTo>
                  <a:pt x="7663" y="13047"/>
                  <a:pt x="7715" y="13042"/>
                  <a:pt x="7789" y="13022"/>
                </a:cubicBezTo>
                <a:cubicBezTo>
                  <a:pt x="7846" y="13003"/>
                  <a:pt x="7853" y="12995"/>
                  <a:pt x="7888" y="12998"/>
                </a:cubicBezTo>
                <a:cubicBezTo>
                  <a:pt x="7908" y="13154"/>
                  <a:pt x="7954" y="13309"/>
                  <a:pt x="7938" y="13469"/>
                </a:cubicBezTo>
                <a:cubicBezTo>
                  <a:pt x="7919" y="13526"/>
                  <a:pt x="7910" y="13533"/>
                  <a:pt x="7913" y="13568"/>
                </a:cubicBezTo>
              </a:path>
              <a:path w="5260" h="6773">
                <a:moveTo>
                  <a:pt x="8359" y="12774"/>
                </a:moveTo>
                <a:cubicBezTo>
                  <a:pt x="8294" y="12774"/>
                  <a:pt x="8205" y="12777"/>
                  <a:pt x="8210" y="12874"/>
                </a:cubicBezTo>
                <a:cubicBezTo>
                  <a:pt x="8217" y="12995"/>
                  <a:pt x="8334" y="12876"/>
                  <a:pt x="8359" y="12849"/>
                </a:cubicBezTo>
                <a:cubicBezTo>
                  <a:pt x="8421" y="12782"/>
                  <a:pt x="8302" y="12799"/>
                  <a:pt x="8260" y="12799"/>
                </a:cubicBezTo>
              </a:path>
              <a:path w="5260" h="6773">
                <a:moveTo>
                  <a:pt x="3473" y="15553"/>
                </a:moveTo>
                <a:cubicBezTo>
                  <a:pt x="3425" y="15639"/>
                  <a:pt x="3348" y="15696"/>
                  <a:pt x="3299" y="15776"/>
                </a:cubicBezTo>
                <a:cubicBezTo>
                  <a:pt x="3299" y="15784"/>
                  <a:pt x="3299" y="15793"/>
                  <a:pt x="3299" y="15801"/>
                </a:cubicBezTo>
                <a:cubicBezTo>
                  <a:pt x="3380" y="15801"/>
                  <a:pt x="3471" y="15846"/>
                  <a:pt x="3547" y="15875"/>
                </a:cubicBezTo>
                <a:cubicBezTo>
                  <a:pt x="3587" y="15895"/>
                  <a:pt x="3594" y="15904"/>
                  <a:pt x="3621" y="15900"/>
                </a:cubicBezTo>
              </a:path>
              <a:path w="5260" h="6773">
                <a:moveTo>
                  <a:pt x="5407" y="15205"/>
                </a:moveTo>
                <a:cubicBezTo>
                  <a:pt x="5394" y="15246"/>
                  <a:pt x="5395" y="15286"/>
                  <a:pt x="5383" y="15329"/>
                </a:cubicBezTo>
                <a:cubicBezTo>
                  <a:pt x="5374" y="15361"/>
                  <a:pt x="5347" y="15420"/>
                  <a:pt x="5333" y="15453"/>
                </a:cubicBezTo>
                <a:cubicBezTo>
                  <a:pt x="5321" y="15480"/>
                  <a:pt x="5296" y="15558"/>
                  <a:pt x="5283" y="15577"/>
                </a:cubicBezTo>
                <a:cubicBezTo>
                  <a:pt x="5263" y="15608"/>
                  <a:pt x="5231" y="15644"/>
                  <a:pt x="5209" y="15677"/>
                </a:cubicBezTo>
                <a:cubicBezTo>
                  <a:pt x="5180" y="15721"/>
                  <a:pt x="5140" y="15758"/>
                  <a:pt x="5110" y="15801"/>
                </a:cubicBezTo>
                <a:cubicBezTo>
                  <a:pt x="5077" y="15849"/>
                  <a:pt x="5053" y="15897"/>
                  <a:pt x="5011" y="15949"/>
                </a:cubicBezTo>
                <a:cubicBezTo>
                  <a:pt x="4973" y="15996"/>
                  <a:pt x="4946" y="16004"/>
                  <a:pt x="4911" y="16049"/>
                </a:cubicBezTo>
                <a:cubicBezTo>
                  <a:pt x="4865" y="16108"/>
                  <a:pt x="4844" y="16155"/>
                  <a:pt x="4812" y="16222"/>
                </a:cubicBezTo>
                <a:cubicBezTo>
                  <a:pt x="4773" y="16304"/>
                  <a:pt x="4726" y="16400"/>
                  <a:pt x="4688" y="16470"/>
                </a:cubicBezTo>
                <a:cubicBezTo>
                  <a:pt x="4639" y="16561"/>
                  <a:pt x="4581" y="16650"/>
                  <a:pt x="4539" y="16743"/>
                </a:cubicBezTo>
                <a:cubicBezTo>
                  <a:pt x="4499" y="16833"/>
                  <a:pt x="4444" y="16923"/>
                  <a:pt x="4415" y="17016"/>
                </a:cubicBezTo>
                <a:cubicBezTo>
                  <a:pt x="4381" y="17123"/>
                  <a:pt x="4331" y="17206"/>
                  <a:pt x="4291" y="17314"/>
                </a:cubicBezTo>
                <a:cubicBezTo>
                  <a:pt x="4270" y="17371"/>
                  <a:pt x="4244" y="17441"/>
                  <a:pt x="4217" y="17487"/>
                </a:cubicBezTo>
                <a:cubicBezTo>
                  <a:pt x="4182" y="17547"/>
                  <a:pt x="4124" y="17597"/>
                  <a:pt x="4093" y="17661"/>
                </a:cubicBezTo>
                <a:cubicBezTo>
                  <a:pt x="4060" y="17730"/>
                  <a:pt x="4083" y="17731"/>
                  <a:pt x="4068" y="17785"/>
                </a:cubicBezTo>
              </a:path>
              <a:path w="5260" h="6773">
                <a:moveTo>
                  <a:pt x="3994" y="17487"/>
                </a:moveTo>
                <a:cubicBezTo>
                  <a:pt x="3994" y="17572"/>
                  <a:pt x="4015" y="17650"/>
                  <a:pt x="4018" y="17735"/>
                </a:cubicBezTo>
                <a:cubicBezTo>
                  <a:pt x="4020" y="17793"/>
                  <a:pt x="3991" y="17892"/>
                  <a:pt x="4043" y="17909"/>
                </a:cubicBezTo>
                <a:cubicBezTo>
                  <a:pt x="4130" y="17909"/>
                  <a:pt x="4202" y="17840"/>
                  <a:pt x="4266" y="17785"/>
                </a:cubicBezTo>
                <a:cubicBezTo>
                  <a:pt x="4358" y="17706"/>
                  <a:pt x="4452" y="17649"/>
                  <a:pt x="4539" y="17562"/>
                </a:cubicBezTo>
              </a:path>
              <a:path w="5260" h="6773">
                <a:moveTo>
                  <a:pt x="6152" y="14560"/>
                </a:moveTo>
                <a:cubicBezTo>
                  <a:pt x="6112" y="14547"/>
                  <a:pt x="6142" y="14549"/>
                  <a:pt x="6102" y="14536"/>
                </a:cubicBezTo>
                <a:cubicBezTo>
                  <a:pt x="6082" y="14644"/>
                  <a:pt x="6098" y="14775"/>
                  <a:pt x="6152" y="14883"/>
                </a:cubicBezTo>
                <a:cubicBezTo>
                  <a:pt x="6189" y="14939"/>
                  <a:pt x="6184" y="14964"/>
                  <a:pt x="6226" y="14957"/>
                </a:cubicBezTo>
                <a:cubicBezTo>
                  <a:pt x="6279" y="14931"/>
                  <a:pt x="6294" y="14875"/>
                  <a:pt x="6300" y="14808"/>
                </a:cubicBezTo>
                <a:cubicBezTo>
                  <a:pt x="6304" y="14760"/>
                  <a:pt x="6315" y="14883"/>
                  <a:pt x="6325" y="14908"/>
                </a:cubicBezTo>
                <a:cubicBezTo>
                  <a:pt x="6346" y="14959"/>
                  <a:pt x="6340" y="14970"/>
                  <a:pt x="6375" y="14982"/>
                </a:cubicBezTo>
              </a:path>
              <a:path w="5260" h="6773">
                <a:moveTo>
                  <a:pt x="6424" y="14511"/>
                </a:moveTo>
                <a:cubicBezTo>
                  <a:pt x="6441" y="14470"/>
                  <a:pt x="6472" y="14430"/>
                  <a:pt x="6499" y="14387"/>
                </a:cubicBezTo>
                <a:cubicBezTo>
                  <a:pt x="6597" y="14486"/>
                  <a:pt x="6565" y="14551"/>
                  <a:pt x="6548" y="14684"/>
                </a:cubicBezTo>
                <a:cubicBezTo>
                  <a:pt x="6548" y="14701"/>
                  <a:pt x="6548" y="14717"/>
                  <a:pt x="6548" y="14734"/>
                </a:cubicBezTo>
                <a:cubicBezTo>
                  <a:pt x="6548" y="14642"/>
                  <a:pt x="6547" y="14617"/>
                  <a:pt x="6623" y="14585"/>
                </a:cubicBezTo>
                <a:cubicBezTo>
                  <a:pt x="6704" y="14667"/>
                  <a:pt x="6717" y="14769"/>
                  <a:pt x="6648" y="14883"/>
                </a:cubicBezTo>
                <a:cubicBezTo>
                  <a:pt x="6569" y="15013"/>
                  <a:pt x="6544" y="14861"/>
                  <a:pt x="6524" y="14808"/>
                </a:cubicBezTo>
              </a:path>
              <a:path w="5260" h="6773">
                <a:moveTo>
                  <a:pt x="6672" y="14312"/>
                </a:moveTo>
                <a:cubicBezTo>
                  <a:pt x="6699" y="14359"/>
                  <a:pt x="6736" y="14431"/>
                  <a:pt x="6772" y="14362"/>
                </a:cubicBezTo>
                <a:cubicBezTo>
                  <a:pt x="6804" y="14301"/>
                  <a:pt x="6800" y="14301"/>
                  <a:pt x="6747" y="14288"/>
                </a:cubicBezTo>
              </a:path>
              <a:path w="5260" h="6773">
                <a:moveTo>
                  <a:pt x="4514" y="14932"/>
                </a:moveTo>
                <a:cubicBezTo>
                  <a:pt x="4536" y="15020"/>
                  <a:pt x="4611" y="15112"/>
                  <a:pt x="4638" y="15205"/>
                </a:cubicBezTo>
                <a:cubicBezTo>
                  <a:pt x="4660" y="15279"/>
                  <a:pt x="4646" y="15229"/>
                  <a:pt x="4663" y="15280"/>
                </a:cubicBezTo>
              </a:path>
              <a:path w="5260" h="6773">
                <a:moveTo>
                  <a:pt x="4688" y="14982"/>
                </a:moveTo>
                <a:cubicBezTo>
                  <a:pt x="4742" y="15089"/>
                  <a:pt x="4788" y="15196"/>
                  <a:pt x="4837" y="15304"/>
                </a:cubicBezTo>
              </a:path>
              <a:path w="5260" h="6773">
                <a:moveTo>
                  <a:pt x="4812" y="14908"/>
                </a:moveTo>
                <a:cubicBezTo>
                  <a:pt x="4835" y="14851"/>
                  <a:pt x="4868" y="14815"/>
                  <a:pt x="4936" y="14808"/>
                </a:cubicBezTo>
                <a:cubicBezTo>
                  <a:pt x="5019" y="14800"/>
                  <a:pt x="5064" y="14949"/>
                  <a:pt x="5085" y="15007"/>
                </a:cubicBezTo>
                <a:cubicBezTo>
                  <a:pt x="5104" y="15064"/>
                  <a:pt x="5113" y="15071"/>
                  <a:pt x="5110" y="15106"/>
                </a:cubicBezTo>
              </a:path>
              <a:path w="5260" h="6773">
                <a:moveTo>
                  <a:pt x="5011" y="14536"/>
                </a:moveTo>
                <a:cubicBezTo>
                  <a:pt x="5011" y="14561"/>
                  <a:pt x="5011" y="14585"/>
                  <a:pt x="5011" y="14610"/>
                </a:cubicBezTo>
                <a:cubicBezTo>
                  <a:pt x="5041" y="14599"/>
                  <a:pt x="5065" y="14575"/>
                  <a:pt x="5035" y="14560"/>
                </a:cubicBezTo>
              </a:path>
              <a:path w="5260" h="6773">
                <a:moveTo>
                  <a:pt x="5804" y="15825"/>
                </a:moveTo>
                <a:cubicBezTo>
                  <a:pt x="5732" y="15849"/>
                  <a:pt x="5837" y="15976"/>
                  <a:pt x="5854" y="16024"/>
                </a:cubicBezTo>
                <a:cubicBezTo>
                  <a:pt x="5884" y="16110"/>
                  <a:pt x="5857" y="16130"/>
                  <a:pt x="5928" y="16148"/>
                </a:cubicBezTo>
              </a:path>
              <a:path w="5260" h="6773">
                <a:moveTo>
                  <a:pt x="5904" y="15776"/>
                </a:moveTo>
                <a:cubicBezTo>
                  <a:pt x="5995" y="15877"/>
                  <a:pt x="6045" y="15992"/>
                  <a:pt x="6127" y="16098"/>
                </a:cubicBezTo>
                <a:cubicBezTo>
                  <a:pt x="6143" y="16115"/>
                  <a:pt x="6160" y="16131"/>
                  <a:pt x="6176" y="16148"/>
                </a:cubicBezTo>
              </a:path>
              <a:path w="5260" h="6773">
                <a:moveTo>
                  <a:pt x="6102" y="15776"/>
                </a:moveTo>
                <a:cubicBezTo>
                  <a:pt x="6156" y="15722"/>
                  <a:pt x="6210" y="15654"/>
                  <a:pt x="6276" y="15627"/>
                </a:cubicBezTo>
                <a:cubicBezTo>
                  <a:pt x="6338" y="15729"/>
                  <a:pt x="6415" y="15834"/>
                  <a:pt x="6449" y="15949"/>
                </a:cubicBezTo>
                <a:cubicBezTo>
                  <a:pt x="6449" y="15974"/>
                  <a:pt x="6449" y="15982"/>
                  <a:pt x="6449" y="15949"/>
                </a:cubicBezTo>
              </a:path>
              <a:path w="5260" h="6773">
                <a:moveTo>
                  <a:pt x="6350" y="15453"/>
                </a:moveTo>
                <a:cubicBezTo>
                  <a:pt x="6376" y="15555"/>
                  <a:pt x="6429" y="15463"/>
                  <a:pt x="6449" y="15404"/>
                </a:cubicBezTo>
                <a:cubicBezTo>
                  <a:pt x="6449" y="15379"/>
                  <a:pt x="6449" y="15371"/>
                  <a:pt x="6424" y="15379"/>
                </a:cubicBezTo>
              </a:path>
              <a:path w="5260" h="6773">
                <a:moveTo>
                  <a:pt x="4093" y="15776"/>
                </a:moveTo>
                <a:cubicBezTo>
                  <a:pt x="4110" y="15875"/>
                  <a:pt x="4154" y="15969"/>
                  <a:pt x="4217" y="16049"/>
                </a:cubicBezTo>
                <a:cubicBezTo>
                  <a:pt x="4256" y="16088"/>
                  <a:pt x="4272" y="16089"/>
                  <a:pt x="4266" y="16123"/>
                </a:cubicBezTo>
                <a:cubicBezTo>
                  <a:pt x="4327" y="16093"/>
                  <a:pt x="4402" y="16057"/>
                  <a:pt x="4390" y="15974"/>
                </a:cubicBezTo>
                <a:cubicBezTo>
                  <a:pt x="4382" y="15966"/>
                  <a:pt x="4374" y="15957"/>
                  <a:pt x="4366" y="15949"/>
                </a:cubicBezTo>
                <a:cubicBezTo>
                  <a:pt x="4334" y="15858"/>
                  <a:pt x="4338" y="16034"/>
                  <a:pt x="4341" y="16049"/>
                </a:cubicBezTo>
                <a:cubicBezTo>
                  <a:pt x="4360" y="16145"/>
                  <a:pt x="4405" y="16212"/>
                  <a:pt x="4465" y="16123"/>
                </a:cubicBezTo>
              </a:path>
              <a:path w="5260" h="6773">
                <a:moveTo>
                  <a:pt x="4440" y="15751"/>
                </a:moveTo>
                <a:cubicBezTo>
                  <a:pt x="4445" y="15727"/>
                  <a:pt x="4487" y="15651"/>
                  <a:pt x="4490" y="15652"/>
                </a:cubicBezTo>
                <a:cubicBezTo>
                  <a:pt x="4551" y="15673"/>
                  <a:pt x="4535" y="15781"/>
                  <a:pt x="4539" y="15825"/>
                </a:cubicBezTo>
                <a:cubicBezTo>
                  <a:pt x="4578" y="15787"/>
                  <a:pt x="4580" y="15770"/>
                  <a:pt x="4614" y="15776"/>
                </a:cubicBezTo>
                <a:cubicBezTo>
                  <a:pt x="4658" y="15866"/>
                  <a:pt x="4684" y="15924"/>
                  <a:pt x="4638" y="16024"/>
                </a:cubicBezTo>
                <a:cubicBezTo>
                  <a:pt x="4615" y="16074"/>
                  <a:pt x="4589" y="16043"/>
                  <a:pt x="4564" y="16024"/>
                </a:cubicBezTo>
              </a:path>
              <a:path w="5260" h="6773">
                <a:moveTo>
                  <a:pt x="4738" y="15602"/>
                </a:moveTo>
                <a:cubicBezTo>
                  <a:pt x="4759" y="15617"/>
                  <a:pt x="4809" y="15601"/>
                  <a:pt x="4787" y="15553"/>
                </a:cubicBezTo>
                <a:cubicBezTo>
                  <a:pt x="4754" y="15481"/>
                  <a:pt x="4762" y="15563"/>
                  <a:pt x="4762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0160" y="4017960"/>
            <a:ext cx="1554120" cy="706320"/>
          </a:xfrm>
          <a:custGeom>
            <a:avLst/>
            <a:gdLst/>
            <a:ahLst/>
            <a:rect l="l" t="t" r="r" b="b"/>
            <a:pathLst>
              <a:path w="4317" h="1961">
                <a:moveTo>
                  <a:pt x="12402" y="12105"/>
                </a:moveTo>
                <a:cubicBezTo>
                  <a:pt x="12402" y="12090"/>
                  <a:pt x="12350" y="12327"/>
                  <a:pt x="12328" y="12378"/>
                </a:cubicBezTo>
                <a:cubicBezTo>
                  <a:pt x="12270" y="12510"/>
                  <a:pt x="12173" y="12679"/>
                  <a:pt x="12055" y="12750"/>
                </a:cubicBezTo>
              </a:path>
              <a:path w="4317" h="1961">
                <a:moveTo>
                  <a:pt x="12576" y="12229"/>
                </a:moveTo>
                <a:cubicBezTo>
                  <a:pt x="12625" y="12193"/>
                  <a:pt x="12677" y="12131"/>
                  <a:pt x="12750" y="12154"/>
                </a:cubicBezTo>
                <a:cubicBezTo>
                  <a:pt x="12899" y="12200"/>
                  <a:pt x="12881" y="12481"/>
                  <a:pt x="12799" y="12576"/>
                </a:cubicBezTo>
                <a:cubicBezTo>
                  <a:pt x="12704" y="12686"/>
                  <a:pt x="12594" y="12682"/>
                  <a:pt x="12477" y="12675"/>
                </a:cubicBezTo>
                <a:cubicBezTo>
                  <a:pt x="12476" y="12554"/>
                  <a:pt x="12599" y="12467"/>
                  <a:pt x="12750" y="12502"/>
                </a:cubicBezTo>
                <a:cubicBezTo>
                  <a:pt x="12839" y="12523"/>
                  <a:pt x="12840" y="12583"/>
                  <a:pt x="12849" y="12650"/>
                </a:cubicBezTo>
              </a:path>
              <a:path w="4317" h="1961">
                <a:moveTo>
                  <a:pt x="13097" y="12179"/>
                </a:moveTo>
                <a:cubicBezTo>
                  <a:pt x="13082" y="12268"/>
                  <a:pt x="13031" y="12358"/>
                  <a:pt x="13047" y="12452"/>
                </a:cubicBezTo>
                <a:cubicBezTo>
                  <a:pt x="13067" y="12566"/>
                  <a:pt x="13291" y="12538"/>
                  <a:pt x="13370" y="12526"/>
                </a:cubicBezTo>
                <a:cubicBezTo>
                  <a:pt x="13395" y="12518"/>
                  <a:pt x="13419" y="12510"/>
                  <a:pt x="13444" y="12502"/>
                </a:cubicBezTo>
              </a:path>
              <a:path w="4317" h="1961">
                <a:moveTo>
                  <a:pt x="13395" y="12204"/>
                </a:moveTo>
                <a:cubicBezTo>
                  <a:pt x="13332" y="12401"/>
                  <a:pt x="13287" y="12643"/>
                  <a:pt x="13196" y="12824"/>
                </a:cubicBezTo>
                <a:cubicBezTo>
                  <a:pt x="13157" y="12863"/>
                  <a:pt x="13125" y="12880"/>
                  <a:pt x="13171" y="12874"/>
                </a:cubicBezTo>
              </a:path>
              <a:path w="4317" h="1961">
                <a:moveTo>
                  <a:pt x="13643" y="12179"/>
                </a:moveTo>
                <a:cubicBezTo>
                  <a:pt x="13635" y="12196"/>
                  <a:pt x="13626" y="12212"/>
                  <a:pt x="13618" y="12229"/>
                </a:cubicBezTo>
                <a:cubicBezTo>
                  <a:pt x="13714" y="12324"/>
                  <a:pt x="13749" y="12270"/>
                  <a:pt x="13816" y="12179"/>
                </a:cubicBezTo>
                <a:cubicBezTo>
                  <a:pt x="13873" y="12101"/>
                  <a:pt x="13705" y="12131"/>
                  <a:pt x="13667" y="12129"/>
                </a:cubicBezTo>
              </a:path>
              <a:path w="4317" h="1961">
                <a:moveTo>
                  <a:pt x="14883" y="11361"/>
                </a:moveTo>
                <a:cubicBezTo>
                  <a:pt x="14834" y="11345"/>
                  <a:pt x="14883" y="11335"/>
                  <a:pt x="14808" y="11385"/>
                </a:cubicBezTo>
                <a:cubicBezTo>
                  <a:pt x="14703" y="11455"/>
                  <a:pt x="14638" y="11423"/>
                  <a:pt x="14536" y="11460"/>
                </a:cubicBezTo>
                <a:cubicBezTo>
                  <a:pt x="14465" y="11486"/>
                  <a:pt x="14486" y="11604"/>
                  <a:pt x="14486" y="11658"/>
                </a:cubicBezTo>
                <a:cubicBezTo>
                  <a:pt x="14486" y="11666"/>
                  <a:pt x="14486" y="11675"/>
                  <a:pt x="14486" y="11683"/>
                </a:cubicBezTo>
                <a:cubicBezTo>
                  <a:pt x="14556" y="11683"/>
                  <a:pt x="14612" y="11647"/>
                  <a:pt x="14684" y="11658"/>
                </a:cubicBezTo>
                <a:cubicBezTo>
                  <a:pt x="14779" y="11672"/>
                  <a:pt x="14871" y="11792"/>
                  <a:pt x="14808" y="11881"/>
                </a:cubicBezTo>
                <a:cubicBezTo>
                  <a:pt x="14725" y="11999"/>
                  <a:pt x="14594" y="12010"/>
                  <a:pt x="14486" y="11931"/>
                </a:cubicBezTo>
                <a:cubicBezTo>
                  <a:pt x="14447" y="11892"/>
                  <a:pt x="14430" y="11891"/>
                  <a:pt x="14436" y="11857"/>
                </a:cubicBezTo>
              </a:path>
              <a:path w="4317" h="1961">
                <a:moveTo>
                  <a:pt x="14957" y="11485"/>
                </a:moveTo>
                <a:cubicBezTo>
                  <a:pt x="15037" y="11504"/>
                  <a:pt x="15007" y="11586"/>
                  <a:pt x="15007" y="11658"/>
                </a:cubicBezTo>
                <a:cubicBezTo>
                  <a:pt x="15007" y="11742"/>
                  <a:pt x="14984" y="11864"/>
                  <a:pt x="15032" y="11931"/>
                </a:cubicBezTo>
                <a:cubicBezTo>
                  <a:pt x="15040" y="11939"/>
                  <a:pt x="15048" y="11948"/>
                  <a:pt x="15056" y="11956"/>
                </a:cubicBezTo>
                <a:cubicBezTo>
                  <a:pt x="15166" y="11931"/>
                  <a:pt x="15239" y="11879"/>
                  <a:pt x="15304" y="11782"/>
                </a:cubicBezTo>
                <a:cubicBezTo>
                  <a:pt x="15326" y="11739"/>
                  <a:pt x="15339" y="11727"/>
                  <a:pt x="15304" y="11708"/>
                </a:cubicBezTo>
                <a:cubicBezTo>
                  <a:pt x="15225" y="11730"/>
                  <a:pt x="15203" y="11790"/>
                  <a:pt x="15180" y="11881"/>
                </a:cubicBezTo>
                <a:cubicBezTo>
                  <a:pt x="15166" y="11937"/>
                  <a:pt x="15243" y="11851"/>
                  <a:pt x="15280" y="11807"/>
                </a:cubicBezTo>
              </a:path>
              <a:path w="4317" h="1961">
                <a:moveTo>
                  <a:pt x="15404" y="11162"/>
                </a:moveTo>
                <a:cubicBezTo>
                  <a:pt x="15355" y="11178"/>
                  <a:pt x="15348" y="11299"/>
                  <a:pt x="15329" y="11361"/>
                </a:cubicBezTo>
                <a:cubicBezTo>
                  <a:pt x="15412" y="11401"/>
                  <a:pt x="15524" y="11375"/>
                  <a:pt x="15553" y="11261"/>
                </a:cubicBezTo>
                <a:cubicBezTo>
                  <a:pt x="15518" y="11228"/>
                  <a:pt x="15497" y="11220"/>
                  <a:pt x="15453" y="11237"/>
                </a:cubicBezTo>
              </a:path>
              <a:path w="4317" h="1961">
                <a:moveTo>
                  <a:pt x="15453" y="12576"/>
                </a:moveTo>
                <a:cubicBezTo>
                  <a:pt x="15467" y="12661"/>
                  <a:pt x="15506" y="12742"/>
                  <a:pt x="15528" y="12824"/>
                </a:cubicBezTo>
                <a:cubicBezTo>
                  <a:pt x="15528" y="12849"/>
                  <a:pt x="15528" y="12857"/>
                  <a:pt x="15528" y="12874"/>
                </a:cubicBezTo>
              </a:path>
              <a:path w="4317" h="1961">
                <a:moveTo>
                  <a:pt x="15577" y="12526"/>
                </a:moveTo>
                <a:cubicBezTo>
                  <a:pt x="15588" y="12498"/>
                  <a:pt x="15631" y="12399"/>
                  <a:pt x="15677" y="12402"/>
                </a:cubicBezTo>
                <a:cubicBezTo>
                  <a:pt x="15779" y="12408"/>
                  <a:pt x="15790" y="12564"/>
                  <a:pt x="15776" y="12626"/>
                </a:cubicBezTo>
                <a:cubicBezTo>
                  <a:pt x="15756" y="12717"/>
                  <a:pt x="15751" y="12714"/>
                  <a:pt x="15677" y="12725"/>
                </a:cubicBezTo>
                <a:cubicBezTo>
                  <a:pt x="15677" y="12664"/>
                  <a:pt x="15673" y="12615"/>
                  <a:pt x="15751" y="12601"/>
                </a:cubicBezTo>
                <a:cubicBezTo>
                  <a:pt x="15827" y="12587"/>
                  <a:pt x="15830" y="12607"/>
                  <a:pt x="15875" y="12650"/>
                </a:cubicBezTo>
              </a:path>
              <a:path w="4317" h="1961">
                <a:moveTo>
                  <a:pt x="15850" y="12278"/>
                </a:moveTo>
                <a:cubicBezTo>
                  <a:pt x="15889" y="12317"/>
                  <a:pt x="15895" y="12445"/>
                  <a:pt x="15999" y="12427"/>
                </a:cubicBezTo>
                <a:cubicBezTo>
                  <a:pt x="16067" y="12415"/>
                  <a:pt x="16125" y="12346"/>
                  <a:pt x="16173" y="12303"/>
                </a:cubicBezTo>
              </a:path>
              <a:path w="4317" h="1961">
                <a:moveTo>
                  <a:pt x="16073" y="12179"/>
                </a:moveTo>
                <a:cubicBezTo>
                  <a:pt x="16105" y="12289"/>
                  <a:pt x="16146" y="12399"/>
                  <a:pt x="16197" y="12502"/>
                </a:cubicBezTo>
                <a:cubicBezTo>
                  <a:pt x="16217" y="12542"/>
                  <a:pt x="16226" y="12548"/>
                  <a:pt x="16222" y="12576"/>
                </a:cubicBezTo>
              </a:path>
              <a:path w="4317" h="1961">
                <a:moveTo>
                  <a:pt x="16272" y="11956"/>
                </a:moveTo>
                <a:cubicBezTo>
                  <a:pt x="16272" y="12014"/>
                  <a:pt x="16273" y="12056"/>
                  <a:pt x="16297" y="12105"/>
                </a:cubicBezTo>
                <a:cubicBezTo>
                  <a:pt x="16314" y="12078"/>
                  <a:pt x="16431" y="11921"/>
                  <a:pt x="16297" y="11981"/>
                </a:cubicBezTo>
                <a:cubicBezTo>
                  <a:pt x="16272" y="11997"/>
                  <a:pt x="16247" y="12014"/>
                  <a:pt x="16222" y="12030"/>
                </a:cubicBezTo>
              </a:path>
              <a:path w="4317" h="1961">
                <a:moveTo>
                  <a:pt x="14188" y="12774"/>
                </a:moveTo>
                <a:cubicBezTo>
                  <a:pt x="14175" y="12748"/>
                  <a:pt x="14148" y="12769"/>
                  <a:pt x="14114" y="12799"/>
                </a:cubicBezTo>
                <a:cubicBezTo>
                  <a:pt x="14079" y="12830"/>
                  <a:pt x="14089" y="12855"/>
                  <a:pt x="14089" y="12898"/>
                </a:cubicBezTo>
                <a:cubicBezTo>
                  <a:pt x="14173" y="12932"/>
                  <a:pt x="14157" y="12844"/>
                  <a:pt x="14238" y="12849"/>
                </a:cubicBezTo>
                <a:cubicBezTo>
                  <a:pt x="14335" y="12855"/>
                  <a:pt x="14371" y="12964"/>
                  <a:pt x="14337" y="13047"/>
                </a:cubicBezTo>
                <a:cubicBezTo>
                  <a:pt x="14324" y="13078"/>
                  <a:pt x="14212" y="13154"/>
                  <a:pt x="14188" y="13097"/>
                </a:cubicBezTo>
                <a:cubicBezTo>
                  <a:pt x="14188" y="13080"/>
                  <a:pt x="14188" y="13064"/>
                  <a:pt x="14188" y="13047"/>
                </a:cubicBezTo>
              </a:path>
              <a:path w="4317" h="1961">
                <a:moveTo>
                  <a:pt x="14387" y="12675"/>
                </a:moveTo>
                <a:cubicBezTo>
                  <a:pt x="14387" y="12729"/>
                  <a:pt x="14407" y="12805"/>
                  <a:pt x="14436" y="12849"/>
                </a:cubicBezTo>
                <a:cubicBezTo>
                  <a:pt x="14472" y="12903"/>
                  <a:pt x="14517" y="12968"/>
                  <a:pt x="14585" y="12973"/>
                </a:cubicBezTo>
                <a:cubicBezTo>
                  <a:pt x="14666" y="12978"/>
                  <a:pt x="14698" y="12910"/>
                  <a:pt x="14734" y="12849"/>
                </a:cubicBezTo>
                <a:cubicBezTo>
                  <a:pt x="14722" y="12858"/>
                  <a:pt x="14645" y="12937"/>
                  <a:pt x="14660" y="12973"/>
                </a:cubicBezTo>
                <a:cubicBezTo>
                  <a:pt x="14668" y="12981"/>
                  <a:pt x="14676" y="12990"/>
                  <a:pt x="14684" y="12998"/>
                </a:cubicBezTo>
              </a:path>
              <a:path w="4317" h="1961">
                <a:moveTo>
                  <a:pt x="14511" y="12477"/>
                </a:moveTo>
                <a:cubicBezTo>
                  <a:pt x="14511" y="12512"/>
                  <a:pt x="14533" y="12626"/>
                  <a:pt x="14560" y="12626"/>
                </a:cubicBezTo>
                <a:cubicBezTo>
                  <a:pt x="14583" y="12603"/>
                  <a:pt x="14591" y="12599"/>
                  <a:pt x="14585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84960" y="3598920"/>
            <a:ext cx="1135080" cy="965160"/>
          </a:xfrm>
          <a:custGeom>
            <a:avLst/>
            <a:gdLst/>
            <a:ahLst/>
            <a:rect l="l" t="t" r="r" b="b"/>
            <a:pathLst>
              <a:path w="3152" h="2680">
                <a:moveTo>
                  <a:pt x="18976" y="10096"/>
                </a:moveTo>
                <a:cubicBezTo>
                  <a:pt x="18976" y="10237"/>
                  <a:pt x="19026" y="10378"/>
                  <a:pt x="19050" y="10517"/>
                </a:cubicBezTo>
                <a:cubicBezTo>
                  <a:pt x="19069" y="10625"/>
                  <a:pt x="19083" y="10694"/>
                  <a:pt x="19124" y="10790"/>
                </a:cubicBezTo>
              </a:path>
              <a:path w="3152" h="2680">
                <a:moveTo>
                  <a:pt x="19621" y="10071"/>
                </a:moveTo>
                <a:cubicBezTo>
                  <a:pt x="19490" y="10097"/>
                  <a:pt x="19431" y="10143"/>
                  <a:pt x="19348" y="10244"/>
                </a:cubicBezTo>
                <a:cubicBezTo>
                  <a:pt x="19443" y="10389"/>
                  <a:pt x="19586" y="10369"/>
                  <a:pt x="19695" y="10492"/>
                </a:cubicBezTo>
                <a:cubicBezTo>
                  <a:pt x="19703" y="10517"/>
                  <a:pt x="19712" y="10542"/>
                  <a:pt x="19720" y="10567"/>
                </a:cubicBezTo>
                <a:cubicBezTo>
                  <a:pt x="19646" y="10669"/>
                  <a:pt x="19515" y="10643"/>
                  <a:pt x="19496" y="10492"/>
                </a:cubicBezTo>
                <a:cubicBezTo>
                  <a:pt x="19479" y="10357"/>
                  <a:pt x="19594" y="10259"/>
                  <a:pt x="19670" y="10170"/>
                </a:cubicBezTo>
              </a:path>
              <a:path w="3152" h="2680">
                <a:moveTo>
                  <a:pt x="20117" y="9996"/>
                </a:moveTo>
                <a:cubicBezTo>
                  <a:pt x="20028" y="10107"/>
                  <a:pt x="19959" y="10240"/>
                  <a:pt x="19993" y="10393"/>
                </a:cubicBezTo>
                <a:cubicBezTo>
                  <a:pt x="20033" y="10572"/>
                  <a:pt x="20222" y="10586"/>
                  <a:pt x="20340" y="10468"/>
                </a:cubicBezTo>
                <a:cubicBezTo>
                  <a:pt x="20488" y="10320"/>
                  <a:pt x="20422" y="10152"/>
                  <a:pt x="20265" y="10071"/>
                </a:cubicBezTo>
                <a:cubicBezTo>
                  <a:pt x="20191" y="10046"/>
                  <a:pt x="20166" y="10038"/>
                  <a:pt x="20117" y="10071"/>
                </a:cubicBezTo>
              </a:path>
              <a:path w="3152" h="2680">
                <a:moveTo>
                  <a:pt x="18579" y="11509"/>
                </a:moveTo>
                <a:cubicBezTo>
                  <a:pt x="18653" y="11554"/>
                  <a:pt x="18770" y="11520"/>
                  <a:pt x="18852" y="11485"/>
                </a:cubicBezTo>
                <a:cubicBezTo>
                  <a:pt x="18874" y="11462"/>
                  <a:pt x="18879" y="11454"/>
                  <a:pt x="18901" y="11460"/>
                </a:cubicBezTo>
              </a:path>
              <a:path w="3152" h="2680">
                <a:moveTo>
                  <a:pt x="19298" y="11187"/>
                </a:moveTo>
                <a:cubicBezTo>
                  <a:pt x="19311" y="11325"/>
                  <a:pt x="19329" y="11476"/>
                  <a:pt x="19372" y="11609"/>
                </a:cubicBezTo>
                <a:cubicBezTo>
                  <a:pt x="19392" y="11649"/>
                  <a:pt x="19401" y="11655"/>
                  <a:pt x="19397" y="11683"/>
                </a:cubicBezTo>
              </a:path>
              <a:path w="3152" h="2680">
                <a:moveTo>
                  <a:pt x="19720" y="11162"/>
                </a:moveTo>
                <a:cubicBezTo>
                  <a:pt x="19731" y="11129"/>
                  <a:pt x="19844" y="11085"/>
                  <a:pt x="19893" y="11088"/>
                </a:cubicBezTo>
                <a:cubicBezTo>
                  <a:pt x="19901" y="11096"/>
                  <a:pt x="19910" y="11104"/>
                  <a:pt x="19918" y="11112"/>
                </a:cubicBezTo>
                <a:cubicBezTo>
                  <a:pt x="19906" y="11260"/>
                  <a:pt x="19882" y="11364"/>
                  <a:pt x="19794" y="11485"/>
                </a:cubicBezTo>
                <a:cubicBezTo>
                  <a:pt x="19771" y="11507"/>
                  <a:pt x="19763" y="11512"/>
                  <a:pt x="19769" y="11534"/>
                </a:cubicBezTo>
                <a:cubicBezTo>
                  <a:pt x="19879" y="11534"/>
                  <a:pt x="19942" y="11507"/>
                  <a:pt x="20042" y="11485"/>
                </a:cubicBezTo>
              </a:path>
              <a:path w="3152" h="2680">
                <a:moveTo>
                  <a:pt x="20092" y="11063"/>
                </a:moveTo>
                <a:cubicBezTo>
                  <a:pt x="20092" y="11137"/>
                  <a:pt x="20067" y="11264"/>
                  <a:pt x="20166" y="11286"/>
                </a:cubicBezTo>
                <a:cubicBezTo>
                  <a:pt x="20311" y="11318"/>
                  <a:pt x="20392" y="11245"/>
                  <a:pt x="20464" y="11137"/>
                </a:cubicBezTo>
              </a:path>
              <a:path w="3152" h="2680">
                <a:moveTo>
                  <a:pt x="20315" y="10914"/>
                </a:moveTo>
                <a:cubicBezTo>
                  <a:pt x="20325" y="11089"/>
                  <a:pt x="20360" y="11259"/>
                  <a:pt x="20365" y="11435"/>
                </a:cubicBezTo>
                <a:cubicBezTo>
                  <a:pt x="20365" y="11493"/>
                  <a:pt x="20365" y="11501"/>
                  <a:pt x="20365" y="11534"/>
                </a:cubicBezTo>
              </a:path>
              <a:path w="3152" h="2680">
                <a:moveTo>
                  <a:pt x="19000" y="12030"/>
                </a:moveTo>
                <a:cubicBezTo>
                  <a:pt x="19049" y="12018"/>
                  <a:pt x="19050" y="12010"/>
                  <a:pt x="19100" y="12005"/>
                </a:cubicBezTo>
                <a:cubicBezTo>
                  <a:pt x="19379" y="11978"/>
                  <a:pt x="19664" y="11925"/>
                  <a:pt x="19943" y="11881"/>
                </a:cubicBezTo>
                <a:cubicBezTo>
                  <a:pt x="20220" y="11838"/>
                  <a:pt x="20490" y="11801"/>
                  <a:pt x="20762" y="11733"/>
                </a:cubicBezTo>
                <a:cubicBezTo>
                  <a:pt x="20836" y="11714"/>
                  <a:pt x="20843" y="11706"/>
                  <a:pt x="20886" y="11708"/>
                </a:cubicBezTo>
              </a:path>
              <a:path w="3152" h="2680">
                <a:moveTo>
                  <a:pt x="20117" y="12154"/>
                </a:moveTo>
                <a:cubicBezTo>
                  <a:pt x="20074" y="12165"/>
                  <a:pt x="19995" y="12188"/>
                  <a:pt x="19968" y="12229"/>
                </a:cubicBezTo>
                <a:cubicBezTo>
                  <a:pt x="19941" y="12269"/>
                  <a:pt x="19929" y="12348"/>
                  <a:pt x="19943" y="12402"/>
                </a:cubicBezTo>
                <a:cubicBezTo>
                  <a:pt x="19963" y="12443"/>
                  <a:pt x="19972" y="12449"/>
                  <a:pt x="19968" y="12477"/>
                </a:cubicBezTo>
                <a:cubicBezTo>
                  <a:pt x="20063" y="12424"/>
                  <a:pt x="20175" y="12349"/>
                  <a:pt x="20290" y="12353"/>
                </a:cubicBezTo>
                <a:cubicBezTo>
                  <a:pt x="20315" y="12361"/>
                  <a:pt x="20340" y="12370"/>
                  <a:pt x="20365" y="12378"/>
                </a:cubicBezTo>
                <a:cubicBezTo>
                  <a:pt x="20350" y="12511"/>
                  <a:pt x="20296" y="12574"/>
                  <a:pt x="20166" y="12626"/>
                </a:cubicBezTo>
                <a:cubicBezTo>
                  <a:pt x="20036" y="12678"/>
                  <a:pt x="20025" y="12671"/>
                  <a:pt x="19993" y="12576"/>
                </a:cubicBezTo>
              </a:path>
              <a:path w="3152" h="2680">
                <a:moveTo>
                  <a:pt x="20414" y="12105"/>
                </a:moveTo>
                <a:cubicBezTo>
                  <a:pt x="20538" y="12167"/>
                  <a:pt x="20512" y="12247"/>
                  <a:pt x="20538" y="12378"/>
                </a:cubicBezTo>
                <a:cubicBezTo>
                  <a:pt x="20551" y="12441"/>
                  <a:pt x="20604" y="12540"/>
                  <a:pt x="20687" y="12502"/>
                </a:cubicBezTo>
                <a:cubicBezTo>
                  <a:pt x="20788" y="12456"/>
                  <a:pt x="20800" y="12372"/>
                  <a:pt x="20836" y="12278"/>
                </a:cubicBezTo>
                <a:cubicBezTo>
                  <a:pt x="20754" y="12278"/>
                  <a:pt x="20707" y="12377"/>
                  <a:pt x="20687" y="12452"/>
                </a:cubicBezTo>
                <a:cubicBezTo>
                  <a:pt x="20687" y="12513"/>
                  <a:pt x="20678" y="12529"/>
                  <a:pt x="20712" y="12551"/>
                </a:cubicBezTo>
              </a:path>
              <a:path w="3152" h="2680">
                <a:moveTo>
                  <a:pt x="17735" y="12154"/>
                </a:moveTo>
                <a:cubicBezTo>
                  <a:pt x="17823" y="12231"/>
                  <a:pt x="17871" y="12234"/>
                  <a:pt x="17983" y="12254"/>
                </a:cubicBezTo>
                <a:cubicBezTo>
                  <a:pt x="18000" y="12257"/>
                  <a:pt x="18172" y="12300"/>
                  <a:pt x="18182" y="12328"/>
                </a:cubicBezTo>
                <a:cubicBezTo>
                  <a:pt x="18209" y="12403"/>
                  <a:pt x="18109" y="12488"/>
                  <a:pt x="18083" y="12551"/>
                </a:cubicBezTo>
                <a:cubicBezTo>
                  <a:pt x="18064" y="12597"/>
                  <a:pt x="18043" y="12634"/>
                  <a:pt x="18033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41960" y="4776840"/>
            <a:ext cx="295200" cy="314280"/>
          </a:xfrm>
          <a:custGeom>
            <a:avLst/>
            <a:gdLst/>
            <a:ahLst/>
            <a:rect l="l" t="t" r="r" b="b"/>
            <a:pathLst>
              <a:path w="820" h="869">
                <a:moveTo>
                  <a:pt x="14560" y="13791"/>
                </a:moveTo>
                <a:cubicBezTo>
                  <a:pt x="14589" y="13856"/>
                  <a:pt x="14652" y="14105"/>
                  <a:pt x="14709" y="14139"/>
                </a:cubicBezTo>
                <a:cubicBezTo>
                  <a:pt x="14709" y="14122"/>
                  <a:pt x="14709" y="14106"/>
                  <a:pt x="14709" y="14089"/>
                </a:cubicBezTo>
              </a:path>
              <a:path w="820" h="869">
                <a:moveTo>
                  <a:pt x="14833" y="13667"/>
                </a:moveTo>
                <a:cubicBezTo>
                  <a:pt x="14955" y="13691"/>
                  <a:pt x="15056" y="13743"/>
                  <a:pt x="15056" y="13891"/>
                </a:cubicBezTo>
                <a:cubicBezTo>
                  <a:pt x="15056" y="14010"/>
                  <a:pt x="15017" y="14022"/>
                  <a:pt x="14932" y="14064"/>
                </a:cubicBezTo>
                <a:cubicBezTo>
                  <a:pt x="14925" y="14010"/>
                  <a:pt x="14883" y="13876"/>
                  <a:pt x="14957" y="13841"/>
                </a:cubicBezTo>
                <a:cubicBezTo>
                  <a:pt x="15042" y="13801"/>
                  <a:pt x="15098" y="13891"/>
                  <a:pt x="15106" y="13940"/>
                </a:cubicBezTo>
              </a:path>
              <a:path w="820" h="869">
                <a:moveTo>
                  <a:pt x="15081" y="13618"/>
                </a:moveTo>
                <a:cubicBezTo>
                  <a:pt x="15081" y="13654"/>
                  <a:pt x="15087" y="13704"/>
                  <a:pt x="15131" y="13717"/>
                </a:cubicBezTo>
                <a:cubicBezTo>
                  <a:pt x="15193" y="13735"/>
                  <a:pt x="15299" y="13617"/>
                  <a:pt x="15329" y="13568"/>
                </a:cubicBezTo>
                <a:cubicBezTo>
                  <a:pt x="15329" y="13560"/>
                  <a:pt x="15329" y="13551"/>
                  <a:pt x="15329" y="13543"/>
                </a:cubicBezTo>
              </a:path>
              <a:path w="820" h="869">
                <a:moveTo>
                  <a:pt x="15230" y="13444"/>
                </a:moveTo>
                <a:cubicBezTo>
                  <a:pt x="15252" y="13553"/>
                  <a:pt x="15308" y="13662"/>
                  <a:pt x="15354" y="13767"/>
                </a:cubicBezTo>
                <a:cubicBezTo>
                  <a:pt x="15362" y="13783"/>
                  <a:pt x="15371" y="13800"/>
                  <a:pt x="15379" y="13816"/>
                </a:cubicBezTo>
              </a:path>
              <a:path w="820" h="869">
                <a:moveTo>
                  <a:pt x="15329" y="13295"/>
                </a:moveTo>
                <a:cubicBezTo>
                  <a:pt x="15329" y="13322"/>
                  <a:pt x="15309" y="13392"/>
                  <a:pt x="15329" y="13345"/>
                </a:cubicBezTo>
                <a:cubicBezTo>
                  <a:pt x="15368" y="13250"/>
                  <a:pt x="15373" y="13289"/>
                  <a:pt x="15329" y="13320"/>
                </a:cubicBezTo>
                <a:cubicBezTo>
                  <a:pt x="15313" y="13328"/>
                  <a:pt x="15296" y="13337"/>
                  <a:pt x="15280" y="133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59280" y="4660920"/>
            <a:ext cx="268560" cy="24120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16148" y="13097"/>
                </a:moveTo>
                <a:cubicBezTo>
                  <a:pt x="16126" y="13129"/>
                  <a:pt x="16037" y="13148"/>
                  <a:pt x="15999" y="13196"/>
                </a:cubicBezTo>
                <a:cubicBezTo>
                  <a:pt x="15970" y="13232"/>
                  <a:pt x="16010" y="13336"/>
                  <a:pt x="16024" y="13370"/>
                </a:cubicBezTo>
                <a:cubicBezTo>
                  <a:pt x="16044" y="13410"/>
                  <a:pt x="16053" y="13416"/>
                  <a:pt x="16049" y="13444"/>
                </a:cubicBezTo>
                <a:cubicBezTo>
                  <a:pt x="16135" y="13379"/>
                  <a:pt x="16158" y="13333"/>
                  <a:pt x="16272" y="13320"/>
                </a:cubicBezTo>
                <a:cubicBezTo>
                  <a:pt x="16304" y="13384"/>
                  <a:pt x="16303" y="13503"/>
                  <a:pt x="16247" y="13568"/>
                </a:cubicBezTo>
                <a:cubicBezTo>
                  <a:pt x="16158" y="13671"/>
                  <a:pt x="16157" y="13587"/>
                  <a:pt x="16123" y="13519"/>
                </a:cubicBezTo>
              </a:path>
              <a:path w="745" h="671">
                <a:moveTo>
                  <a:pt x="16321" y="13097"/>
                </a:moveTo>
                <a:cubicBezTo>
                  <a:pt x="16356" y="13202"/>
                  <a:pt x="16401" y="13295"/>
                  <a:pt x="16446" y="13395"/>
                </a:cubicBezTo>
                <a:cubicBezTo>
                  <a:pt x="16463" y="13433"/>
                  <a:pt x="16534" y="13517"/>
                  <a:pt x="16570" y="13444"/>
                </a:cubicBezTo>
                <a:cubicBezTo>
                  <a:pt x="16604" y="13376"/>
                  <a:pt x="16602" y="13350"/>
                  <a:pt x="16570" y="13295"/>
                </a:cubicBezTo>
                <a:cubicBezTo>
                  <a:pt x="16570" y="13376"/>
                  <a:pt x="16556" y="13453"/>
                  <a:pt x="16594" y="13519"/>
                </a:cubicBezTo>
              </a:path>
              <a:path w="745" h="671">
                <a:moveTo>
                  <a:pt x="16669" y="12948"/>
                </a:moveTo>
                <a:cubicBezTo>
                  <a:pt x="16669" y="12981"/>
                  <a:pt x="16669" y="13014"/>
                  <a:pt x="16669" y="13047"/>
                </a:cubicBezTo>
                <a:cubicBezTo>
                  <a:pt x="16727" y="13006"/>
                  <a:pt x="16790" y="12964"/>
                  <a:pt x="16694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03800" y="3848040"/>
            <a:ext cx="268200" cy="23328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2254" y="10765"/>
                </a:moveTo>
                <a:cubicBezTo>
                  <a:pt x="12240" y="10724"/>
                  <a:pt x="12155" y="10730"/>
                  <a:pt x="12105" y="10740"/>
                </a:cubicBezTo>
                <a:cubicBezTo>
                  <a:pt x="12032" y="10754"/>
                  <a:pt x="11981" y="10767"/>
                  <a:pt x="11981" y="10840"/>
                </a:cubicBezTo>
                <a:cubicBezTo>
                  <a:pt x="11981" y="10906"/>
                  <a:pt x="11981" y="10972"/>
                  <a:pt x="11981" y="11038"/>
                </a:cubicBezTo>
                <a:cubicBezTo>
                  <a:pt x="12049" y="11022"/>
                  <a:pt x="12280" y="10964"/>
                  <a:pt x="12303" y="11088"/>
                </a:cubicBezTo>
                <a:cubicBezTo>
                  <a:pt x="12330" y="11237"/>
                  <a:pt x="12152" y="11348"/>
                  <a:pt x="12030" y="11336"/>
                </a:cubicBezTo>
                <a:cubicBezTo>
                  <a:pt x="11936" y="11326"/>
                  <a:pt x="11956" y="11305"/>
                  <a:pt x="11956" y="11237"/>
                </a:cubicBezTo>
              </a:path>
              <a:path w="745" h="646">
                <a:moveTo>
                  <a:pt x="12452" y="10840"/>
                </a:moveTo>
                <a:cubicBezTo>
                  <a:pt x="12415" y="10958"/>
                  <a:pt x="12383" y="11042"/>
                  <a:pt x="12427" y="11162"/>
                </a:cubicBezTo>
                <a:cubicBezTo>
                  <a:pt x="12484" y="11318"/>
                  <a:pt x="12570" y="11239"/>
                  <a:pt x="12650" y="11162"/>
                </a:cubicBezTo>
                <a:cubicBezTo>
                  <a:pt x="12705" y="11110"/>
                  <a:pt x="12700" y="11121"/>
                  <a:pt x="12700" y="11063"/>
                </a:cubicBezTo>
                <a:cubicBezTo>
                  <a:pt x="12618" y="11063"/>
                  <a:pt x="12559" y="11109"/>
                  <a:pt x="12526" y="11187"/>
                </a:cubicBezTo>
                <a:cubicBezTo>
                  <a:pt x="12490" y="11272"/>
                  <a:pt x="12501" y="11298"/>
                  <a:pt x="12576" y="11212"/>
                </a:cubicBezTo>
              </a:path>
              <a:path w="745" h="646">
                <a:moveTo>
                  <a:pt x="12551" y="10691"/>
                </a:moveTo>
                <a:cubicBezTo>
                  <a:pt x="12551" y="10753"/>
                  <a:pt x="12546" y="10790"/>
                  <a:pt x="12576" y="10840"/>
                </a:cubicBezTo>
                <a:cubicBezTo>
                  <a:pt x="12602" y="10824"/>
                  <a:pt x="12755" y="10704"/>
                  <a:pt x="12675" y="10691"/>
                </a:cubicBezTo>
                <a:cubicBezTo>
                  <a:pt x="12624" y="10691"/>
                  <a:pt x="12605" y="10692"/>
                  <a:pt x="12576" y="107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2960" y="1197000"/>
            <a:ext cx="1623960" cy="1062000"/>
          </a:xfrm>
          <a:custGeom>
            <a:avLst/>
            <a:gdLst/>
            <a:ahLst/>
            <a:rect l="l" t="t" r="r" b="b"/>
            <a:pathLst>
              <a:path w="4515" h="2953">
                <a:moveTo>
                  <a:pt x="15776" y="3572"/>
                </a:moveTo>
                <a:cubicBezTo>
                  <a:pt x="15755" y="3696"/>
                  <a:pt x="15719" y="3825"/>
                  <a:pt x="15677" y="3944"/>
                </a:cubicBezTo>
                <a:cubicBezTo>
                  <a:pt x="15631" y="4075"/>
                  <a:pt x="15607" y="4112"/>
                  <a:pt x="15627" y="4242"/>
                </a:cubicBezTo>
                <a:cubicBezTo>
                  <a:pt x="15776" y="4308"/>
                  <a:pt x="15952" y="4233"/>
                  <a:pt x="16073" y="4093"/>
                </a:cubicBezTo>
                <a:cubicBezTo>
                  <a:pt x="16081" y="4068"/>
                  <a:pt x="16090" y="4043"/>
                  <a:pt x="16098" y="4018"/>
                </a:cubicBezTo>
                <a:cubicBezTo>
                  <a:pt x="16001" y="4067"/>
                  <a:pt x="15922" y="4161"/>
                  <a:pt x="15875" y="4266"/>
                </a:cubicBezTo>
                <a:cubicBezTo>
                  <a:pt x="15875" y="4309"/>
                  <a:pt x="15892" y="4311"/>
                  <a:pt x="15949" y="4266"/>
                </a:cubicBezTo>
              </a:path>
              <a:path w="4515" h="2953">
                <a:moveTo>
                  <a:pt x="16297" y="3597"/>
                </a:moveTo>
                <a:cubicBezTo>
                  <a:pt x="16297" y="3750"/>
                  <a:pt x="16293" y="3917"/>
                  <a:pt x="16272" y="4068"/>
                </a:cubicBezTo>
                <a:cubicBezTo>
                  <a:pt x="16251" y="4150"/>
                  <a:pt x="16243" y="4166"/>
                  <a:pt x="16247" y="4217"/>
                </a:cubicBezTo>
              </a:path>
              <a:path w="4515" h="2953">
                <a:moveTo>
                  <a:pt x="14957" y="4812"/>
                </a:moveTo>
                <a:cubicBezTo>
                  <a:pt x="14950" y="4930"/>
                  <a:pt x="14932" y="5040"/>
                  <a:pt x="14932" y="5159"/>
                </a:cubicBezTo>
              </a:path>
              <a:path w="4515" h="2953">
                <a:moveTo>
                  <a:pt x="14784" y="5085"/>
                </a:moveTo>
                <a:cubicBezTo>
                  <a:pt x="14903" y="5043"/>
                  <a:pt x="15015" y="5009"/>
                  <a:pt x="15131" y="4961"/>
                </a:cubicBezTo>
              </a:path>
              <a:path w="4515" h="2953">
                <a:moveTo>
                  <a:pt x="15825" y="4614"/>
                </a:moveTo>
                <a:cubicBezTo>
                  <a:pt x="15787" y="4614"/>
                  <a:pt x="15702" y="4600"/>
                  <a:pt x="15677" y="4638"/>
                </a:cubicBezTo>
                <a:cubicBezTo>
                  <a:pt x="15642" y="4690"/>
                  <a:pt x="15628" y="4778"/>
                  <a:pt x="15602" y="4837"/>
                </a:cubicBezTo>
                <a:cubicBezTo>
                  <a:pt x="15688" y="4874"/>
                  <a:pt x="15742" y="4813"/>
                  <a:pt x="15825" y="4862"/>
                </a:cubicBezTo>
                <a:cubicBezTo>
                  <a:pt x="15900" y="4906"/>
                  <a:pt x="15805" y="5021"/>
                  <a:pt x="15751" y="5035"/>
                </a:cubicBezTo>
                <a:cubicBezTo>
                  <a:pt x="15655" y="5035"/>
                  <a:pt x="15625" y="5037"/>
                  <a:pt x="15577" y="4986"/>
                </a:cubicBezTo>
              </a:path>
              <a:path w="4515" h="2953">
                <a:moveTo>
                  <a:pt x="15751" y="4663"/>
                </a:moveTo>
                <a:cubicBezTo>
                  <a:pt x="15860" y="4623"/>
                  <a:pt x="15961" y="4592"/>
                  <a:pt x="16073" y="4564"/>
                </a:cubicBezTo>
              </a:path>
              <a:path w="4515" h="2953">
                <a:moveTo>
                  <a:pt x="16173" y="4564"/>
                </a:moveTo>
                <a:cubicBezTo>
                  <a:pt x="16173" y="4684"/>
                  <a:pt x="16160" y="4796"/>
                  <a:pt x="16148" y="4911"/>
                </a:cubicBezTo>
                <a:cubicBezTo>
                  <a:pt x="16137" y="5016"/>
                  <a:pt x="16214" y="5063"/>
                  <a:pt x="16321" y="5035"/>
                </a:cubicBezTo>
                <a:cubicBezTo>
                  <a:pt x="16414" y="5011"/>
                  <a:pt x="16468" y="4956"/>
                  <a:pt x="16520" y="4887"/>
                </a:cubicBezTo>
                <a:cubicBezTo>
                  <a:pt x="16427" y="4905"/>
                  <a:pt x="16373" y="4956"/>
                  <a:pt x="16321" y="5035"/>
                </a:cubicBezTo>
                <a:cubicBezTo>
                  <a:pt x="16313" y="5052"/>
                  <a:pt x="16305" y="5068"/>
                  <a:pt x="16297" y="5085"/>
                </a:cubicBezTo>
              </a:path>
              <a:path w="4515" h="2953">
                <a:moveTo>
                  <a:pt x="15255" y="5432"/>
                </a:moveTo>
                <a:cubicBezTo>
                  <a:pt x="15527" y="5324"/>
                  <a:pt x="15810" y="5289"/>
                  <a:pt x="16098" y="5234"/>
                </a:cubicBezTo>
                <a:cubicBezTo>
                  <a:pt x="16288" y="5198"/>
                  <a:pt x="16479" y="5167"/>
                  <a:pt x="16669" y="5135"/>
                </a:cubicBezTo>
              </a:path>
              <a:path w="4515" h="2953">
                <a:moveTo>
                  <a:pt x="15354" y="5581"/>
                </a:moveTo>
                <a:lnTo>
                  <a:pt x="15354" y="5631"/>
                </a:lnTo>
                <a:lnTo>
                  <a:pt x="15354" y="5755"/>
                </a:lnTo>
                <a:lnTo>
                  <a:pt x="15329" y="5953"/>
                </a:lnTo>
                <a:lnTo>
                  <a:pt x="15304" y="6102"/>
                </a:lnTo>
                <a:lnTo>
                  <a:pt x="15255" y="6201"/>
                </a:lnTo>
                <a:lnTo>
                  <a:pt x="15255" y="6276"/>
                </a:lnTo>
                <a:lnTo>
                  <a:pt x="15255" y="6251"/>
                </a:lnTo>
              </a:path>
              <a:path w="4515" h="2953">
                <a:moveTo>
                  <a:pt x="15776" y="5531"/>
                </a:moveTo>
                <a:cubicBezTo>
                  <a:pt x="15776" y="5682"/>
                  <a:pt x="15798" y="5827"/>
                  <a:pt x="15801" y="5978"/>
                </a:cubicBezTo>
                <a:cubicBezTo>
                  <a:pt x="15802" y="6020"/>
                  <a:pt x="15788" y="6141"/>
                  <a:pt x="15825" y="6102"/>
                </a:cubicBezTo>
              </a:path>
              <a:path w="4515" h="2953">
                <a:moveTo>
                  <a:pt x="16173" y="5432"/>
                </a:moveTo>
                <a:cubicBezTo>
                  <a:pt x="16215" y="5390"/>
                  <a:pt x="16363" y="5345"/>
                  <a:pt x="16446" y="5333"/>
                </a:cubicBezTo>
                <a:cubicBezTo>
                  <a:pt x="16504" y="5333"/>
                  <a:pt x="16528" y="5349"/>
                  <a:pt x="16520" y="5308"/>
                </a:cubicBezTo>
                <a:cubicBezTo>
                  <a:pt x="16520" y="5436"/>
                  <a:pt x="16515" y="5552"/>
                  <a:pt x="16495" y="5680"/>
                </a:cubicBezTo>
                <a:cubicBezTo>
                  <a:pt x="16480" y="5774"/>
                  <a:pt x="16472" y="5865"/>
                  <a:pt x="16446" y="5953"/>
                </a:cubicBezTo>
              </a:path>
              <a:path w="4515" h="2953">
                <a:moveTo>
                  <a:pt x="17835" y="3572"/>
                </a:moveTo>
                <a:cubicBezTo>
                  <a:pt x="17835" y="3547"/>
                  <a:pt x="17835" y="3539"/>
                  <a:pt x="17859" y="3547"/>
                </a:cubicBezTo>
                <a:cubicBezTo>
                  <a:pt x="17859" y="3504"/>
                  <a:pt x="17815" y="3839"/>
                  <a:pt x="17810" y="3870"/>
                </a:cubicBezTo>
                <a:cubicBezTo>
                  <a:pt x="17795" y="3964"/>
                  <a:pt x="17692" y="4076"/>
                  <a:pt x="17760" y="4142"/>
                </a:cubicBezTo>
                <a:cubicBezTo>
                  <a:pt x="17768" y="4142"/>
                  <a:pt x="17777" y="4142"/>
                  <a:pt x="17785" y="4142"/>
                </a:cubicBezTo>
              </a:path>
              <a:path w="4515" h="2953">
                <a:moveTo>
                  <a:pt x="18455" y="3373"/>
                </a:moveTo>
                <a:cubicBezTo>
                  <a:pt x="18352" y="3388"/>
                  <a:pt x="18252" y="3412"/>
                  <a:pt x="18182" y="3497"/>
                </a:cubicBezTo>
                <a:cubicBezTo>
                  <a:pt x="18174" y="3514"/>
                  <a:pt x="18165" y="3530"/>
                  <a:pt x="18157" y="3547"/>
                </a:cubicBezTo>
                <a:cubicBezTo>
                  <a:pt x="18279" y="3635"/>
                  <a:pt x="18405" y="3704"/>
                  <a:pt x="18479" y="3820"/>
                </a:cubicBezTo>
                <a:cubicBezTo>
                  <a:pt x="18424" y="3880"/>
                  <a:pt x="18201" y="4057"/>
                  <a:pt x="18207" y="3820"/>
                </a:cubicBezTo>
                <a:cubicBezTo>
                  <a:pt x="18210" y="3711"/>
                  <a:pt x="18320" y="3610"/>
                  <a:pt x="18355" y="3522"/>
                </a:cubicBezTo>
              </a:path>
              <a:path w="4515" h="2953">
                <a:moveTo>
                  <a:pt x="18777" y="3324"/>
                </a:moveTo>
                <a:cubicBezTo>
                  <a:pt x="18759" y="3466"/>
                  <a:pt x="18722" y="3579"/>
                  <a:pt x="18752" y="3721"/>
                </a:cubicBezTo>
                <a:cubicBezTo>
                  <a:pt x="18760" y="3746"/>
                  <a:pt x="18769" y="3770"/>
                  <a:pt x="18777" y="3795"/>
                </a:cubicBezTo>
                <a:cubicBezTo>
                  <a:pt x="18918" y="3765"/>
                  <a:pt x="19098" y="3688"/>
                  <a:pt x="19075" y="3497"/>
                </a:cubicBezTo>
                <a:cubicBezTo>
                  <a:pt x="19052" y="3308"/>
                  <a:pt x="18861" y="3375"/>
                  <a:pt x="18777" y="3423"/>
                </a:cubicBezTo>
              </a:path>
              <a:path w="4515" h="2953">
                <a:moveTo>
                  <a:pt x="17289" y="4738"/>
                </a:moveTo>
                <a:cubicBezTo>
                  <a:pt x="17390" y="4708"/>
                  <a:pt x="17488" y="4674"/>
                  <a:pt x="17587" y="4638"/>
                </a:cubicBezTo>
              </a:path>
              <a:path w="4515" h="2953">
                <a:moveTo>
                  <a:pt x="17983" y="4366"/>
                </a:moveTo>
                <a:cubicBezTo>
                  <a:pt x="18001" y="4504"/>
                  <a:pt x="18025" y="4646"/>
                  <a:pt x="18008" y="4787"/>
                </a:cubicBezTo>
                <a:cubicBezTo>
                  <a:pt x="17989" y="4862"/>
                  <a:pt x="17955" y="4895"/>
                  <a:pt x="18008" y="4887"/>
                </a:cubicBezTo>
              </a:path>
              <a:path w="4515" h="2953">
                <a:moveTo>
                  <a:pt x="18504" y="4291"/>
                </a:moveTo>
                <a:cubicBezTo>
                  <a:pt x="18478" y="4448"/>
                  <a:pt x="18476" y="4605"/>
                  <a:pt x="18455" y="4762"/>
                </a:cubicBezTo>
                <a:cubicBezTo>
                  <a:pt x="18449" y="4811"/>
                  <a:pt x="18438" y="4832"/>
                  <a:pt x="18479" y="4762"/>
                </a:cubicBezTo>
              </a:path>
              <a:path w="4515" h="2953">
                <a:moveTo>
                  <a:pt x="18703" y="4242"/>
                </a:moveTo>
                <a:cubicBezTo>
                  <a:pt x="18797" y="4223"/>
                  <a:pt x="18885" y="4177"/>
                  <a:pt x="18976" y="4142"/>
                </a:cubicBezTo>
                <a:cubicBezTo>
                  <a:pt x="19077" y="4103"/>
                  <a:pt x="19140" y="4091"/>
                  <a:pt x="19149" y="4217"/>
                </a:cubicBezTo>
                <a:cubicBezTo>
                  <a:pt x="19161" y="4376"/>
                  <a:pt x="19119" y="4534"/>
                  <a:pt x="19100" y="4688"/>
                </a:cubicBezTo>
                <a:cubicBezTo>
                  <a:pt x="19100" y="4705"/>
                  <a:pt x="19100" y="4721"/>
                  <a:pt x="19100" y="4738"/>
                </a:cubicBezTo>
              </a:path>
              <a:path w="4515" h="2953">
                <a:moveTo>
                  <a:pt x="17413" y="5283"/>
                </a:moveTo>
                <a:cubicBezTo>
                  <a:pt x="17543" y="5177"/>
                  <a:pt x="17720" y="5163"/>
                  <a:pt x="17884" y="5135"/>
                </a:cubicBezTo>
                <a:cubicBezTo>
                  <a:pt x="18287" y="5065"/>
                  <a:pt x="18696" y="5024"/>
                  <a:pt x="19100" y="4961"/>
                </a:cubicBezTo>
                <a:cubicBezTo>
                  <a:pt x="19180" y="4948"/>
                  <a:pt x="19226" y="4942"/>
                  <a:pt x="19298" y="4936"/>
                </a:cubicBezTo>
              </a:path>
              <a:path w="4515" h="2953">
                <a:moveTo>
                  <a:pt x="18380" y="5383"/>
                </a:moveTo>
                <a:cubicBezTo>
                  <a:pt x="18409" y="5296"/>
                  <a:pt x="18410" y="5428"/>
                  <a:pt x="18405" y="5457"/>
                </a:cubicBezTo>
                <a:cubicBezTo>
                  <a:pt x="18380" y="5601"/>
                  <a:pt x="18359" y="5742"/>
                  <a:pt x="18405" y="5879"/>
                </a:cubicBezTo>
                <a:cubicBezTo>
                  <a:pt x="18544" y="5901"/>
                  <a:pt x="18669" y="5871"/>
                  <a:pt x="18752" y="5730"/>
                </a:cubicBezTo>
                <a:cubicBezTo>
                  <a:pt x="18794" y="5659"/>
                  <a:pt x="18785" y="5611"/>
                  <a:pt x="18752" y="5556"/>
                </a:cubicBezTo>
                <a:cubicBezTo>
                  <a:pt x="18637" y="5585"/>
                  <a:pt x="18599" y="5682"/>
                  <a:pt x="18579" y="5804"/>
                </a:cubicBezTo>
                <a:cubicBezTo>
                  <a:pt x="18566" y="5888"/>
                  <a:pt x="18577" y="5905"/>
                  <a:pt x="18628" y="5879"/>
                </a:cubicBezTo>
              </a:path>
              <a:path w="4515" h="2953">
                <a:moveTo>
                  <a:pt x="18901" y="5333"/>
                </a:moveTo>
                <a:cubicBezTo>
                  <a:pt x="18875" y="5280"/>
                  <a:pt x="18928" y="5213"/>
                  <a:pt x="19000" y="5184"/>
                </a:cubicBezTo>
                <a:cubicBezTo>
                  <a:pt x="19045" y="5166"/>
                  <a:pt x="19088" y="5172"/>
                  <a:pt x="19100" y="5184"/>
                </a:cubicBezTo>
                <a:cubicBezTo>
                  <a:pt x="19127" y="5323"/>
                  <a:pt x="19074" y="5358"/>
                  <a:pt x="18976" y="5457"/>
                </a:cubicBezTo>
                <a:cubicBezTo>
                  <a:pt x="19014" y="5379"/>
                  <a:pt x="19087" y="5360"/>
                  <a:pt x="19174" y="5383"/>
                </a:cubicBezTo>
                <a:cubicBezTo>
                  <a:pt x="19295" y="5415"/>
                  <a:pt x="19300" y="5552"/>
                  <a:pt x="19224" y="5631"/>
                </a:cubicBezTo>
                <a:cubicBezTo>
                  <a:pt x="19169" y="5688"/>
                  <a:pt x="19098" y="5695"/>
                  <a:pt x="19025" y="57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03200" y="4446720"/>
            <a:ext cx="5224680" cy="1179360"/>
          </a:xfrm>
          <a:custGeom>
            <a:avLst/>
            <a:gdLst/>
            <a:ahLst/>
            <a:rect l="l" t="t" r="r" b="b"/>
            <a:pathLst>
              <a:path w="14512" h="3275">
                <a:moveTo>
                  <a:pt x="3646" y="15627"/>
                </a:moveTo>
                <a:cubicBezTo>
                  <a:pt x="3697" y="15610"/>
                  <a:pt x="3694" y="15592"/>
                  <a:pt x="3746" y="15577"/>
                </a:cubicBezTo>
                <a:cubicBezTo>
                  <a:pt x="3850" y="15547"/>
                  <a:pt x="3971" y="15497"/>
                  <a:pt x="4068" y="15478"/>
                </a:cubicBezTo>
                <a:cubicBezTo>
                  <a:pt x="4190" y="15454"/>
                  <a:pt x="4318" y="15450"/>
                  <a:pt x="4440" y="15429"/>
                </a:cubicBezTo>
                <a:cubicBezTo>
                  <a:pt x="4504" y="15418"/>
                  <a:pt x="4553" y="15413"/>
                  <a:pt x="4614" y="15404"/>
                </a:cubicBezTo>
                <a:cubicBezTo>
                  <a:pt x="4698" y="15391"/>
                  <a:pt x="4777" y="15391"/>
                  <a:pt x="4862" y="15379"/>
                </a:cubicBezTo>
                <a:cubicBezTo>
                  <a:pt x="4954" y="15366"/>
                  <a:pt x="5046" y="15344"/>
                  <a:pt x="5135" y="15329"/>
                </a:cubicBezTo>
                <a:cubicBezTo>
                  <a:pt x="5226" y="15314"/>
                  <a:pt x="5317" y="15301"/>
                  <a:pt x="5407" y="15280"/>
                </a:cubicBezTo>
                <a:cubicBezTo>
                  <a:pt x="5482" y="15263"/>
                  <a:pt x="5557" y="15250"/>
                  <a:pt x="5631" y="15230"/>
                </a:cubicBezTo>
                <a:cubicBezTo>
                  <a:pt x="5692" y="15213"/>
                  <a:pt x="5748" y="15195"/>
                  <a:pt x="5804" y="15180"/>
                </a:cubicBezTo>
                <a:cubicBezTo>
                  <a:pt x="5854" y="15167"/>
                  <a:pt x="5903" y="15144"/>
                  <a:pt x="5953" y="15131"/>
                </a:cubicBezTo>
                <a:cubicBezTo>
                  <a:pt x="6033" y="15110"/>
                  <a:pt x="6119" y="15102"/>
                  <a:pt x="6201" y="15081"/>
                </a:cubicBezTo>
                <a:cubicBezTo>
                  <a:pt x="6284" y="15060"/>
                  <a:pt x="6363" y="15027"/>
                  <a:pt x="6449" y="15007"/>
                </a:cubicBezTo>
                <a:cubicBezTo>
                  <a:pt x="6557" y="14982"/>
                  <a:pt x="6666" y="14954"/>
                  <a:pt x="6772" y="14932"/>
                </a:cubicBezTo>
                <a:cubicBezTo>
                  <a:pt x="6874" y="14911"/>
                  <a:pt x="6974" y="14901"/>
                  <a:pt x="7069" y="14883"/>
                </a:cubicBezTo>
                <a:cubicBezTo>
                  <a:pt x="7145" y="14869"/>
                  <a:pt x="7217" y="14870"/>
                  <a:pt x="7293" y="14858"/>
                </a:cubicBezTo>
                <a:cubicBezTo>
                  <a:pt x="7390" y="14843"/>
                  <a:pt x="7491" y="14820"/>
                  <a:pt x="7590" y="14808"/>
                </a:cubicBezTo>
                <a:cubicBezTo>
                  <a:pt x="7652" y="14801"/>
                  <a:pt x="7703" y="14791"/>
                  <a:pt x="7764" y="14784"/>
                </a:cubicBezTo>
                <a:cubicBezTo>
                  <a:pt x="7842" y="14775"/>
                  <a:pt x="7909" y="14767"/>
                  <a:pt x="7987" y="14759"/>
                </a:cubicBezTo>
                <a:cubicBezTo>
                  <a:pt x="8082" y="14749"/>
                  <a:pt x="8167" y="14742"/>
                  <a:pt x="8260" y="14734"/>
                </a:cubicBezTo>
                <a:cubicBezTo>
                  <a:pt x="8387" y="14722"/>
                  <a:pt x="8509" y="14733"/>
                  <a:pt x="8632" y="14709"/>
                </a:cubicBezTo>
                <a:cubicBezTo>
                  <a:pt x="8685" y="14699"/>
                  <a:pt x="8773" y="14677"/>
                  <a:pt x="8830" y="14660"/>
                </a:cubicBezTo>
                <a:cubicBezTo>
                  <a:pt x="9000" y="14609"/>
                  <a:pt x="9155" y="14526"/>
                  <a:pt x="9327" y="14486"/>
                </a:cubicBezTo>
                <a:cubicBezTo>
                  <a:pt x="9397" y="14470"/>
                  <a:pt x="9456" y="14456"/>
                  <a:pt x="9525" y="14436"/>
                </a:cubicBezTo>
                <a:cubicBezTo>
                  <a:pt x="9668" y="14395"/>
                  <a:pt x="9828" y="14382"/>
                  <a:pt x="9971" y="14337"/>
                </a:cubicBezTo>
                <a:cubicBezTo>
                  <a:pt x="10023" y="14321"/>
                  <a:pt x="10086" y="14278"/>
                  <a:pt x="10145" y="14263"/>
                </a:cubicBezTo>
                <a:cubicBezTo>
                  <a:pt x="10220" y="14244"/>
                  <a:pt x="10293" y="14235"/>
                  <a:pt x="10368" y="14213"/>
                </a:cubicBezTo>
                <a:cubicBezTo>
                  <a:pt x="10447" y="14190"/>
                  <a:pt x="10533" y="14162"/>
                  <a:pt x="10616" y="14139"/>
                </a:cubicBezTo>
                <a:cubicBezTo>
                  <a:pt x="10782" y="14092"/>
                  <a:pt x="10950" y="14066"/>
                  <a:pt x="11112" y="14015"/>
                </a:cubicBezTo>
                <a:cubicBezTo>
                  <a:pt x="11185" y="13992"/>
                  <a:pt x="11269" y="13933"/>
                  <a:pt x="11336" y="13915"/>
                </a:cubicBezTo>
                <a:cubicBezTo>
                  <a:pt x="11455" y="13884"/>
                  <a:pt x="11587" y="13889"/>
                  <a:pt x="11708" y="13866"/>
                </a:cubicBezTo>
                <a:cubicBezTo>
                  <a:pt x="11797" y="13849"/>
                  <a:pt x="11890" y="13832"/>
                  <a:pt x="11981" y="13816"/>
                </a:cubicBezTo>
                <a:cubicBezTo>
                  <a:pt x="12058" y="13802"/>
                  <a:pt x="12128" y="13780"/>
                  <a:pt x="12204" y="13767"/>
                </a:cubicBezTo>
                <a:cubicBezTo>
                  <a:pt x="12304" y="13750"/>
                  <a:pt x="12402" y="13737"/>
                  <a:pt x="12502" y="13717"/>
                </a:cubicBezTo>
                <a:cubicBezTo>
                  <a:pt x="12612" y="13694"/>
                  <a:pt x="12715" y="13665"/>
                  <a:pt x="12824" y="13643"/>
                </a:cubicBezTo>
                <a:cubicBezTo>
                  <a:pt x="12899" y="13628"/>
                  <a:pt x="12970" y="13609"/>
                  <a:pt x="13047" y="13593"/>
                </a:cubicBezTo>
                <a:cubicBezTo>
                  <a:pt x="13123" y="13578"/>
                  <a:pt x="13196" y="13561"/>
                  <a:pt x="13271" y="13543"/>
                </a:cubicBezTo>
                <a:cubicBezTo>
                  <a:pt x="13367" y="13520"/>
                  <a:pt x="13471" y="13490"/>
                  <a:pt x="13568" y="13469"/>
                </a:cubicBezTo>
                <a:cubicBezTo>
                  <a:pt x="13616" y="13459"/>
                  <a:pt x="13645" y="13454"/>
                  <a:pt x="13692" y="13444"/>
                </a:cubicBezTo>
                <a:cubicBezTo>
                  <a:pt x="13783" y="13425"/>
                  <a:pt x="13874" y="13415"/>
                  <a:pt x="13965" y="13395"/>
                </a:cubicBezTo>
                <a:cubicBezTo>
                  <a:pt x="14090" y="13368"/>
                  <a:pt x="14213" y="13329"/>
                  <a:pt x="14337" y="13295"/>
                </a:cubicBezTo>
                <a:cubicBezTo>
                  <a:pt x="14419" y="13273"/>
                  <a:pt x="14505" y="13267"/>
                  <a:pt x="14585" y="13246"/>
                </a:cubicBezTo>
                <a:cubicBezTo>
                  <a:pt x="14802" y="13189"/>
                  <a:pt x="15013" y="13115"/>
                  <a:pt x="15230" y="13047"/>
                </a:cubicBezTo>
                <a:cubicBezTo>
                  <a:pt x="15432" y="12984"/>
                  <a:pt x="15628" y="12946"/>
                  <a:pt x="15825" y="12898"/>
                </a:cubicBezTo>
                <a:cubicBezTo>
                  <a:pt x="15918" y="12876"/>
                  <a:pt x="16002" y="12843"/>
                  <a:pt x="16098" y="12824"/>
                </a:cubicBezTo>
                <a:cubicBezTo>
                  <a:pt x="16180" y="12808"/>
                  <a:pt x="16266" y="12789"/>
                  <a:pt x="16346" y="12774"/>
                </a:cubicBezTo>
                <a:cubicBezTo>
                  <a:pt x="16405" y="12763"/>
                  <a:pt x="16462" y="12760"/>
                  <a:pt x="16520" y="12750"/>
                </a:cubicBezTo>
                <a:cubicBezTo>
                  <a:pt x="16608" y="12734"/>
                  <a:pt x="16706" y="12722"/>
                  <a:pt x="16793" y="12700"/>
                </a:cubicBezTo>
                <a:cubicBezTo>
                  <a:pt x="16878" y="12678"/>
                  <a:pt x="16960" y="12651"/>
                  <a:pt x="17041" y="12626"/>
                </a:cubicBezTo>
                <a:cubicBezTo>
                  <a:pt x="17119" y="12602"/>
                  <a:pt x="17187" y="12574"/>
                  <a:pt x="17264" y="12551"/>
                </a:cubicBezTo>
                <a:cubicBezTo>
                  <a:pt x="17357" y="12523"/>
                  <a:pt x="17443" y="12502"/>
                  <a:pt x="17537" y="12477"/>
                </a:cubicBezTo>
                <a:cubicBezTo>
                  <a:pt x="17631" y="12452"/>
                  <a:pt x="17739" y="12423"/>
                  <a:pt x="17835" y="12402"/>
                </a:cubicBezTo>
                <a:cubicBezTo>
                  <a:pt x="17934" y="12381"/>
                  <a:pt x="18033" y="12372"/>
                  <a:pt x="18132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 Workbook pg. 12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 Workbook pg. 13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Students will find missing angles using rules of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9360" y="1644480"/>
            <a:ext cx="45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pplementary Angle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66068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whose su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18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22860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480060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733920" y="3352680"/>
            <a:ext cx="20574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5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366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790640" y="5105520"/>
                <a:ext cx="4457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= 1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248520" y="5105520"/>
            <a:ext cx="7596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4545000"/>
            <a:ext cx="973080" cy="250920"/>
          </a:xfrm>
          <a:custGeom>
            <a:avLst/>
            <a:gdLst/>
            <a:ahLst/>
            <a:rect l="l" t="t" r="r" b="b"/>
            <a:pathLst>
              <a:path w="2704" h="695">
                <a:moveTo>
                  <a:pt x="9451" y="13295"/>
                </a:moveTo>
                <a:cubicBezTo>
                  <a:pt x="9455" y="13259"/>
                  <a:pt x="9434" y="13253"/>
                  <a:pt x="9451" y="13221"/>
                </a:cubicBezTo>
                <a:cubicBezTo>
                  <a:pt x="9475" y="13175"/>
                  <a:pt x="9523" y="13105"/>
                  <a:pt x="9550" y="13072"/>
                </a:cubicBezTo>
                <a:cubicBezTo>
                  <a:pt x="9610" y="12997"/>
                  <a:pt x="9691" y="12919"/>
                  <a:pt x="9773" y="12874"/>
                </a:cubicBezTo>
                <a:cubicBezTo>
                  <a:pt x="9862" y="12825"/>
                  <a:pt x="9949" y="12803"/>
                  <a:pt x="10046" y="12774"/>
                </a:cubicBezTo>
                <a:cubicBezTo>
                  <a:pt x="10139" y="12746"/>
                  <a:pt x="10231" y="12730"/>
                  <a:pt x="10319" y="12700"/>
                </a:cubicBezTo>
                <a:cubicBezTo>
                  <a:pt x="10437" y="12660"/>
                  <a:pt x="10592" y="12644"/>
                  <a:pt x="10716" y="12626"/>
                </a:cubicBezTo>
                <a:cubicBezTo>
                  <a:pt x="10853" y="12606"/>
                  <a:pt x="11032" y="12612"/>
                  <a:pt x="11162" y="12650"/>
                </a:cubicBezTo>
                <a:cubicBezTo>
                  <a:pt x="11248" y="12675"/>
                  <a:pt x="11325" y="12693"/>
                  <a:pt x="11410" y="12725"/>
                </a:cubicBezTo>
                <a:cubicBezTo>
                  <a:pt x="11461" y="12744"/>
                  <a:pt x="11570" y="12773"/>
                  <a:pt x="11609" y="12799"/>
                </a:cubicBezTo>
                <a:cubicBezTo>
                  <a:pt x="11671" y="12841"/>
                  <a:pt x="11727" y="12896"/>
                  <a:pt x="11782" y="12948"/>
                </a:cubicBezTo>
                <a:cubicBezTo>
                  <a:pt x="11832" y="12996"/>
                  <a:pt x="11911" y="13024"/>
                  <a:pt x="11956" y="13072"/>
                </a:cubicBezTo>
                <a:cubicBezTo>
                  <a:pt x="11966" y="13083"/>
                  <a:pt x="12001" y="13141"/>
                  <a:pt x="12005" y="13146"/>
                </a:cubicBezTo>
                <a:cubicBezTo>
                  <a:pt x="12030" y="13181"/>
                  <a:pt x="12037" y="13211"/>
                  <a:pt x="12055" y="13246"/>
                </a:cubicBezTo>
                <a:cubicBezTo>
                  <a:pt x="12069" y="13273"/>
                  <a:pt x="12093" y="13309"/>
                  <a:pt x="12105" y="13320"/>
                </a:cubicBezTo>
                <a:cubicBezTo>
                  <a:pt x="12113" y="13320"/>
                  <a:pt x="12121" y="13320"/>
                  <a:pt x="12129" y="133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65920" y="3187800"/>
            <a:ext cx="1436760" cy="285480"/>
          </a:xfrm>
          <a:custGeom>
            <a:avLst/>
            <a:gdLst/>
            <a:ahLst/>
            <a:rect l="l" t="t" r="r" b="b"/>
            <a:pathLst>
              <a:path w="3994" h="795">
                <a:moveTo>
                  <a:pt x="16694" y="8855"/>
                </a:moveTo>
                <a:cubicBezTo>
                  <a:pt x="16694" y="9038"/>
                  <a:pt x="16657" y="9198"/>
                  <a:pt x="16619" y="9376"/>
                </a:cubicBezTo>
                <a:cubicBezTo>
                  <a:pt x="16600" y="9470"/>
                  <a:pt x="16613" y="9489"/>
                  <a:pt x="16570" y="9525"/>
                </a:cubicBezTo>
                <a:cubicBezTo>
                  <a:pt x="16570" y="9380"/>
                  <a:pt x="16610" y="9309"/>
                  <a:pt x="16743" y="9227"/>
                </a:cubicBezTo>
                <a:cubicBezTo>
                  <a:pt x="16903" y="9128"/>
                  <a:pt x="17102" y="9230"/>
                  <a:pt x="17066" y="9426"/>
                </a:cubicBezTo>
                <a:cubicBezTo>
                  <a:pt x="17018" y="9684"/>
                  <a:pt x="16771" y="9605"/>
                  <a:pt x="16619" y="9550"/>
                </a:cubicBezTo>
                <a:cubicBezTo>
                  <a:pt x="16594" y="9550"/>
                  <a:pt x="16586" y="9550"/>
                  <a:pt x="16594" y="9525"/>
                </a:cubicBezTo>
              </a:path>
              <a:path w="3994" h="795">
                <a:moveTo>
                  <a:pt x="17264" y="9327"/>
                </a:moveTo>
                <a:cubicBezTo>
                  <a:pt x="17264" y="9357"/>
                  <a:pt x="17264" y="9622"/>
                  <a:pt x="17264" y="9575"/>
                </a:cubicBezTo>
              </a:path>
              <a:path w="3994" h="795">
                <a:moveTo>
                  <a:pt x="17289" y="9103"/>
                </a:moveTo>
                <a:lnTo>
                  <a:pt x="17289" y="9103"/>
                </a:lnTo>
              </a:path>
              <a:path w="3994" h="795">
                <a:moveTo>
                  <a:pt x="17760" y="9203"/>
                </a:moveTo>
                <a:cubicBezTo>
                  <a:pt x="17667" y="9212"/>
                  <a:pt x="17579" y="9239"/>
                  <a:pt x="17487" y="9252"/>
                </a:cubicBezTo>
                <a:cubicBezTo>
                  <a:pt x="17658" y="9281"/>
                  <a:pt x="17755" y="9339"/>
                  <a:pt x="17884" y="9451"/>
                </a:cubicBezTo>
                <a:cubicBezTo>
                  <a:pt x="17755" y="9606"/>
                  <a:pt x="17700" y="9624"/>
                  <a:pt x="17512" y="9550"/>
                </a:cubicBezTo>
              </a:path>
              <a:path w="3994" h="795">
                <a:moveTo>
                  <a:pt x="18058" y="9376"/>
                </a:moveTo>
                <a:cubicBezTo>
                  <a:pt x="18144" y="9369"/>
                  <a:pt x="18219" y="9351"/>
                  <a:pt x="18306" y="9351"/>
                </a:cubicBezTo>
                <a:cubicBezTo>
                  <a:pt x="18267" y="9303"/>
                  <a:pt x="18214" y="9213"/>
                  <a:pt x="18132" y="9252"/>
                </a:cubicBezTo>
                <a:cubicBezTo>
                  <a:pt x="18036" y="9298"/>
                  <a:pt x="18016" y="9563"/>
                  <a:pt x="18107" y="9624"/>
                </a:cubicBezTo>
                <a:cubicBezTo>
                  <a:pt x="18244" y="9652"/>
                  <a:pt x="18297" y="9654"/>
                  <a:pt x="18380" y="9575"/>
                </a:cubicBezTo>
              </a:path>
              <a:path w="3994" h="795">
                <a:moveTo>
                  <a:pt x="18777" y="9277"/>
                </a:moveTo>
                <a:cubicBezTo>
                  <a:pt x="18777" y="9310"/>
                  <a:pt x="18777" y="9260"/>
                  <a:pt x="18777" y="9227"/>
                </a:cubicBezTo>
                <a:cubicBezTo>
                  <a:pt x="18696" y="9168"/>
                  <a:pt x="18615" y="9278"/>
                  <a:pt x="18579" y="9351"/>
                </a:cubicBezTo>
                <a:cubicBezTo>
                  <a:pt x="18435" y="9639"/>
                  <a:pt x="18782" y="9569"/>
                  <a:pt x="18926" y="9550"/>
                </a:cubicBezTo>
              </a:path>
              <a:path w="3994" h="795">
                <a:moveTo>
                  <a:pt x="19273" y="8855"/>
                </a:moveTo>
                <a:cubicBezTo>
                  <a:pt x="19273" y="9015"/>
                  <a:pt x="19234" y="9168"/>
                  <a:pt x="19224" y="9327"/>
                </a:cubicBezTo>
                <a:cubicBezTo>
                  <a:pt x="19217" y="9440"/>
                  <a:pt x="19220" y="9544"/>
                  <a:pt x="19248" y="9649"/>
                </a:cubicBezTo>
              </a:path>
              <a:path w="3994" h="795">
                <a:moveTo>
                  <a:pt x="19000" y="9277"/>
                </a:moveTo>
                <a:cubicBezTo>
                  <a:pt x="19156" y="9259"/>
                  <a:pt x="19310" y="9277"/>
                  <a:pt x="19472" y="9277"/>
                </a:cubicBezTo>
                <a:cubicBezTo>
                  <a:pt x="19496" y="9277"/>
                  <a:pt x="19505" y="9277"/>
                  <a:pt x="19521" y="9277"/>
                </a:cubicBezTo>
                <a:cubicBezTo>
                  <a:pt x="19480" y="9380"/>
                  <a:pt x="19365" y="9418"/>
                  <a:pt x="19348" y="9550"/>
                </a:cubicBezTo>
                <a:cubicBezTo>
                  <a:pt x="19356" y="9575"/>
                  <a:pt x="19364" y="9599"/>
                  <a:pt x="19372" y="9624"/>
                </a:cubicBezTo>
                <a:cubicBezTo>
                  <a:pt x="19545" y="9661"/>
                  <a:pt x="19675" y="9656"/>
                  <a:pt x="19794" y="9500"/>
                </a:cubicBezTo>
                <a:cubicBezTo>
                  <a:pt x="19884" y="9382"/>
                  <a:pt x="19672" y="9312"/>
                  <a:pt x="19596" y="9277"/>
                </a:cubicBezTo>
              </a:path>
              <a:path w="3994" h="795">
                <a:moveTo>
                  <a:pt x="19968" y="9401"/>
                </a:moveTo>
                <a:cubicBezTo>
                  <a:pt x="19973" y="9461"/>
                  <a:pt x="19982" y="9495"/>
                  <a:pt x="19993" y="9550"/>
                </a:cubicBezTo>
                <a:cubicBezTo>
                  <a:pt x="20070" y="9453"/>
                  <a:pt x="20107" y="9344"/>
                  <a:pt x="20216" y="9277"/>
                </a:cubicBezTo>
                <a:cubicBezTo>
                  <a:pt x="20328" y="9208"/>
                  <a:pt x="20436" y="9203"/>
                  <a:pt x="20563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 of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312408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733920" y="1676160"/>
            <a:ext cx="205740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5880" y="2482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514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590920"/>
            <a:ext cx="7596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7632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8120" y="35496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+ 30  =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14960" y="411336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30     - 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48006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11320" y="492120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  = 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8769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upplement of the given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9120" y="13701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 4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2543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 18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36640" y="23320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280" y="32446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 15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9000" y="43876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446580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3800" y="13716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150804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3800" y="2286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)  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2362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3800" y="34290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)  1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4080" y="3505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3800" y="44956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)  1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04080" y="457344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5080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336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080" y="1170000"/>
            <a:ext cx="760320" cy="830160"/>
          </a:xfrm>
          <a:custGeom>
            <a:avLst/>
            <a:gdLst/>
            <a:ahLst/>
            <a:rect l="l" t="t" r="r" b="b"/>
            <a:pathLst>
              <a:path w="2110" h="2308">
                <a:moveTo>
                  <a:pt x="6003" y="3299"/>
                </a:moveTo>
                <a:cubicBezTo>
                  <a:pt x="5976" y="3290"/>
                  <a:pt x="5947" y="3263"/>
                  <a:pt x="5953" y="3373"/>
                </a:cubicBezTo>
                <a:cubicBezTo>
                  <a:pt x="5962" y="3523"/>
                  <a:pt x="5963" y="3726"/>
                  <a:pt x="6003" y="3870"/>
                </a:cubicBezTo>
                <a:cubicBezTo>
                  <a:pt x="6011" y="3878"/>
                  <a:pt x="6020" y="3886"/>
                  <a:pt x="6028" y="3894"/>
                </a:cubicBezTo>
              </a:path>
              <a:path w="2110" h="2308">
                <a:moveTo>
                  <a:pt x="6623" y="3324"/>
                </a:moveTo>
                <a:cubicBezTo>
                  <a:pt x="6604" y="3267"/>
                  <a:pt x="6501" y="3309"/>
                  <a:pt x="6449" y="3324"/>
                </a:cubicBezTo>
                <a:cubicBezTo>
                  <a:pt x="6350" y="3352"/>
                  <a:pt x="6302" y="3454"/>
                  <a:pt x="6400" y="3522"/>
                </a:cubicBezTo>
                <a:cubicBezTo>
                  <a:pt x="6528" y="3611"/>
                  <a:pt x="6624" y="3604"/>
                  <a:pt x="6672" y="3770"/>
                </a:cubicBezTo>
                <a:cubicBezTo>
                  <a:pt x="6696" y="3854"/>
                  <a:pt x="6509" y="3827"/>
                  <a:pt x="6474" y="3820"/>
                </a:cubicBezTo>
                <a:cubicBezTo>
                  <a:pt x="6444" y="3686"/>
                  <a:pt x="6516" y="3652"/>
                  <a:pt x="6598" y="3547"/>
                </a:cubicBezTo>
                <a:cubicBezTo>
                  <a:pt x="6629" y="3507"/>
                  <a:pt x="6685" y="3445"/>
                  <a:pt x="6697" y="3398"/>
                </a:cubicBezTo>
              </a:path>
              <a:path w="2110" h="2308">
                <a:moveTo>
                  <a:pt x="7094" y="3274"/>
                </a:moveTo>
                <a:cubicBezTo>
                  <a:pt x="7074" y="3375"/>
                  <a:pt x="6978" y="3468"/>
                  <a:pt x="6970" y="3572"/>
                </a:cubicBezTo>
                <a:cubicBezTo>
                  <a:pt x="6978" y="3605"/>
                  <a:pt x="6987" y="3638"/>
                  <a:pt x="6995" y="3671"/>
                </a:cubicBezTo>
                <a:cubicBezTo>
                  <a:pt x="7111" y="3697"/>
                  <a:pt x="7211" y="3643"/>
                  <a:pt x="7268" y="3522"/>
                </a:cubicBezTo>
                <a:cubicBezTo>
                  <a:pt x="7323" y="3406"/>
                  <a:pt x="7262" y="3191"/>
                  <a:pt x="7094" y="3249"/>
                </a:cubicBezTo>
                <a:cubicBezTo>
                  <a:pt x="7061" y="3274"/>
                  <a:pt x="7028" y="3299"/>
                  <a:pt x="6995" y="3324"/>
                </a:cubicBezTo>
              </a:path>
              <a:path w="2110" h="2308">
                <a:moveTo>
                  <a:pt x="5829" y="4490"/>
                </a:moveTo>
                <a:cubicBezTo>
                  <a:pt x="5899" y="4434"/>
                  <a:pt x="5939" y="4440"/>
                  <a:pt x="6028" y="4440"/>
                </a:cubicBezTo>
              </a:path>
              <a:path w="2110" h="2308">
                <a:moveTo>
                  <a:pt x="6548" y="4068"/>
                </a:moveTo>
                <a:cubicBezTo>
                  <a:pt x="6548" y="4143"/>
                  <a:pt x="6542" y="4231"/>
                  <a:pt x="6648" y="4217"/>
                </a:cubicBezTo>
                <a:cubicBezTo>
                  <a:pt x="6729" y="4206"/>
                  <a:pt x="6768" y="4146"/>
                  <a:pt x="6821" y="4093"/>
                </a:cubicBezTo>
              </a:path>
              <a:path w="2110" h="2308">
                <a:moveTo>
                  <a:pt x="6772" y="3969"/>
                </a:moveTo>
                <a:cubicBezTo>
                  <a:pt x="6772" y="4071"/>
                  <a:pt x="6788" y="4167"/>
                  <a:pt x="6796" y="4266"/>
                </a:cubicBezTo>
                <a:cubicBezTo>
                  <a:pt x="6796" y="4357"/>
                  <a:pt x="6796" y="4382"/>
                  <a:pt x="6796" y="4440"/>
                </a:cubicBezTo>
              </a:path>
              <a:path w="2110" h="2308">
                <a:moveTo>
                  <a:pt x="7069" y="3994"/>
                </a:moveTo>
                <a:cubicBezTo>
                  <a:pt x="7041" y="4094"/>
                  <a:pt x="6942" y="4199"/>
                  <a:pt x="7045" y="4291"/>
                </a:cubicBezTo>
                <a:cubicBezTo>
                  <a:pt x="7125" y="4364"/>
                  <a:pt x="7297" y="4301"/>
                  <a:pt x="7342" y="4217"/>
                </a:cubicBezTo>
                <a:cubicBezTo>
                  <a:pt x="7418" y="4076"/>
                  <a:pt x="7287" y="4011"/>
                  <a:pt x="7169" y="3994"/>
                </a:cubicBezTo>
                <a:cubicBezTo>
                  <a:pt x="7144" y="3994"/>
                  <a:pt x="7119" y="3994"/>
                  <a:pt x="7094" y="3994"/>
                </a:cubicBezTo>
              </a:path>
              <a:path w="2110" h="2308">
                <a:moveTo>
                  <a:pt x="5804" y="5035"/>
                </a:moveTo>
                <a:cubicBezTo>
                  <a:pt x="5923" y="4994"/>
                  <a:pt x="6056" y="4955"/>
                  <a:pt x="6176" y="4911"/>
                </a:cubicBezTo>
                <a:cubicBezTo>
                  <a:pt x="6478" y="4800"/>
                  <a:pt x="6804" y="4684"/>
                  <a:pt x="7119" y="4614"/>
                </a:cubicBezTo>
                <a:cubicBezTo>
                  <a:pt x="7257" y="4583"/>
                  <a:pt x="7404" y="4571"/>
                  <a:pt x="7541" y="4539"/>
                </a:cubicBezTo>
              </a:path>
              <a:path w="2110" h="2308">
                <a:moveTo>
                  <a:pt x="6449" y="5135"/>
                </a:moveTo>
                <a:cubicBezTo>
                  <a:pt x="6449" y="5253"/>
                  <a:pt x="6471" y="5364"/>
                  <a:pt x="6474" y="5482"/>
                </a:cubicBezTo>
                <a:cubicBezTo>
                  <a:pt x="6474" y="5507"/>
                  <a:pt x="6474" y="5531"/>
                  <a:pt x="6474" y="5556"/>
                </a:cubicBezTo>
              </a:path>
              <a:path w="2110" h="2308">
                <a:moveTo>
                  <a:pt x="6772" y="5085"/>
                </a:moveTo>
                <a:cubicBezTo>
                  <a:pt x="6772" y="5121"/>
                  <a:pt x="6764" y="5213"/>
                  <a:pt x="6796" y="5234"/>
                </a:cubicBezTo>
                <a:cubicBezTo>
                  <a:pt x="6862" y="5278"/>
                  <a:pt x="6939" y="5255"/>
                  <a:pt x="6995" y="5209"/>
                </a:cubicBezTo>
                <a:cubicBezTo>
                  <a:pt x="7025" y="5179"/>
                  <a:pt x="7036" y="5165"/>
                  <a:pt x="7045" y="5135"/>
                </a:cubicBezTo>
              </a:path>
              <a:path w="2110" h="2308">
                <a:moveTo>
                  <a:pt x="6945" y="4887"/>
                </a:moveTo>
                <a:cubicBezTo>
                  <a:pt x="6995" y="5023"/>
                  <a:pt x="7007" y="5167"/>
                  <a:pt x="7045" y="5308"/>
                </a:cubicBezTo>
                <a:cubicBezTo>
                  <a:pt x="7063" y="5366"/>
                  <a:pt x="7071" y="5372"/>
                  <a:pt x="7069" y="5407"/>
                </a:cubicBezTo>
              </a:path>
              <a:path w="2110" h="2308">
                <a:moveTo>
                  <a:pt x="7342" y="4837"/>
                </a:moveTo>
                <a:cubicBezTo>
                  <a:pt x="7302" y="4967"/>
                  <a:pt x="7258" y="5064"/>
                  <a:pt x="7342" y="5184"/>
                </a:cubicBezTo>
                <a:cubicBezTo>
                  <a:pt x="7426" y="5305"/>
                  <a:pt x="7568" y="5214"/>
                  <a:pt x="7615" y="5110"/>
                </a:cubicBezTo>
                <a:cubicBezTo>
                  <a:pt x="7668" y="4993"/>
                  <a:pt x="7657" y="4892"/>
                  <a:pt x="7516" y="4862"/>
                </a:cubicBezTo>
                <a:cubicBezTo>
                  <a:pt x="7452" y="4849"/>
                  <a:pt x="7370" y="4859"/>
                  <a:pt x="7342" y="4887"/>
                </a:cubicBezTo>
              </a:path>
              <a:path w="2110" h="2308">
                <a:moveTo>
                  <a:pt x="7888" y="4490"/>
                </a:moveTo>
                <a:cubicBezTo>
                  <a:pt x="7853" y="4501"/>
                  <a:pt x="7863" y="4497"/>
                  <a:pt x="7863" y="4539"/>
                </a:cubicBezTo>
                <a:cubicBezTo>
                  <a:pt x="7870" y="4537"/>
                  <a:pt x="7938" y="4490"/>
                  <a:pt x="7913" y="4465"/>
                </a:cubicBezTo>
                <a:cubicBezTo>
                  <a:pt x="7885" y="4465"/>
                  <a:pt x="7874" y="4467"/>
                  <a:pt x="7863" y="44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74920" y="2286000"/>
            <a:ext cx="750960" cy="376200"/>
          </a:xfrm>
          <a:custGeom>
            <a:avLst/>
            <a:gdLst/>
            <a:ahLst/>
            <a:rect l="l" t="t" r="r" b="b"/>
            <a:pathLst>
              <a:path w="2085" h="1043">
                <a:moveTo>
                  <a:pt x="6747" y="6499"/>
                </a:moveTo>
                <a:cubicBezTo>
                  <a:pt x="6694" y="6639"/>
                  <a:pt x="6675" y="6820"/>
                  <a:pt x="6648" y="6970"/>
                </a:cubicBezTo>
                <a:cubicBezTo>
                  <a:pt x="6636" y="7034"/>
                  <a:pt x="6557" y="7313"/>
                  <a:pt x="6623" y="7293"/>
                </a:cubicBezTo>
              </a:path>
              <a:path w="2085" h="1043">
                <a:moveTo>
                  <a:pt x="7045" y="6796"/>
                </a:moveTo>
                <a:cubicBezTo>
                  <a:pt x="7075" y="6961"/>
                  <a:pt x="7027" y="7104"/>
                  <a:pt x="7045" y="7268"/>
                </a:cubicBezTo>
                <a:cubicBezTo>
                  <a:pt x="7062" y="7427"/>
                  <a:pt x="7252" y="7423"/>
                  <a:pt x="7367" y="7367"/>
                </a:cubicBezTo>
                <a:cubicBezTo>
                  <a:pt x="7501" y="7301"/>
                  <a:pt x="7560" y="7212"/>
                  <a:pt x="7615" y="7094"/>
                </a:cubicBezTo>
                <a:cubicBezTo>
                  <a:pt x="7554" y="7046"/>
                  <a:pt x="7471" y="7029"/>
                  <a:pt x="7417" y="7119"/>
                </a:cubicBezTo>
                <a:cubicBezTo>
                  <a:pt x="7401" y="7147"/>
                  <a:pt x="7321" y="7392"/>
                  <a:pt x="7417" y="7392"/>
                </a:cubicBezTo>
                <a:cubicBezTo>
                  <a:pt x="7442" y="7384"/>
                  <a:pt x="7466" y="7375"/>
                  <a:pt x="7491" y="7367"/>
                </a:cubicBezTo>
              </a:path>
              <a:path w="2085" h="1043">
                <a:moveTo>
                  <a:pt x="7789" y="6772"/>
                </a:moveTo>
                <a:cubicBezTo>
                  <a:pt x="7915" y="6713"/>
                  <a:pt x="8063" y="6685"/>
                  <a:pt x="8111" y="6871"/>
                </a:cubicBezTo>
                <a:cubicBezTo>
                  <a:pt x="8156" y="7047"/>
                  <a:pt x="8047" y="7159"/>
                  <a:pt x="7888" y="7193"/>
                </a:cubicBezTo>
                <a:cubicBezTo>
                  <a:pt x="7871" y="7193"/>
                  <a:pt x="7855" y="7193"/>
                  <a:pt x="7838" y="7193"/>
                </a:cubicBezTo>
                <a:cubicBezTo>
                  <a:pt x="7978" y="7112"/>
                  <a:pt x="8029" y="7126"/>
                  <a:pt x="8186" y="7144"/>
                </a:cubicBezTo>
                <a:cubicBezTo>
                  <a:pt x="8217" y="7148"/>
                  <a:pt x="8253" y="7144"/>
                  <a:pt x="8285" y="7144"/>
                </a:cubicBezTo>
              </a:path>
              <a:path w="2085" h="1043">
                <a:moveTo>
                  <a:pt x="8657" y="6350"/>
                </a:moveTo>
                <a:cubicBezTo>
                  <a:pt x="8553" y="6380"/>
                  <a:pt x="8566" y="6464"/>
                  <a:pt x="8558" y="6573"/>
                </a:cubicBezTo>
                <a:cubicBezTo>
                  <a:pt x="8612" y="6566"/>
                  <a:pt x="8727" y="6539"/>
                  <a:pt x="8682" y="6449"/>
                </a:cubicBezTo>
                <a:cubicBezTo>
                  <a:pt x="8674" y="6449"/>
                  <a:pt x="8665" y="6449"/>
                  <a:pt x="8657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7840" y="3384720"/>
            <a:ext cx="625320" cy="32220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7466" y="9525"/>
                </a:moveTo>
                <a:cubicBezTo>
                  <a:pt x="7414" y="9525"/>
                  <a:pt x="7406" y="9553"/>
                  <a:pt x="7392" y="9525"/>
                </a:cubicBezTo>
                <a:cubicBezTo>
                  <a:pt x="7543" y="9487"/>
                  <a:pt x="7565" y="9662"/>
                  <a:pt x="7565" y="9798"/>
                </a:cubicBezTo>
                <a:cubicBezTo>
                  <a:pt x="7565" y="10013"/>
                  <a:pt x="7356" y="10251"/>
                  <a:pt x="7144" y="10294"/>
                </a:cubicBezTo>
                <a:cubicBezTo>
                  <a:pt x="7111" y="10286"/>
                  <a:pt x="7078" y="10277"/>
                  <a:pt x="7045" y="10269"/>
                </a:cubicBezTo>
                <a:cubicBezTo>
                  <a:pt x="7010" y="10193"/>
                  <a:pt x="6985" y="10009"/>
                  <a:pt x="7144" y="9996"/>
                </a:cubicBezTo>
                <a:cubicBezTo>
                  <a:pt x="7287" y="9984"/>
                  <a:pt x="7440" y="10051"/>
                  <a:pt x="7541" y="10145"/>
                </a:cubicBezTo>
                <a:cubicBezTo>
                  <a:pt x="7563" y="10168"/>
                  <a:pt x="7568" y="10176"/>
                  <a:pt x="7590" y="10170"/>
                </a:cubicBezTo>
              </a:path>
              <a:path w="1737" h="894">
                <a:moveTo>
                  <a:pt x="7764" y="9426"/>
                </a:moveTo>
                <a:cubicBezTo>
                  <a:pt x="7879" y="9445"/>
                  <a:pt x="7946" y="9458"/>
                  <a:pt x="8062" y="9451"/>
                </a:cubicBezTo>
                <a:cubicBezTo>
                  <a:pt x="8136" y="9451"/>
                  <a:pt x="8161" y="9451"/>
                  <a:pt x="8210" y="9451"/>
                </a:cubicBezTo>
                <a:cubicBezTo>
                  <a:pt x="8226" y="9621"/>
                  <a:pt x="8233" y="9777"/>
                  <a:pt x="8186" y="9947"/>
                </a:cubicBezTo>
                <a:cubicBezTo>
                  <a:pt x="8164" y="10025"/>
                  <a:pt x="8125" y="10127"/>
                  <a:pt x="8086" y="10195"/>
                </a:cubicBezTo>
              </a:path>
              <a:path w="1737" h="894">
                <a:moveTo>
                  <a:pt x="8582" y="9401"/>
                </a:moveTo>
                <a:cubicBezTo>
                  <a:pt x="8510" y="9494"/>
                  <a:pt x="8475" y="9542"/>
                  <a:pt x="8558" y="9624"/>
                </a:cubicBezTo>
                <a:cubicBezTo>
                  <a:pt x="8617" y="9591"/>
                  <a:pt x="8798" y="9503"/>
                  <a:pt x="8731" y="9401"/>
                </a:cubicBezTo>
                <a:cubicBezTo>
                  <a:pt x="8715" y="9401"/>
                  <a:pt x="8698" y="9401"/>
                  <a:pt x="8682" y="9401"/>
                </a:cubicBezTo>
              </a:path>
              <a:path w="1737" h="894">
                <a:moveTo>
                  <a:pt x="8310" y="9649"/>
                </a:moveTo>
                <a:cubicBezTo>
                  <a:pt x="8302" y="9649"/>
                  <a:pt x="8293" y="9649"/>
                  <a:pt x="8285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8920" y="4464000"/>
            <a:ext cx="519120" cy="376200"/>
          </a:xfrm>
          <a:custGeom>
            <a:avLst/>
            <a:gdLst/>
            <a:ahLst/>
            <a:rect l="l" t="t" r="r" b="b"/>
            <a:pathLst>
              <a:path w="1440" h="1043">
                <a:moveTo>
                  <a:pt x="6796" y="12502"/>
                </a:moveTo>
                <a:cubicBezTo>
                  <a:pt x="6728" y="12455"/>
                  <a:pt x="6772" y="12758"/>
                  <a:pt x="6772" y="12799"/>
                </a:cubicBezTo>
                <a:cubicBezTo>
                  <a:pt x="6772" y="13009"/>
                  <a:pt x="6774" y="13213"/>
                  <a:pt x="6747" y="13419"/>
                </a:cubicBezTo>
                <a:cubicBezTo>
                  <a:pt x="6747" y="13427"/>
                  <a:pt x="6747" y="13436"/>
                  <a:pt x="6747" y="13444"/>
                </a:cubicBezTo>
              </a:path>
              <a:path w="1440" h="1043">
                <a:moveTo>
                  <a:pt x="7193" y="12551"/>
                </a:moveTo>
                <a:cubicBezTo>
                  <a:pt x="7274" y="12714"/>
                  <a:pt x="7289" y="12863"/>
                  <a:pt x="7293" y="13047"/>
                </a:cubicBezTo>
                <a:cubicBezTo>
                  <a:pt x="7295" y="13128"/>
                  <a:pt x="7309" y="13193"/>
                  <a:pt x="7317" y="13271"/>
                </a:cubicBezTo>
              </a:path>
              <a:path w="1440" h="1043">
                <a:moveTo>
                  <a:pt x="7962" y="12402"/>
                </a:moveTo>
                <a:cubicBezTo>
                  <a:pt x="7907" y="12480"/>
                  <a:pt x="7889" y="12477"/>
                  <a:pt x="7789" y="12477"/>
                </a:cubicBezTo>
                <a:cubicBezTo>
                  <a:pt x="7712" y="12477"/>
                  <a:pt x="7736" y="12510"/>
                  <a:pt x="7714" y="12601"/>
                </a:cubicBezTo>
                <a:cubicBezTo>
                  <a:pt x="7692" y="12689"/>
                  <a:pt x="7689" y="12759"/>
                  <a:pt x="7689" y="12849"/>
                </a:cubicBezTo>
                <a:cubicBezTo>
                  <a:pt x="7774" y="12849"/>
                  <a:pt x="7830" y="12787"/>
                  <a:pt x="7913" y="12774"/>
                </a:cubicBezTo>
                <a:cubicBezTo>
                  <a:pt x="8062" y="12751"/>
                  <a:pt x="8161" y="12827"/>
                  <a:pt x="8186" y="12973"/>
                </a:cubicBezTo>
                <a:cubicBezTo>
                  <a:pt x="8211" y="13115"/>
                  <a:pt x="8147" y="13246"/>
                  <a:pt x="7987" y="13246"/>
                </a:cubicBezTo>
                <a:cubicBezTo>
                  <a:pt x="7854" y="13224"/>
                  <a:pt x="7820" y="13219"/>
                  <a:pt x="7739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89160" y="4419720"/>
            <a:ext cx="63720" cy="633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8607" y="12278"/>
                </a:moveTo>
                <a:cubicBezTo>
                  <a:pt x="8599" y="12328"/>
                  <a:pt x="8588" y="12376"/>
                  <a:pt x="8582" y="12427"/>
                </a:cubicBezTo>
                <a:cubicBezTo>
                  <a:pt x="8689" y="12467"/>
                  <a:pt x="8720" y="12443"/>
                  <a:pt x="8756" y="12328"/>
                </a:cubicBezTo>
                <a:cubicBezTo>
                  <a:pt x="8774" y="12272"/>
                  <a:pt x="8665" y="12316"/>
                  <a:pt x="8607" y="123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7800" y="1428840"/>
            <a:ext cx="554040" cy="473040"/>
          </a:xfrm>
          <a:custGeom>
            <a:avLst/>
            <a:gdLst/>
            <a:ahLst/>
            <a:rect l="l" t="t" r="r" b="b"/>
            <a:pathLst>
              <a:path w="1538" h="1315">
                <a:moveTo>
                  <a:pt x="19174" y="4490"/>
                </a:moveTo>
                <a:cubicBezTo>
                  <a:pt x="19140" y="4407"/>
                  <a:pt x="19120" y="4334"/>
                  <a:pt x="19025" y="4291"/>
                </a:cubicBezTo>
                <a:cubicBezTo>
                  <a:pt x="18872" y="4222"/>
                  <a:pt x="18744" y="4362"/>
                  <a:pt x="18678" y="4490"/>
                </a:cubicBezTo>
                <a:cubicBezTo>
                  <a:pt x="18585" y="4670"/>
                  <a:pt x="18588" y="4746"/>
                  <a:pt x="18653" y="4911"/>
                </a:cubicBezTo>
                <a:cubicBezTo>
                  <a:pt x="18842" y="4845"/>
                  <a:pt x="18995" y="4756"/>
                  <a:pt x="19050" y="4539"/>
                </a:cubicBezTo>
                <a:cubicBezTo>
                  <a:pt x="19050" y="4461"/>
                  <a:pt x="19035" y="4413"/>
                  <a:pt x="19075" y="4465"/>
                </a:cubicBezTo>
                <a:cubicBezTo>
                  <a:pt x="19151" y="4693"/>
                  <a:pt x="19189" y="4926"/>
                  <a:pt x="19248" y="5159"/>
                </a:cubicBezTo>
                <a:cubicBezTo>
                  <a:pt x="19270" y="5224"/>
                  <a:pt x="19278" y="5239"/>
                  <a:pt x="19273" y="5283"/>
                </a:cubicBezTo>
              </a:path>
              <a:path w="1538" h="1315">
                <a:moveTo>
                  <a:pt x="19521" y="4291"/>
                </a:moveTo>
                <a:cubicBezTo>
                  <a:pt x="19605" y="4513"/>
                  <a:pt x="19672" y="4736"/>
                  <a:pt x="19745" y="4961"/>
                </a:cubicBezTo>
                <a:cubicBezTo>
                  <a:pt x="19772" y="5044"/>
                  <a:pt x="19789" y="5139"/>
                  <a:pt x="19819" y="5209"/>
                </a:cubicBezTo>
              </a:path>
              <a:path w="1538" h="1315">
                <a:moveTo>
                  <a:pt x="20067" y="3969"/>
                </a:moveTo>
                <a:cubicBezTo>
                  <a:pt x="20026" y="4070"/>
                  <a:pt x="19997" y="4077"/>
                  <a:pt x="20042" y="4167"/>
                </a:cubicBezTo>
                <a:cubicBezTo>
                  <a:pt x="20059" y="4155"/>
                  <a:pt x="20199" y="3969"/>
                  <a:pt x="20141" y="3969"/>
                </a:cubicBezTo>
                <a:cubicBezTo>
                  <a:pt x="20116" y="3977"/>
                  <a:pt x="20092" y="3986"/>
                  <a:pt x="20067" y="39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62800" y="2340000"/>
            <a:ext cx="831600" cy="392040"/>
          </a:xfrm>
          <a:custGeom>
            <a:avLst/>
            <a:gdLst/>
            <a:ahLst/>
            <a:rect l="l" t="t" r="r" b="b"/>
            <a:pathLst>
              <a:path w="2308" h="1092">
                <a:moveTo>
                  <a:pt x="18256" y="6896"/>
                </a:moveTo>
                <a:cubicBezTo>
                  <a:pt x="18256" y="6871"/>
                  <a:pt x="18256" y="6863"/>
                  <a:pt x="18256" y="6846"/>
                </a:cubicBezTo>
                <a:cubicBezTo>
                  <a:pt x="18218" y="6922"/>
                  <a:pt x="18314" y="7155"/>
                  <a:pt x="18355" y="7268"/>
                </a:cubicBezTo>
                <a:cubicBezTo>
                  <a:pt x="18396" y="7382"/>
                  <a:pt x="18430" y="7446"/>
                  <a:pt x="18430" y="7565"/>
                </a:cubicBezTo>
                <a:cubicBezTo>
                  <a:pt x="18430" y="7573"/>
                  <a:pt x="18430" y="7582"/>
                  <a:pt x="18430" y="7590"/>
                </a:cubicBezTo>
              </a:path>
              <a:path w="2308" h="1092">
                <a:moveTo>
                  <a:pt x="19050" y="6747"/>
                </a:moveTo>
                <a:cubicBezTo>
                  <a:pt x="19033" y="6696"/>
                  <a:pt x="18936" y="6745"/>
                  <a:pt x="18876" y="6747"/>
                </a:cubicBezTo>
                <a:cubicBezTo>
                  <a:pt x="18759" y="6751"/>
                  <a:pt x="18682" y="6697"/>
                  <a:pt x="18678" y="6821"/>
                </a:cubicBezTo>
                <a:cubicBezTo>
                  <a:pt x="18675" y="6916"/>
                  <a:pt x="18680" y="6980"/>
                  <a:pt x="18703" y="7069"/>
                </a:cubicBezTo>
                <a:cubicBezTo>
                  <a:pt x="18769" y="7069"/>
                  <a:pt x="18810" y="7028"/>
                  <a:pt x="18876" y="7020"/>
                </a:cubicBezTo>
                <a:cubicBezTo>
                  <a:pt x="19036" y="6999"/>
                  <a:pt x="19192" y="7085"/>
                  <a:pt x="19224" y="7243"/>
                </a:cubicBezTo>
                <a:cubicBezTo>
                  <a:pt x="19254" y="7390"/>
                  <a:pt x="19093" y="7537"/>
                  <a:pt x="18951" y="7541"/>
                </a:cubicBezTo>
                <a:cubicBezTo>
                  <a:pt x="18856" y="7517"/>
                  <a:pt x="18826" y="7511"/>
                  <a:pt x="18777" y="7466"/>
                </a:cubicBezTo>
              </a:path>
              <a:path w="2308" h="1092">
                <a:moveTo>
                  <a:pt x="19273" y="6772"/>
                </a:moveTo>
                <a:cubicBezTo>
                  <a:pt x="19367" y="6756"/>
                  <a:pt x="19481" y="6732"/>
                  <a:pt x="19571" y="6697"/>
                </a:cubicBezTo>
                <a:cubicBezTo>
                  <a:pt x="19710" y="6643"/>
                  <a:pt x="19790" y="6615"/>
                  <a:pt x="19844" y="6796"/>
                </a:cubicBezTo>
                <a:cubicBezTo>
                  <a:pt x="19900" y="6986"/>
                  <a:pt x="19862" y="7199"/>
                  <a:pt x="19893" y="7392"/>
                </a:cubicBezTo>
                <a:cubicBezTo>
                  <a:pt x="19912" y="7449"/>
                  <a:pt x="19921" y="7456"/>
                  <a:pt x="19918" y="7491"/>
                </a:cubicBezTo>
              </a:path>
              <a:path w="2308" h="1092">
                <a:moveTo>
                  <a:pt x="20340" y="6524"/>
                </a:moveTo>
                <a:cubicBezTo>
                  <a:pt x="20324" y="6619"/>
                  <a:pt x="20280" y="6663"/>
                  <a:pt x="20365" y="6722"/>
                </a:cubicBezTo>
                <a:cubicBezTo>
                  <a:pt x="20498" y="6814"/>
                  <a:pt x="20546" y="6588"/>
                  <a:pt x="20513" y="6499"/>
                </a:cubicBezTo>
                <a:cubicBezTo>
                  <a:pt x="20472" y="6499"/>
                  <a:pt x="20447" y="6499"/>
                  <a:pt x="20414" y="64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83280" y="3500280"/>
            <a:ext cx="581040" cy="428760"/>
          </a:xfrm>
          <a:custGeom>
            <a:avLst/>
            <a:gdLst/>
            <a:ahLst/>
            <a:rect l="l" t="t" r="r" b="b"/>
            <a:pathLst>
              <a:path w="1614" h="1192">
                <a:moveTo>
                  <a:pt x="19422" y="10244"/>
                </a:moveTo>
                <a:cubicBezTo>
                  <a:pt x="19449" y="10338"/>
                  <a:pt x="19388" y="10464"/>
                  <a:pt x="19397" y="10567"/>
                </a:cubicBezTo>
                <a:cubicBezTo>
                  <a:pt x="19411" y="10736"/>
                  <a:pt x="19777" y="10565"/>
                  <a:pt x="19844" y="10542"/>
                </a:cubicBezTo>
                <a:cubicBezTo>
                  <a:pt x="19942" y="10509"/>
                  <a:pt x="19985" y="10465"/>
                  <a:pt x="20067" y="10492"/>
                </a:cubicBezTo>
              </a:path>
              <a:path w="1614" h="1192">
                <a:moveTo>
                  <a:pt x="19819" y="9872"/>
                </a:moveTo>
                <a:cubicBezTo>
                  <a:pt x="19856" y="10111"/>
                  <a:pt x="19910" y="10349"/>
                  <a:pt x="19943" y="10592"/>
                </a:cubicBezTo>
                <a:cubicBezTo>
                  <a:pt x="19949" y="10636"/>
                  <a:pt x="19961" y="10921"/>
                  <a:pt x="19993" y="10889"/>
                </a:cubicBezTo>
              </a:path>
              <a:path w="1614" h="1192">
                <a:moveTo>
                  <a:pt x="20638" y="10145"/>
                </a:moveTo>
                <a:cubicBezTo>
                  <a:pt x="20638" y="10055"/>
                  <a:pt x="20638" y="9916"/>
                  <a:pt x="20513" y="9897"/>
                </a:cubicBezTo>
                <a:cubicBezTo>
                  <a:pt x="20326" y="9868"/>
                  <a:pt x="20244" y="10136"/>
                  <a:pt x="20241" y="10269"/>
                </a:cubicBezTo>
                <a:cubicBezTo>
                  <a:pt x="20263" y="10381"/>
                  <a:pt x="20261" y="10416"/>
                  <a:pt x="20340" y="10443"/>
                </a:cubicBezTo>
                <a:cubicBezTo>
                  <a:pt x="20518" y="10353"/>
                  <a:pt x="20555" y="10265"/>
                  <a:pt x="20613" y="10071"/>
                </a:cubicBezTo>
                <a:cubicBezTo>
                  <a:pt x="20594" y="10243"/>
                  <a:pt x="20626" y="10390"/>
                  <a:pt x="20638" y="10567"/>
                </a:cubicBezTo>
                <a:cubicBezTo>
                  <a:pt x="20642" y="10625"/>
                  <a:pt x="20610" y="10893"/>
                  <a:pt x="20662" y="10790"/>
                </a:cubicBezTo>
                <a:cubicBezTo>
                  <a:pt x="20726" y="10726"/>
                  <a:pt x="20741" y="10664"/>
                  <a:pt x="20712" y="10567"/>
                </a:cubicBezTo>
              </a:path>
              <a:path w="1614" h="1192">
                <a:moveTo>
                  <a:pt x="20910" y="9723"/>
                </a:moveTo>
                <a:cubicBezTo>
                  <a:pt x="20896" y="9794"/>
                  <a:pt x="20865" y="9833"/>
                  <a:pt x="20886" y="9897"/>
                </a:cubicBezTo>
                <a:cubicBezTo>
                  <a:pt x="20966" y="9887"/>
                  <a:pt x="21040" y="9853"/>
                  <a:pt x="21010" y="9748"/>
                </a:cubicBezTo>
                <a:cubicBezTo>
                  <a:pt x="20975" y="9713"/>
                  <a:pt x="20953" y="9709"/>
                  <a:pt x="20910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66000" y="4483080"/>
            <a:ext cx="579240" cy="465120"/>
          </a:xfrm>
          <a:custGeom>
            <a:avLst/>
            <a:gdLst/>
            <a:ahLst/>
            <a:rect l="l" t="t" r="r" b="b"/>
            <a:pathLst>
              <a:path w="1613" h="1291">
                <a:moveTo>
                  <a:pt x="19447" y="12874"/>
                </a:moveTo>
                <a:cubicBezTo>
                  <a:pt x="19421" y="13054"/>
                  <a:pt x="19395" y="13237"/>
                  <a:pt x="19372" y="13419"/>
                </a:cubicBezTo>
                <a:cubicBezTo>
                  <a:pt x="19352" y="13579"/>
                  <a:pt x="19370" y="13826"/>
                  <a:pt x="19621" y="13742"/>
                </a:cubicBezTo>
                <a:cubicBezTo>
                  <a:pt x="19793" y="13685"/>
                  <a:pt x="19939" y="13565"/>
                  <a:pt x="19968" y="13395"/>
                </a:cubicBezTo>
                <a:cubicBezTo>
                  <a:pt x="19838" y="13416"/>
                  <a:pt x="19794" y="13491"/>
                  <a:pt x="19769" y="13618"/>
                </a:cubicBezTo>
                <a:cubicBezTo>
                  <a:pt x="19749" y="13719"/>
                  <a:pt x="19757" y="13713"/>
                  <a:pt x="19819" y="13692"/>
                </a:cubicBezTo>
              </a:path>
              <a:path w="1613" h="1291">
                <a:moveTo>
                  <a:pt x="20141" y="12948"/>
                </a:moveTo>
                <a:cubicBezTo>
                  <a:pt x="20126" y="12903"/>
                  <a:pt x="20128" y="12869"/>
                  <a:pt x="20191" y="12799"/>
                </a:cubicBezTo>
                <a:cubicBezTo>
                  <a:pt x="20250" y="12734"/>
                  <a:pt x="20315" y="12706"/>
                  <a:pt x="20389" y="12675"/>
                </a:cubicBezTo>
                <a:cubicBezTo>
                  <a:pt x="20473" y="12864"/>
                  <a:pt x="20445" y="13070"/>
                  <a:pt x="20389" y="13271"/>
                </a:cubicBezTo>
                <a:cubicBezTo>
                  <a:pt x="20348" y="13417"/>
                  <a:pt x="20286" y="13560"/>
                  <a:pt x="20216" y="13692"/>
                </a:cubicBezTo>
                <a:cubicBezTo>
                  <a:pt x="20216" y="13674"/>
                  <a:pt x="20223" y="13542"/>
                  <a:pt x="20265" y="13469"/>
                </a:cubicBezTo>
                <a:cubicBezTo>
                  <a:pt x="20282" y="13452"/>
                  <a:pt x="20298" y="13436"/>
                  <a:pt x="20315" y="13419"/>
                </a:cubicBezTo>
                <a:cubicBezTo>
                  <a:pt x="20416" y="13438"/>
                  <a:pt x="20548" y="13538"/>
                  <a:pt x="20662" y="13519"/>
                </a:cubicBezTo>
                <a:cubicBezTo>
                  <a:pt x="20783" y="13499"/>
                  <a:pt x="20854" y="13405"/>
                  <a:pt x="20910" y="13320"/>
                </a:cubicBezTo>
              </a:path>
              <a:path w="1613" h="1291">
                <a:moveTo>
                  <a:pt x="20836" y="12452"/>
                </a:moveTo>
                <a:cubicBezTo>
                  <a:pt x="20802" y="12477"/>
                  <a:pt x="20784" y="12524"/>
                  <a:pt x="20762" y="12576"/>
                </a:cubicBezTo>
                <a:cubicBezTo>
                  <a:pt x="20831" y="12611"/>
                  <a:pt x="20933" y="12644"/>
                  <a:pt x="20960" y="12526"/>
                </a:cubicBezTo>
                <a:cubicBezTo>
                  <a:pt x="20926" y="12493"/>
                  <a:pt x="20904" y="12485"/>
                  <a:pt x="20861" y="125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85840" y="228600"/>
            <a:ext cx="30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w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 is 9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18480" y="83808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1240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71800" y="12952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895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71800" y="1828800"/>
            <a:ext cx="19810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5840" y="24829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3372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219320" y="3352680"/>
                <a:ext cx="4572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= 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715000" y="32767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33720" y="41911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33720" y="4723920"/>
            <a:ext cx="19810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5027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3720" y="540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18680" y="4311720"/>
            <a:ext cx="21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+ 40 = 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41960" y="48006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40   -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4100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30840" y="55609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= 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41760" y="547056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5622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5562720"/>
            <a:ext cx="20574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2080" y="258840"/>
            <a:ext cx="543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complement of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9120" y="1217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120" y="2254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4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440" y="3321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840" y="438768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the supplement of 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1219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28600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3336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41960" y="44197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0200" y="1054080"/>
            <a:ext cx="947880" cy="919080"/>
          </a:xfrm>
          <a:custGeom>
            <a:avLst/>
            <a:gdLst/>
            <a:ahLst/>
            <a:rect l="l" t="t" r="r" b="b"/>
            <a:pathLst>
              <a:path w="2631" h="2556">
                <a:moveTo>
                  <a:pt x="7392" y="3225"/>
                </a:moveTo>
                <a:cubicBezTo>
                  <a:pt x="7363" y="3138"/>
                  <a:pt x="7336" y="2999"/>
                  <a:pt x="7243" y="2952"/>
                </a:cubicBezTo>
                <a:cubicBezTo>
                  <a:pt x="7073" y="2867"/>
                  <a:pt x="6974" y="3029"/>
                  <a:pt x="6945" y="3175"/>
                </a:cubicBezTo>
                <a:cubicBezTo>
                  <a:pt x="6913" y="3339"/>
                  <a:pt x="6962" y="3365"/>
                  <a:pt x="7069" y="3448"/>
                </a:cubicBezTo>
                <a:cubicBezTo>
                  <a:pt x="7194" y="3370"/>
                  <a:pt x="7275" y="3324"/>
                  <a:pt x="7317" y="3175"/>
                </a:cubicBezTo>
                <a:cubicBezTo>
                  <a:pt x="7317" y="3294"/>
                  <a:pt x="7320" y="3403"/>
                  <a:pt x="7342" y="3522"/>
                </a:cubicBezTo>
                <a:cubicBezTo>
                  <a:pt x="7362" y="3599"/>
                  <a:pt x="7354" y="3617"/>
                  <a:pt x="7392" y="3646"/>
                </a:cubicBezTo>
              </a:path>
              <a:path w="2631" h="2556">
                <a:moveTo>
                  <a:pt x="7714" y="3026"/>
                </a:moveTo>
                <a:cubicBezTo>
                  <a:pt x="7613" y="3168"/>
                  <a:pt x="7588" y="3275"/>
                  <a:pt x="7615" y="3448"/>
                </a:cubicBezTo>
                <a:cubicBezTo>
                  <a:pt x="7643" y="3532"/>
                  <a:pt x="7662" y="3562"/>
                  <a:pt x="7739" y="3572"/>
                </a:cubicBezTo>
                <a:cubicBezTo>
                  <a:pt x="7950" y="3449"/>
                  <a:pt x="8012" y="3368"/>
                  <a:pt x="8012" y="3125"/>
                </a:cubicBezTo>
                <a:cubicBezTo>
                  <a:pt x="7870" y="3126"/>
                  <a:pt x="7798" y="3173"/>
                  <a:pt x="7665" y="3249"/>
                </a:cubicBezTo>
              </a:path>
              <a:path w="2631" h="2556">
                <a:moveTo>
                  <a:pt x="6970" y="4192"/>
                </a:moveTo>
                <a:cubicBezTo>
                  <a:pt x="7003" y="4175"/>
                  <a:pt x="7036" y="4159"/>
                  <a:pt x="7069" y="4142"/>
                </a:cubicBezTo>
              </a:path>
              <a:path w="2631" h="2556">
                <a:moveTo>
                  <a:pt x="7392" y="4217"/>
                </a:moveTo>
                <a:cubicBezTo>
                  <a:pt x="7443" y="4165"/>
                  <a:pt x="7581" y="4188"/>
                  <a:pt x="7615" y="4291"/>
                </a:cubicBezTo>
                <a:cubicBezTo>
                  <a:pt x="7668" y="4450"/>
                  <a:pt x="7494" y="4600"/>
                  <a:pt x="7367" y="4638"/>
                </a:cubicBezTo>
                <a:cubicBezTo>
                  <a:pt x="7342" y="4638"/>
                  <a:pt x="7318" y="4638"/>
                  <a:pt x="7293" y="4638"/>
                </a:cubicBezTo>
                <a:cubicBezTo>
                  <a:pt x="7368" y="4486"/>
                  <a:pt x="7479" y="4404"/>
                  <a:pt x="7665" y="4415"/>
                </a:cubicBezTo>
                <a:cubicBezTo>
                  <a:pt x="7732" y="4438"/>
                  <a:pt x="7750" y="4443"/>
                  <a:pt x="7789" y="4465"/>
                </a:cubicBezTo>
              </a:path>
              <a:path w="2631" h="2556">
                <a:moveTo>
                  <a:pt x="8037" y="3969"/>
                </a:moveTo>
                <a:cubicBezTo>
                  <a:pt x="7935" y="4131"/>
                  <a:pt x="7911" y="4236"/>
                  <a:pt x="7987" y="4415"/>
                </a:cubicBezTo>
                <a:cubicBezTo>
                  <a:pt x="8106" y="4377"/>
                  <a:pt x="8471" y="4275"/>
                  <a:pt x="8409" y="4068"/>
                </a:cubicBezTo>
                <a:cubicBezTo>
                  <a:pt x="8317" y="4007"/>
                  <a:pt x="8273" y="3994"/>
                  <a:pt x="8186" y="4043"/>
                </a:cubicBezTo>
              </a:path>
              <a:path w="2631" h="2556">
                <a:moveTo>
                  <a:pt x="6945" y="5011"/>
                </a:moveTo>
                <a:cubicBezTo>
                  <a:pt x="7305" y="4883"/>
                  <a:pt x="7674" y="4764"/>
                  <a:pt x="8037" y="4638"/>
                </a:cubicBezTo>
                <a:cubicBezTo>
                  <a:pt x="8283" y="4552"/>
                  <a:pt x="8595" y="4421"/>
                  <a:pt x="8855" y="4465"/>
                </a:cubicBezTo>
              </a:path>
              <a:path w="2631" h="2556">
                <a:moveTo>
                  <a:pt x="7938" y="5035"/>
                </a:moveTo>
                <a:cubicBezTo>
                  <a:pt x="8098" y="5003"/>
                  <a:pt x="8265" y="4898"/>
                  <a:pt x="8434" y="4887"/>
                </a:cubicBezTo>
                <a:cubicBezTo>
                  <a:pt x="8660" y="4872"/>
                  <a:pt x="8553" y="5142"/>
                  <a:pt x="8533" y="5259"/>
                </a:cubicBezTo>
                <a:cubicBezTo>
                  <a:pt x="8505" y="5425"/>
                  <a:pt x="8448" y="5477"/>
                  <a:pt x="8582" y="5432"/>
                </a:cubicBezTo>
              </a:path>
              <a:path w="2631" h="2556">
                <a:moveTo>
                  <a:pt x="8930" y="4887"/>
                </a:moveTo>
                <a:cubicBezTo>
                  <a:pt x="8862" y="5028"/>
                  <a:pt x="8733" y="5253"/>
                  <a:pt x="8905" y="5383"/>
                </a:cubicBezTo>
                <a:cubicBezTo>
                  <a:pt x="9109" y="5537"/>
                  <a:pt x="9278" y="5258"/>
                  <a:pt x="9327" y="5110"/>
                </a:cubicBezTo>
                <a:cubicBezTo>
                  <a:pt x="9410" y="4859"/>
                  <a:pt x="9125" y="4942"/>
                  <a:pt x="8979" y="4961"/>
                </a:cubicBezTo>
              </a:path>
              <a:path w="2631" h="2556">
                <a:moveTo>
                  <a:pt x="9401" y="4490"/>
                </a:moveTo>
                <a:cubicBezTo>
                  <a:pt x="9392" y="4597"/>
                  <a:pt x="9372" y="4599"/>
                  <a:pt x="9475" y="4638"/>
                </a:cubicBezTo>
                <a:cubicBezTo>
                  <a:pt x="9568" y="4570"/>
                  <a:pt x="9559" y="4574"/>
                  <a:pt x="9550" y="44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76680" y="2428920"/>
            <a:ext cx="482400" cy="519120"/>
          </a:xfrm>
          <a:custGeom>
            <a:avLst/>
            <a:gdLst/>
            <a:ahLst/>
            <a:rect l="l" t="t" r="r" b="b"/>
            <a:pathLst>
              <a:path w="1341" h="1440">
                <a:moveTo>
                  <a:pt x="7888" y="7342"/>
                </a:moveTo>
                <a:cubicBezTo>
                  <a:pt x="7888" y="7239"/>
                  <a:pt x="7802" y="7469"/>
                  <a:pt x="7764" y="7565"/>
                </a:cubicBezTo>
                <a:cubicBezTo>
                  <a:pt x="7720" y="7696"/>
                  <a:pt x="7704" y="7726"/>
                  <a:pt x="7714" y="7813"/>
                </a:cubicBezTo>
                <a:cubicBezTo>
                  <a:pt x="7883" y="7841"/>
                  <a:pt x="8051" y="7789"/>
                  <a:pt x="8186" y="7665"/>
                </a:cubicBezTo>
                <a:cubicBezTo>
                  <a:pt x="8194" y="7648"/>
                  <a:pt x="8202" y="7632"/>
                  <a:pt x="8210" y="7615"/>
                </a:cubicBezTo>
              </a:path>
              <a:path w="1341" h="1440">
                <a:moveTo>
                  <a:pt x="8161" y="7144"/>
                </a:moveTo>
                <a:cubicBezTo>
                  <a:pt x="8161" y="7410"/>
                  <a:pt x="8169" y="7673"/>
                  <a:pt x="8136" y="7938"/>
                </a:cubicBezTo>
                <a:cubicBezTo>
                  <a:pt x="8114" y="8071"/>
                  <a:pt x="8109" y="8105"/>
                  <a:pt x="8086" y="8186"/>
                </a:cubicBezTo>
              </a:path>
              <a:path w="1341" h="1440">
                <a:moveTo>
                  <a:pt x="8458" y="7317"/>
                </a:moveTo>
                <a:cubicBezTo>
                  <a:pt x="8425" y="7250"/>
                  <a:pt x="8527" y="7193"/>
                  <a:pt x="8607" y="7193"/>
                </a:cubicBezTo>
                <a:cubicBezTo>
                  <a:pt x="8786" y="7193"/>
                  <a:pt x="8725" y="7341"/>
                  <a:pt x="8657" y="7417"/>
                </a:cubicBezTo>
                <a:cubicBezTo>
                  <a:pt x="8632" y="7442"/>
                  <a:pt x="8607" y="7466"/>
                  <a:pt x="8582" y="7491"/>
                </a:cubicBezTo>
                <a:cubicBezTo>
                  <a:pt x="8566" y="7499"/>
                  <a:pt x="8549" y="7508"/>
                  <a:pt x="8533" y="7516"/>
                </a:cubicBezTo>
                <a:cubicBezTo>
                  <a:pt x="8590" y="7458"/>
                  <a:pt x="8767" y="7400"/>
                  <a:pt x="8855" y="7491"/>
                </a:cubicBezTo>
                <a:cubicBezTo>
                  <a:pt x="8980" y="7621"/>
                  <a:pt x="8723" y="7881"/>
                  <a:pt x="8632" y="7938"/>
                </a:cubicBezTo>
                <a:cubicBezTo>
                  <a:pt x="8490" y="8027"/>
                  <a:pt x="8470" y="7983"/>
                  <a:pt x="8384" y="7888"/>
                </a:cubicBezTo>
              </a:path>
              <a:path w="1341" h="1440">
                <a:moveTo>
                  <a:pt x="8830" y="6747"/>
                </a:moveTo>
                <a:cubicBezTo>
                  <a:pt x="8834" y="6796"/>
                  <a:pt x="8849" y="6980"/>
                  <a:pt x="8954" y="6945"/>
                </a:cubicBezTo>
                <a:cubicBezTo>
                  <a:pt x="9065" y="6908"/>
                  <a:pt x="9090" y="6705"/>
                  <a:pt x="8930" y="6747"/>
                </a:cubicBezTo>
                <a:cubicBezTo>
                  <a:pt x="8905" y="6763"/>
                  <a:pt x="8880" y="6780"/>
                  <a:pt x="8855" y="67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0920" y="3562200"/>
            <a:ext cx="920880" cy="295560"/>
          </a:xfrm>
          <a:custGeom>
            <a:avLst/>
            <a:gdLst/>
            <a:ahLst/>
            <a:rect l="l" t="t" r="r" b="b"/>
            <a:pathLst>
              <a:path w="2556" h="820">
                <a:moveTo>
                  <a:pt x="6772" y="9947"/>
                </a:moveTo>
                <a:cubicBezTo>
                  <a:pt x="6807" y="10183"/>
                  <a:pt x="6920" y="10454"/>
                  <a:pt x="6896" y="10691"/>
                </a:cubicBezTo>
                <a:cubicBezTo>
                  <a:pt x="6888" y="10699"/>
                  <a:pt x="6879" y="10708"/>
                  <a:pt x="6871" y="10716"/>
                </a:cubicBezTo>
              </a:path>
              <a:path w="2556" h="820">
                <a:moveTo>
                  <a:pt x="6449" y="10294"/>
                </a:moveTo>
                <a:cubicBezTo>
                  <a:pt x="6618" y="10286"/>
                  <a:pt x="6879" y="10307"/>
                  <a:pt x="7020" y="10195"/>
                </a:cubicBezTo>
                <a:cubicBezTo>
                  <a:pt x="7121" y="10115"/>
                  <a:pt x="7094" y="10031"/>
                  <a:pt x="7094" y="9922"/>
                </a:cubicBezTo>
                <a:cubicBezTo>
                  <a:pt x="7094" y="10030"/>
                  <a:pt x="7099" y="10089"/>
                  <a:pt x="7119" y="10195"/>
                </a:cubicBezTo>
                <a:cubicBezTo>
                  <a:pt x="7144" y="10329"/>
                  <a:pt x="7181" y="10442"/>
                  <a:pt x="7218" y="10567"/>
                </a:cubicBezTo>
                <a:cubicBezTo>
                  <a:pt x="7200" y="10448"/>
                  <a:pt x="7155" y="10347"/>
                  <a:pt x="7243" y="10244"/>
                </a:cubicBezTo>
                <a:cubicBezTo>
                  <a:pt x="7349" y="10120"/>
                  <a:pt x="7530" y="10354"/>
                  <a:pt x="7565" y="10418"/>
                </a:cubicBezTo>
                <a:cubicBezTo>
                  <a:pt x="7608" y="10524"/>
                  <a:pt x="7624" y="10545"/>
                  <a:pt x="7615" y="10616"/>
                </a:cubicBezTo>
              </a:path>
              <a:path w="2556" h="820">
                <a:moveTo>
                  <a:pt x="7863" y="10319"/>
                </a:moveTo>
                <a:cubicBezTo>
                  <a:pt x="7958" y="10311"/>
                  <a:pt x="8042" y="10283"/>
                  <a:pt x="8136" y="10269"/>
                </a:cubicBezTo>
                <a:cubicBezTo>
                  <a:pt x="8196" y="10289"/>
                  <a:pt x="8143" y="10280"/>
                  <a:pt x="8111" y="10269"/>
                </a:cubicBezTo>
                <a:cubicBezTo>
                  <a:pt x="7962" y="10219"/>
                  <a:pt x="7833" y="10198"/>
                  <a:pt x="7789" y="10393"/>
                </a:cubicBezTo>
                <a:cubicBezTo>
                  <a:pt x="7750" y="10569"/>
                  <a:pt x="7879" y="10717"/>
                  <a:pt x="8062" y="10666"/>
                </a:cubicBezTo>
                <a:cubicBezTo>
                  <a:pt x="8196" y="10586"/>
                  <a:pt x="8244" y="10552"/>
                  <a:pt x="8285" y="10443"/>
                </a:cubicBezTo>
              </a:path>
              <a:path w="2556" h="820">
                <a:moveTo>
                  <a:pt x="8359" y="10294"/>
                </a:moveTo>
                <a:cubicBezTo>
                  <a:pt x="8369" y="10393"/>
                  <a:pt x="8393" y="10476"/>
                  <a:pt x="8434" y="10567"/>
                </a:cubicBezTo>
                <a:cubicBezTo>
                  <a:pt x="8429" y="10514"/>
                  <a:pt x="8348" y="10313"/>
                  <a:pt x="8384" y="10269"/>
                </a:cubicBezTo>
                <a:cubicBezTo>
                  <a:pt x="8458" y="10178"/>
                  <a:pt x="8668" y="10229"/>
                  <a:pt x="8756" y="10244"/>
                </a:cubicBezTo>
              </a:path>
              <a:path w="2556" h="820">
                <a:moveTo>
                  <a:pt x="8880" y="10344"/>
                </a:moveTo>
                <a:cubicBezTo>
                  <a:pt x="8922" y="10316"/>
                  <a:pt x="8999" y="10309"/>
                  <a:pt x="9004" y="10269"/>
                </a:cubicBezTo>
                <a:cubicBezTo>
                  <a:pt x="9004" y="10261"/>
                  <a:pt x="9004" y="10252"/>
                  <a:pt x="9004" y="10244"/>
                </a:cubicBezTo>
                <a:cubicBezTo>
                  <a:pt x="8935" y="10204"/>
                  <a:pt x="8869" y="10178"/>
                  <a:pt x="8806" y="10244"/>
                </a:cubicBezTo>
                <a:cubicBezTo>
                  <a:pt x="8733" y="10321"/>
                  <a:pt x="8610" y="10562"/>
                  <a:pt x="8781" y="10616"/>
                </a:cubicBezTo>
                <a:cubicBezTo>
                  <a:pt x="8890" y="10590"/>
                  <a:pt x="8933" y="10578"/>
                  <a:pt x="9004" y="105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79920" y="3562200"/>
            <a:ext cx="293760" cy="216000"/>
          </a:xfrm>
          <a:custGeom>
            <a:avLst/>
            <a:gdLst/>
            <a:ahLst/>
            <a:rect l="l" t="t" r="r" b="b"/>
            <a:pathLst>
              <a:path w="819" h="596">
                <a:moveTo>
                  <a:pt x="10368" y="10195"/>
                </a:moveTo>
                <a:cubicBezTo>
                  <a:pt x="10393" y="10295"/>
                  <a:pt x="10425" y="10394"/>
                  <a:pt x="10443" y="10492"/>
                </a:cubicBezTo>
              </a:path>
              <a:path w="819" h="596">
                <a:moveTo>
                  <a:pt x="10220" y="9897"/>
                </a:moveTo>
                <a:lnTo>
                  <a:pt x="10220" y="9897"/>
                </a:lnTo>
              </a:path>
              <a:path w="819" h="596">
                <a:moveTo>
                  <a:pt x="10815" y="10046"/>
                </a:moveTo>
                <a:cubicBezTo>
                  <a:pt x="10768" y="10102"/>
                  <a:pt x="10727" y="10157"/>
                  <a:pt x="10691" y="10220"/>
                </a:cubicBezTo>
                <a:cubicBezTo>
                  <a:pt x="10805" y="10275"/>
                  <a:pt x="10928" y="10295"/>
                  <a:pt x="11038" y="10368"/>
                </a:cubicBezTo>
                <a:cubicBezTo>
                  <a:pt x="10988" y="10456"/>
                  <a:pt x="10815" y="10503"/>
                  <a:pt x="10691" y="10443"/>
                </a:cubicBezTo>
                <a:cubicBezTo>
                  <a:pt x="10683" y="10426"/>
                  <a:pt x="10674" y="10410"/>
                  <a:pt x="10666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7240" y="3652920"/>
            <a:ext cx="366840" cy="142920"/>
          </a:xfrm>
          <a:custGeom>
            <a:avLst/>
            <a:gdLst/>
            <a:ahLst/>
            <a:rect l="l" t="t" r="r" b="b"/>
            <a:pathLst>
              <a:path w="1018" h="398">
                <a:moveTo>
                  <a:pt x="11658" y="10269"/>
                </a:moveTo>
                <a:cubicBezTo>
                  <a:pt x="11682" y="10329"/>
                  <a:pt x="11763" y="10476"/>
                  <a:pt x="11733" y="10542"/>
                </a:cubicBezTo>
                <a:cubicBezTo>
                  <a:pt x="11725" y="10542"/>
                  <a:pt x="11716" y="10542"/>
                  <a:pt x="11708" y="10542"/>
                </a:cubicBezTo>
                <a:cubicBezTo>
                  <a:pt x="11679" y="10419"/>
                  <a:pt x="11599" y="10249"/>
                  <a:pt x="11733" y="10170"/>
                </a:cubicBezTo>
                <a:cubicBezTo>
                  <a:pt x="11862" y="10093"/>
                  <a:pt x="12083" y="10291"/>
                  <a:pt x="12154" y="10393"/>
                </a:cubicBezTo>
                <a:cubicBezTo>
                  <a:pt x="12186" y="10439"/>
                  <a:pt x="12179" y="10491"/>
                  <a:pt x="12179" y="10542"/>
                </a:cubicBezTo>
              </a:path>
              <a:path w="1018" h="398">
                <a:moveTo>
                  <a:pt x="12502" y="10220"/>
                </a:moveTo>
                <a:cubicBezTo>
                  <a:pt x="12369" y="10308"/>
                  <a:pt x="12341" y="10330"/>
                  <a:pt x="12328" y="10492"/>
                </a:cubicBezTo>
                <a:cubicBezTo>
                  <a:pt x="12472" y="10523"/>
                  <a:pt x="12637" y="10538"/>
                  <a:pt x="12675" y="10344"/>
                </a:cubicBezTo>
                <a:cubicBezTo>
                  <a:pt x="12689" y="10274"/>
                  <a:pt x="12524" y="10205"/>
                  <a:pt x="12477" y="10244"/>
                </a:cubicBezTo>
                <a:cubicBezTo>
                  <a:pt x="12477" y="10252"/>
                  <a:pt x="12477" y="10261"/>
                  <a:pt x="12477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6120" y="3527280"/>
            <a:ext cx="2044800" cy="384480"/>
          </a:xfrm>
          <a:custGeom>
            <a:avLst/>
            <a:gdLst/>
            <a:ahLst/>
            <a:rect l="l" t="t" r="r" b="b"/>
            <a:pathLst>
              <a:path w="5681" h="1067">
                <a:moveTo>
                  <a:pt x="14015" y="10220"/>
                </a:moveTo>
                <a:cubicBezTo>
                  <a:pt x="14029" y="10119"/>
                  <a:pt x="14045" y="10066"/>
                  <a:pt x="14015" y="9971"/>
                </a:cubicBezTo>
                <a:cubicBezTo>
                  <a:pt x="13862" y="10048"/>
                  <a:pt x="13740" y="10176"/>
                  <a:pt x="13767" y="10368"/>
                </a:cubicBezTo>
                <a:cubicBezTo>
                  <a:pt x="13806" y="10644"/>
                  <a:pt x="14166" y="10442"/>
                  <a:pt x="14288" y="10368"/>
                </a:cubicBezTo>
                <a:cubicBezTo>
                  <a:pt x="14329" y="10335"/>
                  <a:pt x="14371" y="10302"/>
                  <a:pt x="14412" y="10269"/>
                </a:cubicBezTo>
              </a:path>
              <a:path w="5681" h="1067">
                <a:moveTo>
                  <a:pt x="14486" y="10096"/>
                </a:moveTo>
                <a:cubicBezTo>
                  <a:pt x="14343" y="10229"/>
                  <a:pt x="14285" y="10295"/>
                  <a:pt x="14312" y="10492"/>
                </a:cubicBezTo>
                <a:cubicBezTo>
                  <a:pt x="14460" y="10492"/>
                  <a:pt x="14679" y="10436"/>
                  <a:pt x="14660" y="10220"/>
                </a:cubicBezTo>
                <a:cubicBezTo>
                  <a:pt x="14651" y="10123"/>
                  <a:pt x="14551" y="10127"/>
                  <a:pt x="14486" y="10120"/>
                </a:cubicBezTo>
              </a:path>
              <a:path w="5681" h="1067">
                <a:moveTo>
                  <a:pt x="14784" y="10368"/>
                </a:moveTo>
                <a:cubicBezTo>
                  <a:pt x="14806" y="10459"/>
                  <a:pt x="14814" y="10482"/>
                  <a:pt x="14808" y="10542"/>
                </a:cubicBezTo>
                <a:cubicBezTo>
                  <a:pt x="14808" y="10432"/>
                  <a:pt x="14773" y="10284"/>
                  <a:pt x="14858" y="10195"/>
                </a:cubicBezTo>
                <a:cubicBezTo>
                  <a:pt x="14982" y="10065"/>
                  <a:pt x="15123" y="10351"/>
                  <a:pt x="15156" y="10418"/>
                </a:cubicBezTo>
                <a:cubicBezTo>
                  <a:pt x="15164" y="10443"/>
                  <a:pt x="15172" y="10467"/>
                  <a:pt x="15180" y="10492"/>
                </a:cubicBezTo>
                <a:cubicBezTo>
                  <a:pt x="15184" y="10411"/>
                  <a:pt x="15171" y="10237"/>
                  <a:pt x="15230" y="10170"/>
                </a:cubicBezTo>
                <a:cubicBezTo>
                  <a:pt x="15320" y="10068"/>
                  <a:pt x="15496" y="10318"/>
                  <a:pt x="15528" y="10368"/>
                </a:cubicBezTo>
                <a:cubicBezTo>
                  <a:pt x="15544" y="10401"/>
                  <a:pt x="15561" y="10435"/>
                  <a:pt x="15577" y="10468"/>
                </a:cubicBezTo>
                <a:cubicBezTo>
                  <a:pt x="15577" y="10534"/>
                  <a:pt x="15577" y="10434"/>
                  <a:pt x="15577" y="10368"/>
                </a:cubicBezTo>
                <a:cubicBezTo>
                  <a:pt x="15577" y="10327"/>
                  <a:pt x="15577" y="10319"/>
                  <a:pt x="15577" y="10294"/>
                </a:cubicBezTo>
                <a:cubicBezTo>
                  <a:pt x="15603" y="10452"/>
                  <a:pt x="15650" y="10609"/>
                  <a:pt x="15677" y="10765"/>
                </a:cubicBezTo>
                <a:cubicBezTo>
                  <a:pt x="15684" y="10805"/>
                  <a:pt x="15677" y="10799"/>
                  <a:pt x="15677" y="10840"/>
                </a:cubicBezTo>
                <a:cubicBezTo>
                  <a:pt x="15620" y="10664"/>
                  <a:pt x="15538" y="10463"/>
                  <a:pt x="15652" y="10294"/>
                </a:cubicBezTo>
                <a:cubicBezTo>
                  <a:pt x="15774" y="10114"/>
                  <a:pt x="15926" y="10222"/>
                  <a:pt x="16049" y="10319"/>
                </a:cubicBezTo>
                <a:cubicBezTo>
                  <a:pt x="16008" y="10495"/>
                  <a:pt x="15920" y="10555"/>
                  <a:pt x="15726" y="10542"/>
                </a:cubicBezTo>
                <a:cubicBezTo>
                  <a:pt x="15602" y="10517"/>
                  <a:pt x="15561" y="10509"/>
                  <a:pt x="15627" y="10393"/>
                </a:cubicBezTo>
              </a:path>
              <a:path w="5681" h="1067">
                <a:moveTo>
                  <a:pt x="16297" y="9798"/>
                </a:moveTo>
                <a:cubicBezTo>
                  <a:pt x="16297" y="9990"/>
                  <a:pt x="16314" y="10177"/>
                  <a:pt x="16321" y="10368"/>
                </a:cubicBezTo>
                <a:cubicBezTo>
                  <a:pt x="16321" y="10376"/>
                  <a:pt x="16321" y="10460"/>
                  <a:pt x="16321" y="10393"/>
                </a:cubicBezTo>
              </a:path>
              <a:path w="5681" h="1067">
                <a:moveTo>
                  <a:pt x="16495" y="10319"/>
                </a:moveTo>
                <a:cubicBezTo>
                  <a:pt x="16582" y="10319"/>
                  <a:pt x="16657" y="10299"/>
                  <a:pt x="16743" y="10294"/>
                </a:cubicBezTo>
                <a:cubicBezTo>
                  <a:pt x="16771" y="10294"/>
                  <a:pt x="16782" y="10292"/>
                  <a:pt x="16793" y="10269"/>
                </a:cubicBezTo>
                <a:cubicBezTo>
                  <a:pt x="16770" y="10207"/>
                  <a:pt x="16781" y="10132"/>
                  <a:pt x="16694" y="10145"/>
                </a:cubicBezTo>
                <a:cubicBezTo>
                  <a:pt x="16531" y="10169"/>
                  <a:pt x="16492" y="10303"/>
                  <a:pt x="16470" y="10443"/>
                </a:cubicBezTo>
                <a:cubicBezTo>
                  <a:pt x="16650" y="10508"/>
                  <a:pt x="16731" y="10473"/>
                  <a:pt x="16892" y="10368"/>
                </a:cubicBezTo>
                <a:cubicBezTo>
                  <a:pt x="17028" y="10280"/>
                  <a:pt x="16976" y="10247"/>
                  <a:pt x="16991" y="10319"/>
                </a:cubicBezTo>
                <a:cubicBezTo>
                  <a:pt x="17012" y="10403"/>
                  <a:pt x="17014" y="10422"/>
                  <a:pt x="17041" y="10468"/>
                </a:cubicBezTo>
                <a:cubicBezTo>
                  <a:pt x="17051" y="10419"/>
                  <a:pt x="17054" y="10278"/>
                  <a:pt x="17090" y="10244"/>
                </a:cubicBezTo>
                <a:cubicBezTo>
                  <a:pt x="17201" y="10140"/>
                  <a:pt x="17264" y="10404"/>
                  <a:pt x="17289" y="10468"/>
                </a:cubicBezTo>
                <a:cubicBezTo>
                  <a:pt x="17289" y="10381"/>
                  <a:pt x="17262" y="10285"/>
                  <a:pt x="17338" y="10220"/>
                </a:cubicBezTo>
                <a:cubicBezTo>
                  <a:pt x="17469" y="10108"/>
                  <a:pt x="17527" y="10305"/>
                  <a:pt x="17537" y="10393"/>
                </a:cubicBezTo>
                <a:cubicBezTo>
                  <a:pt x="17537" y="10483"/>
                  <a:pt x="17544" y="10509"/>
                  <a:pt x="17487" y="10542"/>
                </a:cubicBezTo>
              </a:path>
              <a:path w="5681" h="1067">
                <a:moveTo>
                  <a:pt x="17735" y="10294"/>
                </a:moveTo>
                <a:cubicBezTo>
                  <a:pt x="17809" y="10313"/>
                  <a:pt x="17870" y="10319"/>
                  <a:pt x="17959" y="10319"/>
                </a:cubicBezTo>
                <a:cubicBezTo>
                  <a:pt x="18037" y="10319"/>
                  <a:pt x="18026" y="10308"/>
                  <a:pt x="18083" y="10294"/>
                </a:cubicBezTo>
                <a:cubicBezTo>
                  <a:pt x="17996" y="10277"/>
                  <a:pt x="17956" y="10239"/>
                  <a:pt x="17884" y="10319"/>
                </a:cubicBezTo>
                <a:cubicBezTo>
                  <a:pt x="17842" y="10382"/>
                  <a:pt x="17826" y="10394"/>
                  <a:pt x="17835" y="10443"/>
                </a:cubicBezTo>
                <a:cubicBezTo>
                  <a:pt x="17993" y="10553"/>
                  <a:pt x="18065" y="10501"/>
                  <a:pt x="18231" y="10418"/>
                </a:cubicBezTo>
              </a:path>
              <a:path w="5681" h="1067">
                <a:moveTo>
                  <a:pt x="18405" y="10294"/>
                </a:moveTo>
                <a:cubicBezTo>
                  <a:pt x="18394" y="10349"/>
                  <a:pt x="18386" y="10383"/>
                  <a:pt x="18380" y="10443"/>
                </a:cubicBezTo>
                <a:cubicBezTo>
                  <a:pt x="18380" y="10500"/>
                  <a:pt x="18378" y="10336"/>
                  <a:pt x="18405" y="10294"/>
                </a:cubicBezTo>
                <a:cubicBezTo>
                  <a:pt x="18462" y="10207"/>
                  <a:pt x="18554" y="10195"/>
                  <a:pt x="18628" y="10269"/>
                </a:cubicBezTo>
                <a:cubicBezTo>
                  <a:pt x="18710" y="10351"/>
                  <a:pt x="18703" y="10462"/>
                  <a:pt x="18703" y="10567"/>
                </a:cubicBezTo>
              </a:path>
              <a:path w="5681" h="1067">
                <a:moveTo>
                  <a:pt x="19025" y="9798"/>
                </a:moveTo>
                <a:cubicBezTo>
                  <a:pt x="19073" y="9926"/>
                  <a:pt x="19044" y="10122"/>
                  <a:pt x="19050" y="10269"/>
                </a:cubicBezTo>
                <a:cubicBezTo>
                  <a:pt x="19056" y="10416"/>
                  <a:pt x="19141" y="10500"/>
                  <a:pt x="19298" y="10542"/>
                </a:cubicBezTo>
                <a:cubicBezTo>
                  <a:pt x="19384" y="10565"/>
                  <a:pt x="19404" y="10543"/>
                  <a:pt x="19447" y="10492"/>
                </a:cubicBezTo>
              </a:path>
              <a:path w="5681" h="1067">
                <a:moveTo>
                  <a:pt x="18926" y="10170"/>
                </a:moveTo>
                <a:cubicBezTo>
                  <a:pt x="19060" y="10158"/>
                  <a:pt x="19187" y="10145"/>
                  <a:pt x="19323" y="10145"/>
                </a:cubicBezTo>
                <a:cubicBezTo>
                  <a:pt x="19358" y="10145"/>
                  <a:pt x="19421" y="10146"/>
                  <a:pt x="19372" y="10170"/>
                </a:cubicBezTo>
              </a:path>
              <a:path w="5681" h="1067">
                <a:moveTo>
                  <a:pt x="18976" y="10145"/>
                </a:moveTo>
                <a:cubicBezTo>
                  <a:pt x="18943" y="10145"/>
                  <a:pt x="18909" y="10145"/>
                  <a:pt x="18876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02040" y="5126040"/>
            <a:ext cx="938160" cy="1098720"/>
          </a:xfrm>
          <a:custGeom>
            <a:avLst/>
            <a:gdLst/>
            <a:ahLst/>
            <a:rect l="l" t="t" r="r" b="b"/>
            <a:pathLst>
              <a:path w="2605" h="3052">
                <a:moveTo>
                  <a:pt x="11733" y="14560"/>
                </a:moveTo>
                <a:cubicBezTo>
                  <a:pt x="11720" y="14388"/>
                  <a:pt x="11695" y="14336"/>
                  <a:pt x="11559" y="14238"/>
                </a:cubicBezTo>
                <a:cubicBezTo>
                  <a:pt x="11347" y="14355"/>
                  <a:pt x="11272" y="14414"/>
                  <a:pt x="11286" y="14660"/>
                </a:cubicBezTo>
                <a:cubicBezTo>
                  <a:pt x="11497" y="14670"/>
                  <a:pt x="11630" y="14624"/>
                  <a:pt x="11733" y="14412"/>
                </a:cubicBezTo>
                <a:cubicBezTo>
                  <a:pt x="11733" y="14395"/>
                  <a:pt x="11733" y="14379"/>
                  <a:pt x="11733" y="14362"/>
                </a:cubicBezTo>
                <a:cubicBezTo>
                  <a:pt x="11733" y="14548"/>
                  <a:pt x="11729" y="14748"/>
                  <a:pt x="11757" y="14932"/>
                </a:cubicBezTo>
                <a:cubicBezTo>
                  <a:pt x="11780" y="15000"/>
                  <a:pt x="11781" y="15028"/>
                  <a:pt x="11832" y="14982"/>
                </a:cubicBezTo>
              </a:path>
              <a:path w="2605" h="3052">
                <a:moveTo>
                  <a:pt x="12328" y="14312"/>
                </a:moveTo>
                <a:cubicBezTo>
                  <a:pt x="12252" y="14434"/>
                  <a:pt x="12161" y="14633"/>
                  <a:pt x="12204" y="14784"/>
                </a:cubicBezTo>
                <a:cubicBezTo>
                  <a:pt x="12229" y="14817"/>
                  <a:pt x="12253" y="14850"/>
                  <a:pt x="12278" y="14883"/>
                </a:cubicBezTo>
                <a:cubicBezTo>
                  <a:pt x="12509" y="14872"/>
                  <a:pt x="12737" y="14782"/>
                  <a:pt x="12725" y="14486"/>
                </a:cubicBezTo>
                <a:cubicBezTo>
                  <a:pt x="12713" y="14195"/>
                  <a:pt x="12436" y="14353"/>
                  <a:pt x="12328" y="14436"/>
                </a:cubicBezTo>
              </a:path>
              <a:path w="2605" h="3052">
                <a:moveTo>
                  <a:pt x="10988" y="15354"/>
                </a:moveTo>
                <a:cubicBezTo>
                  <a:pt x="11133" y="15347"/>
                  <a:pt x="11267" y="15328"/>
                  <a:pt x="11410" y="15304"/>
                </a:cubicBezTo>
              </a:path>
              <a:path w="2605" h="3052">
                <a:moveTo>
                  <a:pt x="11782" y="15280"/>
                </a:moveTo>
                <a:cubicBezTo>
                  <a:pt x="11861" y="15280"/>
                  <a:pt x="11926" y="15293"/>
                  <a:pt x="12005" y="15304"/>
                </a:cubicBezTo>
                <a:cubicBezTo>
                  <a:pt x="12040" y="15304"/>
                  <a:pt x="12053" y="15313"/>
                  <a:pt x="12055" y="15354"/>
                </a:cubicBezTo>
                <a:cubicBezTo>
                  <a:pt x="11967" y="15450"/>
                  <a:pt x="11918" y="15484"/>
                  <a:pt x="11782" y="15503"/>
                </a:cubicBezTo>
                <a:cubicBezTo>
                  <a:pt x="11920" y="15520"/>
                  <a:pt x="12127" y="15515"/>
                  <a:pt x="12229" y="15627"/>
                </a:cubicBezTo>
                <a:cubicBezTo>
                  <a:pt x="12237" y="15660"/>
                  <a:pt x="12246" y="15693"/>
                  <a:pt x="12254" y="15726"/>
                </a:cubicBezTo>
                <a:cubicBezTo>
                  <a:pt x="12125" y="15828"/>
                  <a:pt x="11946" y="15933"/>
                  <a:pt x="11782" y="15801"/>
                </a:cubicBezTo>
                <a:cubicBezTo>
                  <a:pt x="11774" y="15776"/>
                  <a:pt x="11765" y="15751"/>
                  <a:pt x="11757" y="15726"/>
                </a:cubicBezTo>
              </a:path>
              <a:path w="2605" h="3052">
                <a:moveTo>
                  <a:pt x="12675" y="15304"/>
                </a:moveTo>
                <a:cubicBezTo>
                  <a:pt x="12615" y="15315"/>
                  <a:pt x="12471" y="15480"/>
                  <a:pt x="12502" y="15602"/>
                </a:cubicBezTo>
                <a:cubicBezTo>
                  <a:pt x="12555" y="15807"/>
                  <a:pt x="12937" y="15735"/>
                  <a:pt x="13022" y="15602"/>
                </a:cubicBezTo>
                <a:cubicBezTo>
                  <a:pt x="13022" y="15561"/>
                  <a:pt x="13022" y="15519"/>
                  <a:pt x="13022" y="15478"/>
                </a:cubicBezTo>
                <a:cubicBezTo>
                  <a:pt x="12718" y="15403"/>
                  <a:pt x="12595" y="15400"/>
                  <a:pt x="12402" y="15627"/>
                </a:cubicBezTo>
              </a:path>
              <a:path w="2605" h="3052">
                <a:moveTo>
                  <a:pt x="10840" y="16371"/>
                </a:moveTo>
                <a:cubicBezTo>
                  <a:pt x="11244" y="16330"/>
                  <a:pt x="11646" y="16282"/>
                  <a:pt x="12055" y="16272"/>
                </a:cubicBezTo>
                <a:cubicBezTo>
                  <a:pt x="12132" y="16270"/>
                  <a:pt x="13126" y="16212"/>
                  <a:pt x="12824" y="16346"/>
                </a:cubicBezTo>
              </a:path>
              <a:path w="2605" h="3052">
                <a:moveTo>
                  <a:pt x="11757" y="16594"/>
                </a:moveTo>
                <a:cubicBezTo>
                  <a:pt x="11689" y="16723"/>
                  <a:pt x="11606" y="16894"/>
                  <a:pt x="11584" y="17041"/>
                </a:cubicBezTo>
                <a:cubicBezTo>
                  <a:pt x="11547" y="17288"/>
                  <a:pt x="11720" y="17310"/>
                  <a:pt x="11906" y="17239"/>
                </a:cubicBezTo>
                <a:cubicBezTo>
                  <a:pt x="12084" y="17171"/>
                  <a:pt x="12097" y="17104"/>
                  <a:pt x="12154" y="16942"/>
                </a:cubicBezTo>
                <a:cubicBezTo>
                  <a:pt x="12061" y="16907"/>
                  <a:pt x="11849" y="17016"/>
                  <a:pt x="11782" y="17165"/>
                </a:cubicBezTo>
                <a:cubicBezTo>
                  <a:pt x="11782" y="17256"/>
                  <a:pt x="11774" y="17289"/>
                  <a:pt x="11857" y="17264"/>
                </a:cubicBezTo>
              </a:path>
              <a:path w="2605" h="3052">
                <a:moveTo>
                  <a:pt x="12576" y="16694"/>
                </a:moveTo>
                <a:cubicBezTo>
                  <a:pt x="12416" y="16832"/>
                  <a:pt x="12374" y="16905"/>
                  <a:pt x="12353" y="17115"/>
                </a:cubicBezTo>
                <a:cubicBezTo>
                  <a:pt x="12522" y="17225"/>
                  <a:pt x="12709" y="17202"/>
                  <a:pt x="12874" y="17041"/>
                </a:cubicBezTo>
                <a:cubicBezTo>
                  <a:pt x="13035" y="16884"/>
                  <a:pt x="12893" y="16686"/>
                  <a:pt x="12700" y="16669"/>
                </a:cubicBezTo>
                <a:cubicBezTo>
                  <a:pt x="12659" y="16677"/>
                  <a:pt x="12617" y="16686"/>
                  <a:pt x="12576" y="16694"/>
                </a:cubicBezTo>
              </a:path>
              <a:path w="2605" h="3052">
                <a:moveTo>
                  <a:pt x="13345" y="16446"/>
                </a:moveTo>
                <a:cubicBezTo>
                  <a:pt x="13283" y="16471"/>
                  <a:pt x="13259" y="16503"/>
                  <a:pt x="13246" y="16570"/>
                </a:cubicBezTo>
                <a:cubicBezTo>
                  <a:pt x="13333" y="16591"/>
                  <a:pt x="13400" y="16565"/>
                  <a:pt x="13444" y="16470"/>
                </a:cubicBezTo>
                <a:cubicBezTo>
                  <a:pt x="13478" y="16396"/>
                  <a:pt x="13332" y="16466"/>
                  <a:pt x="13320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9040" y="5116680"/>
            <a:ext cx="36720" cy="27756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4415" y="14213"/>
                </a:moveTo>
                <a:cubicBezTo>
                  <a:pt x="4460" y="14361"/>
                  <a:pt x="4480" y="14551"/>
                  <a:pt x="4490" y="14709"/>
                </a:cubicBezTo>
                <a:cubicBezTo>
                  <a:pt x="4490" y="14859"/>
                  <a:pt x="4484" y="14894"/>
                  <a:pt x="4514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5960" y="5126040"/>
            <a:ext cx="115920" cy="268200"/>
          </a:xfrm>
          <a:custGeom>
            <a:avLst/>
            <a:gdLst/>
            <a:ahLst/>
            <a:rect l="l" t="t" r="r" b="b"/>
            <a:pathLst>
              <a:path w="323" h="745">
                <a:moveTo>
                  <a:pt x="5110" y="14238"/>
                </a:moveTo>
                <a:cubicBezTo>
                  <a:pt x="5013" y="14318"/>
                  <a:pt x="4914" y="14387"/>
                  <a:pt x="5011" y="14511"/>
                </a:cubicBezTo>
                <a:cubicBezTo>
                  <a:pt x="5123" y="14654"/>
                  <a:pt x="5306" y="14696"/>
                  <a:pt x="5283" y="14908"/>
                </a:cubicBezTo>
                <a:cubicBezTo>
                  <a:pt x="5275" y="14924"/>
                  <a:pt x="5267" y="14941"/>
                  <a:pt x="5259" y="14957"/>
                </a:cubicBezTo>
                <a:cubicBezTo>
                  <a:pt x="5024" y="14958"/>
                  <a:pt x="5092" y="14749"/>
                  <a:pt x="5135" y="14560"/>
                </a:cubicBezTo>
                <a:cubicBezTo>
                  <a:pt x="5151" y="14492"/>
                  <a:pt x="5184" y="14475"/>
                  <a:pt x="5184" y="144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35080" y="5089680"/>
            <a:ext cx="162000" cy="25056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5779" y="14139"/>
                </a:moveTo>
                <a:cubicBezTo>
                  <a:pt x="5693" y="14335"/>
                  <a:pt x="5623" y="14516"/>
                  <a:pt x="5680" y="14734"/>
                </a:cubicBezTo>
                <a:cubicBezTo>
                  <a:pt x="5748" y="14994"/>
                  <a:pt x="6056" y="14766"/>
                  <a:pt x="6102" y="14610"/>
                </a:cubicBezTo>
                <a:cubicBezTo>
                  <a:pt x="6161" y="14408"/>
                  <a:pt x="6010" y="14288"/>
                  <a:pt x="5854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4200" y="56880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3845" y="15875"/>
                </a:moveTo>
                <a:cubicBezTo>
                  <a:pt x="3929" y="15861"/>
                  <a:pt x="4011" y="15828"/>
                  <a:pt x="4093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16040" y="5661000"/>
            <a:ext cx="46080" cy="13500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4490" y="15726"/>
                </a:moveTo>
                <a:cubicBezTo>
                  <a:pt x="4536" y="15847"/>
                  <a:pt x="4593" y="15971"/>
                  <a:pt x="4614" y="160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03240" y="5599080"/>
            <a:ext cx="12564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5011" y="15553"/>
                </a:moveTo>
                <a:cubicBezTo>
                  <a:pt x="5029" y="15681"/>
                  <a:pt x="5158" y="15632"/>
                  <a:pt x="5259" y="15701"/>
                </a:cubicBezTo>
                <a:cubicBezTo>
                  <a:pt x="5321" y="15764"/>
                  <a:pt x="5338" y="15774"/>
                  <a:pt x="5358" y="15825"/>
                </a:cubicBezTo>
                <a:cubicBezTo>
                  <a:pt x="5227" y="15917"/>
                  <a:pt x="5252" y="15897"/>
                  <a:pt x="5110" y="158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0240" y="5545080"/>
            <a:ext cx="196920" cy="19080"/>
          </a:xfrm>
          <a:custGeom>
            <a:avLst/>
            <a:gdLst/>
            <a:ahLst/>
            <a:rect l="l" t="t" r="r" b="b"/>
            <a:pathLst>
              <a:path w="547" h="50">
                <a:moveTo>
                  <a:pt x="5085" y="15453"/>
                </a:moveTo>
                <a:cubicBezTo>
                  <a:pt x="5251" y="15412"/>
                  <a:pt x="5369" y="15437"/>
                  <a:pt x="5531" y="15429"/>
                </a:cubicBezTo>
                <a:cubicBezTo>
                  <a:pt x="5564" y="15421"/>
                  <a:pt x="5598" y="15412"/>
                  <a:pt x="5631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4160" y="5518080"/>
            <a:ext cx="20484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5804" y="15329"/>
                </a:moveTo>
                <a:cubicBezTo>
                  <a:pt x="5735" y="15416"/>
                  <a:pt x="5703" y="15567"/>
                  <a:pt x="5705" y="15677"/>
                </a:cubicBezTo>
                <a:cubicBezTo>
                  <a:pt x="5710" y="15927"/>
                  <a:pt x="5935" y="15912"/>
                  <a:pt x="6102" y="15801"/>
                </a:cubicBezTo>
                <a:cubicBezTo>
                  <a:pt x="6222" y="15681"/>
                  <a:pt x="6261" y="15646"/>
                  <a:pt x="6276" y="15528"/>
                </a:cubicBezTo>
                <a:cubicBezTo>
                  <a:pt x="6074" y="15422"/>
                  <a:pt x="6037" y="15441"/>
                  <a:pt x="5804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35040" y="5749920"/>
            <a:ext cx="750960" cy="144360"/>
          </a:xfrm>
          <a:custGeom>
            <a:avLst/>
            <a:gdLst/>
            <a:ahLst/>
            <a:rect l="l" t="t" r="r" b="b"/>
            <a:pathLst>
              <a:path w="2085" h="398">
                <a:moveTo>
                  <a:pt x="4266" y="16371"/>
                </a:moveTo>
                <a:cubicBezTo>
                  <a:pt x="4727" y="16235"/>
                  <a:pt x="5204" y="16094"/>
                  <a:pt x="5680" y="16024"/>
                </a:cubicBezTo>
                <a:cubicBezTo>
                  <a:pt x="5895" y="15992"/>
                  <a:pt x="6131" y="15985"/>
                  <a:pt x="6350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38240" y="5902200"/>
            <a:ext cx="196920" cy="196920"/>
          </a:xfrm>
          <a:custGeom>
            <a:avLst/>
            <a:gdLst/>
            <a:ahLst/>
            <a:rect l="l" t="t" r="r" b="b"/>
            <a:pathLst>
              <a:path w="546" h="547">
                <a:moveTo>
                  <a:pt x="5383" y="16421"/>
                </a:moveTo>
                <a:cubicBezTo>
                  <a:pt x="5484" y="16404"/>
                  <a:pt x="5600" y="16372"/>
                  <a:pt x="5705" y="16396"/>
                </a:cubicBezTo>
                <a:cubicBezTo>
                  <a:pt x="5837" y="16426"/>
                  <a:pt x="5600" y="16625"/>
                  <a:pt x="5581" y="16644"/>
                </a:cubicBezTo>
                <a:cubicBezTo>
                  <a:pt x="5496" y="16644"/>
                  <a:pt x="5645" y="16611"/>
                  <a:pt x="5730" y="16619"/>
                </a:cubicBezTo>
                <a:cubicBezTo>
                  <a:pt x="5865" y="16632"/>
                  <a:pt x="5987" y="16684"/>
                  <a:pt x="5879" y="16818"/>
                </a:cubicBezTo>
                <a:cubicBezTo>
                  <a:pt x="5799" y="16917"/>
                  <a:pt x="5602" y="16983"/>
                  <a:pt x="5482" y="16917"/>
                </a:cubicBezTo>
                <a:cubicBezTo>
                  <a:pt x="5474" y="16900"/>
                  <a:pt x="5465" y="16884"/>
                  <a:pt x="5457" y="168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14720" y="5892840"/>
            <a:ext cx="206280" cy="162000"/>
          </a:xfrm>
          <a:custGeom>
            <a:avLst/>
            <a:gdLst/>
            <a:ahLst/>
            <a:rect l="l" t="t" r="r" b="b"/>
            <a:pathLst>
              <a:path w="571" h="448">
                <a:moveTo>
                  <a:pt x="6276" y="16371"/>
                </a:moveTo>
                <a:cubicBezTo>
                  <a:pt x="6206" y="16485"/>
                  <a:pt x="6093" y="16618"/>
                  <a:pt x="6201" y="16743"/>
                </a:cubicBezTo>
                <a:cubicBezTo>
                  <a:pt x="6353" y="16920"/>
                  <a:pt x="6551" y="16773"/>
                  <a:pt x="6672" y="16644"/>
                </a:cubicBezTo>
                <a:cubicBezTo>
                  <a:pt x="6689" y="16619"/>
                  <a:pt x="6705" y="16595"/>
                  <a:pt x="6722" y="16570"/>
                </a:cubicBezTo>
                <a:cubicBezTo>
                  <a:pt x="6607" y="16417"/>
                  <a:pt x="6565" y="16421"/>
                  <a:pt x="6375" y="16421"/>
                </a:cubicBezTo>
                <a:cubicBezTo>
                  <a:pt x="6334" y="16421"/>
                  <a:pt x="6292" y="16421"/>
                  <a:pt x="6251" y="164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5749920"/>
            <a:ext cx="1866960" cy="723960"/>
          </a:xfrm>
          <a:custGeom>
            <a:avLst/>
            <a:gdLst/>
            <a:ahLst/>
            <a:rect l="l" t="t" r="r" b="b"/>
            <a:pathLst>
              <a:path w="5186" h="2010">
                <a:moveTo>
                  <a:pt x="10691" y="17785"/>
                </a:moveTo>
                <a:cubicBezTo>
                  <a:pt x="10902" y="17850"/>
                  <a:pt x="11112" y="17910"/>
                  <a:pt x="11336" y="17934"/>
                </a:cubicBezTo>
                <a:cubicBezTo>
                  <a:pt x="12234" y="18029"/>
                  <a:pt x="13977" y="18217"/>
                  <a:pt x="14709" y="17537"/>
                </a:cubicBezTo>
                <a:cubicBezTo>
                  <a:pt x="14734" y="17471"/>
                  <a:pt x="14759" y="17404"/>
                  <a:pt x="14784" y="17338"/>
                </a:cubicBezTo>
                <a:cubicBezTo>
                  <a:pt x="14521" y="16875"/>
                  <a:pt x="14227" y="16576"/>
                  <a:pt x="13742" y="16321"/>
                </a:cubicBezTo>
                <a:cubicBezTo>
                  <a:pt x="13082" y="15974"/>
                  <a:pt x="12414" y="15923"/>
                  <a:pt x="11683" y="16024"/>
                </a:cubicBezTo>
                <a:cubicBezTo>
                  <a:pt x="10996" y="16119"/>
                  <a:pt x="10251" y="16392"/>
                  <a:pt x="9773" y="16917"/>
                </a:cubicBezTo>
                <a:cubicBezTo>
                  <a:pt x="9149" y="17602"/>
                  <a:pt x="10626" y="17550"/>
                  <a:pt x="10914" y="175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28920" y="847800"/>
            <a:ext cx="2857320" cy="171360"/>
          </a:xfrm>
          <a:custGeom>
            <a:avLst/>
            <a:gdLst/>
            <a:ahLst/>
            <a:rect l="l" t="t" r="r" b="b"/>
            <a:pathLst>
              <a:path w="7938" h="473">
                <a:moveTo>
                  <a:pt x="6772" y="2828"/>
                </a:moveTo>
                <a:cubicBezTo>
                  <a:pt x="6763" y="2790"/>
                  <a:pt x="6755" y="2794"/>
                  <a:pt x="6747" y="2778"/>
                </a:cubicBezTo>
                <a:cubicBezTo>
                  <a:pt x="6817" y="2766"/>
                  <a:pt x="6919" y="2759"/>
                  <a:pt x="6970" y="2753"/>
                </a:cubicBezTo>
                <a:cubicBezTo>
                  <a:pt x="7094" y="2738"/>
                  <a:pt x="7221" y="2724"/>
                  <a:pt x="7342" y="2704"/>
                </a:cubicBezTo>
                <a:cubicBezTo>
                  <a:pt x="7421" y="2691"/>
                  <a:pt x="7512" y="2698"/>
                  <a:pt x="7590" y="2679"/>
                </a:cubicBezTo>
                <a:cubicBezTo>
                  <a:pt x="7704" y="2651"/>
                  <a:pt x="7800" y="2649"/>
                  <a:pt x="7913" y="2629"/>
                </a:cubicBezTo>
                <a:cubicBezTo>
                  <a:pt x="8079" y="2600"/>
                  <a:pt x="8245" y="2559"/>
                  <a:pt x="8409" y="2530"/>
                </a:cubicBezTo>
                <a:cubicBezTo>
                  <a:pt x="8567" y="2502"/>
                  <a:pt x="8722" y="2474"/>
                  <a:pt x="8880" y="2456"/>
                </a:cubicBezTo>
                <a:cubicBezTo>
                  <a:pt x="9037" y="2438"/>
                  <a:pt x="9192" y="2433"/>
                  <a:pt x="9351" y="2431"/>
                </a:cubicBezTo>
                <a:cubicBezTo>
                  <a:pt x="9782" y="2426"/>
                  <a:pt x="10215" y="2436"/>
                  <a:pt x="10641" y="2456"/>
                </a:cubicBezTo>
                <a:cubicBezTo>
                  <a:pt x="10997" y="2473"/>
                  <a:pt x="11380" y="2503"/>
                  <a:pt x="11733" y="2480"/>
                </a:cubicBezTo>
                <a:cubicBezTo>
                  <a:pt x="12121" y="2454"/>
                  <a:pt x="12508" y="2456"/>
                  <a:pt x="12898" y="2456"/>
                </a:cubicBezTo>
                <a:cubicBezTo>
                  <a:pt x="13099" y="2456"/>
                  <a:pt x="13295" y="2440"/>
                  <a:pt x="13494" y="2431"/>
                </a:cubicBezTo>
                <a:cubicBezTo>
                  <a:pt x="13704" y="2421"/>
                  <a:pt x="13906" y="2405"/>
                  <a:pt x="14114" y="2381"/>
                </a:cubicBezTo>
                <a:cubicBezTo>
                  <a:pt x="14262" y="2364"/>
                  <a:pt x="14411" y="2359"/>
                  <a:pt x="14560" y="2356"/>
                </a:cubicBezTo>
                <a:cubicBezTo>
                  <a:pt x="14601" y="2355"/>
                  <a:pt x="14643" y="2357"/>
                  <a:pt x="14684" y="23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8480" y="349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80  Rule for Tri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240" y="3808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8560" y="303120"/>
            <a:ext cx="465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i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of any triang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ways 18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143208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809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990720" y="2133720"/>
            <a:ext cx="167616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2133720"/>
            <a:ext cx="167652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3160" y="3503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40080" y="1492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05680" y="3579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" y="4191120"/>
                <a:ext cx="6172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+ m 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c = 1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324480" y="411480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33520" y="3198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7800" y="2482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8640" y="316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20040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249876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2960" y="472428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    +  80    +   x    = 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80120" y="53020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0  +  x  = 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9920" y="598788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= 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60199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523880" y="1447920"/>
            <a:ext cx="205740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15238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2571840"/>
            <a:ext cx="53352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 rot="193800">
            <a:off x="2286000" y="3504240"/>
            <a:ext cx="53352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523880" y="1447920"/>
            <a:ext cx="205740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15238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rot="5400000">
            <a:off x="2524320" y="3037320"/>
            <a:ext cx="53316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067840" y="3037320"/>
            <a:ext cx="53316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21:26:32Z</dcterms:created>
  <dc:creator>Brian McGrath</dc:creator>
  <dc:description/>
  <dc:language>en-US</dc:language>
  <cp:lastModifiedBy>ccps</cp:lastModifiedBy>
  <dcterms:modified xsi:type="dcterms:W3CDTF">2010-02-01T17:45:01Z</dcterms:modified>
  <cp:revision>4</cp:revision>
  <dc:subject/>
  <dc:title>Warm-up:</dc:title>
</cp:coreProperties>
</file>